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6CAD-70B3-49CC-9B82-2039B212B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34A5-46EF-47B2-AC5C-5966792DB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2D0E-BDAC-4A59-B748-2A2E291C3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ADD8-7BEE-4D90-909D-B66D9520C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64C5-DBE8-4502-9E18-270EC331E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6AC7-3EE0-4C45-AF9B-4C2B56332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1FC4-D9B7-4D72-AFB5-E6DB07E49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E0C8-14D6-4CF9-9895-97B6DB574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E694-C9A6-45B9-AD60-4B332C6B4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62DF-10A2-4299-9F32-E74EB9F5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4B1F-5754-423C-88DE-512B6554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3F1B-122F-4ED8-A0F8-41CC1D57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5C048-889E-409E-9B58-37B6AAB0F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0000"/>
                </a:solidFill>
                <a:latin typeface="Arial"/>
              </a:rPr>
              <a:t>Water seminar</a:t>
            </a:r>
            <a:br>
              <a:rPr sz="4000"/>
            </a:b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Brussels, July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Water, sanitation and the other MD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A. Liebaert, DG DEV/B/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12-POINT EU ACTION PLAN</a:t>
            </a:r>
            <a:br>
              <a:rPr sz="3200"/>
            </a:b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6.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Making other EU policies coherent for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11240" y="2266920"/>
            <a:ext cx="685152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global challeng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/finance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mate change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d security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ration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1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284720" y="1628640"/>
            <a:ext cx="3905280" cy="452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9640" y="2124000"/>
            <a:ext cx="3600720" cy="42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current rate of progress, Sub-Saharan Africa will miss the Millennium Development Goals of halving by 2015 the proportion of people without access to safe water &amp; sanitation by an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entire gener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Water and by more than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two generations for Sanit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51280" y="6237360"/>
            <a:ext cx="47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84720" y="4653000"/>
            <a:ext cx="4032360" cy="57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793800" y="2111400"/>
            <a:ext cx="7421400" cy="2659320"/>
            <a:chOff x="793800" y="2111400"/>
            <a:chExt cx="7421400" cy="2659320"/>
          </a:xfrm>
        </p:grpSpPr>
        <p:grpSp>
          <p:nvGrpSpPr>
            <p:cNvPr id="48" name=""/>
            <p:cNvGrpSpPr/>
            <p:nvPr/>
          </p:nvGrpSpPr>
          <p:grpSpPr>
            <a:xfrm>
              <a:off x="1012320" y="2111400"/>
              <a:ext cx="7202880" cy="2659320"/>
              <a:chOff x="1012320" y="2111400"/>
              <a:chExt cx="7202880" cy="2659320"/>
            </a:xfrm>
          </p:grpSpPr>
          <p:grpSp>
            <p:nvGrpSpPr>
              <p:cNvPr id="49" name=""/>
              <p:cNvGrpSpPr/>
              <p:nvPr/>
            </p:nvGrpSpPr>
            <p:grpSpPr>
              <a:xfrm>
                <a:off x="1395360" y="2197080"/>
                <a:ext cx="6819840" cy="2228760"/>
                <a:chOff x="1395360" y="2197080"/>
                <a:chExt cx="6819840" cy="2228760"/>
              </a:xfrm>
            </p:grpSpPr>
            <p:sp>
              <p:nvSpPr>
                <p:cNvPr id="50" name=""/>
                <p:cNvSpPr/>
                <p:nvPr/>
              </p:nvSpPr>
              <p:spPr>
                <a:xfrm>
                  <a:off x="1395360" y="44258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5360" y="41785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1395360" y="39308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1395360" y="368316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1395360" y="343548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1395360" y="318780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1395360" y="29401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1395360" y="26924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1395360" y="244476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1395360" y="219708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" name=""/>
              <p:cNvGrpSpPr/>
              <p:nvPr/>
            </p:nvGrpSpPr>
            <p:grpSpPr>
              <a:xfrm>
                <a:off x="1012320" y="2111400"/>
                <a:ext cx="258840" cy="2659320"/>
                <a:chOff x="1012320" y="2111400"/>
                <a:chExt cx="258840" cy="26593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1185120" y="458784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98720" y="43401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098720" y="40924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1098720" y="38448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3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1098720" y="35974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4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098720" y="33498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098720" y="310212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6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098720" y="285444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7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1098720" y="26067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8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098720" y="23590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9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1012320" y="2111400"/>
                  <a:ext cx="256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10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2" name=""/>
            <p:cNvSpPr/>
            <p:nvPr/>
          </p:nvSpPr>
          <p:spPr>
            <a:xfrm rot="16200000">
              <a:off x="544320" y="3333960"/>
              <a:ext cx="681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a19b7f"/>
                  </a:solidFill>
                  <a:latin typeface="Arial"/>
                  <a:ea typeface="Arial"/>
                </a:rPr>
                <a:t>% of goa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1643040" y="2195640"/>
            <a:ext cx="6315120" cy="2477880"/>
            <a:chOff x="1643040" y="2195640"/>
            <a:chExt cx="6315120" cy="2477880"/>
          </a:xfrm>
        </p:grpSpPr>
        <p:sp>
          <p:nvSpPr>
            <p:cNvPr id="74" name=""/>
            <p:cNvSpPr/>
            <p:nvPr/>
          </p:nvSpPr>
          <p:spPr>
            <a:xfrm>
              <a:off x="164304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9408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4656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19724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4972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90076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5324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572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643040" y="2444760"/>
            <a:ext cx="6315120" cy="2228760"/>
            <a:chOff x="1643040" y="2444760"/>
            <a:chExt cx="6315120" cy="2228760"/>
          </a:xfrm>
        </p:grpSpPr>
        <p:sp>
          <p:nvSpPr>
            <p:cNvPr id="83" name=""/>
            <p:cNvSpPr/>
            <p:nvPr/>
          </p:nvSpPr>
          <p:spPr>
            <a:xfrm>
              <a:off x="2500200" y="2835360"/>
              <a:ext cx="343080" cy="18381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48000" y="3111480"/>
              <a:ext cx="352440" cy="15620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052960" y="2683080"/>
              <a:ext cx="352440" cy="199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0120" y="2759040"/>
              <a:ext cx="343080" cy="1914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15080" y="2882880"/>
              <a:ext cx="343080" cy="1790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643040" y="2692440"/>
              <a:ext cx="352440" cy="1981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205160" y="3063960"/>
              <a:ext cx="343080" cy="16095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757920" y="2444760"/>
              <a:ext cx="352440" cy="2228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LOBAL PROGRESS ON MDG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35280" y="6527520"/>
            <a:ext cx="68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ource: World Bank Global Monitoring Repor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947960" y="5891040"/>
            <a:ext cx="1576800" cy="213480"/>
            <a:chOff x="1947960" y="5891040"/>
            <a:chExt cx="1576800" cy="213480"/>
          </a:xfrm>
        </p:grpSpPr>
        <p:sp>
          <p:nvSpPr>
            <p:cNvPr id="94" name=""/>
            <p:cNvSpPr/>
            <p:nvPr/>
          </p:nvSpPr>
          <p:spPr>
            <a:xfrm>
              <a:off x="1947960" y="5938920"/>
              <a:ext cx="113760" cy="11412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03840" y="5891040"/>
              <a:ext cx="142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hieved by 200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1947960" y="5654520"/>
            <a:ext cx="3790800" cy="213480"/>
            <a:chOff x="1947960" y="5654520"/>
            <a:chExt cx="3790800" cy="213480"/>
          </a:xfrm>
        </p:grpSpPr>
        <p:sp>
          <p:nvSpPr>
            <p:cNvPr id="97" name=""/>
            <p:cNvSpPr/>
            <p:nvPr/>
          </p:nvSpPr>
          <p:spPr>
            <a:xfrm>
              <a:off x="1947960" y="5702400"/>
              <a:ext cx="105480" cy="114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80440" y="5654520"/>
              <a:ext cx="365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eded to be achieved by 2007 to be on tra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508760" y="4816440"/>
            <a:ext cx="6679800" cy="547920"/>
            <a:chOff x="1508760" y="4816440"/>
            <a:chExt cx="6679800" cy="547920"/>
          </a:xfrm>
        </p:grpSpPr>
        <p:sp>
          <p:nvSpPr>
            <p:cNvPr id="100" name=""/>
            <p:cNvSpPr/>
            <p:nvPr/>
          </p:nvSpPr>
          <p:spPr>
            <a:xfrm>
              <a:off x="2319840" y="4816440"/>
              <a:ext cx="6120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1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un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50720" y="4816440"/>
              <a:ext cx="7214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im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u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82040" y="4816440"/>
              <a:ext cx="5356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n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883760" y="4816440"/>
              <a:ext cx="6454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il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ta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737680" y="4816440"/>
              <a:ext cx="6454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5.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ter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ta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551640" y="4816440"/>
              <a:ext cx="7491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fe wa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424280" y="4816440"/>
              <a:ext cx="7642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ess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nit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08760" y="4816440"/>
              <a:ext cx="6120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1.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tre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ver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643040" y="2444760"/>
            <a:ext cx="6315120" cy="2228760"/>
            <a:chOff x="1643040" y="2444760"/>
            <a:chExt cx="6315120" cy="2228760"/>
          </a:xfrm>
        </p:grpSpPr>
        <p:sp>
          <p:nvSpPr>
            <p:cNvPr id="109" name=""/>
            <p:cNvSpPr/>
            <p:nvPr/>
          </p:nvSpPr>
          <p:spPr>
            <a:xfrm>
              <a:off x="1643040" y="2692440"/>
              <a:ext cx="352440" cy="198108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00200" y="3092400"/>
              <a:ext cx="343080" cy="158112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348000" y="3854520"/>
              <a:ext cx="352440" cy="81900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05160" y="3063960"/>
              <a:ext cx="343080" cy="160956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052960" y="3683160"/>
              <a:ext cx="352440" cy="99036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910120" y="4521240"/>
              <a:ext cx="343080" cy="15228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757920" y="2444760"/>
              <a:ext cx="352440" cy="222876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15080" y="3683160"/>
              <a:ext cx="343080" cy="99036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395360" y="4673520"/>
            <a:ext cx="6819840" cy="0"/>
          </a:xfrm>
          <a:prstGeom prst="line">
            <a:avLst/>
          </a:prstGeom>
          <a:ln w="28440">
            <a:solidFill>
              <a:srgbClr val="a19b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947960" y="6127920"/>
            <a:ext cx="1188360" cy="213480"/>
            <a:chOff x="1947960" y="6127920"/>
            <a:chExt cx="1188360" cy="213480"/>
          </a:xfrm>
        </p:grpSpPr>
        <p:sp>
          <p:nvSpPr>
            <p:cNvPr id="119" name=""/>
            <p:cNvSpPr/>
            <p:nvPr/>
          </p:nvSpPr>
          <p:spPr>
            <a:xfrm>
              <a:off x="1947960" y="6175440"/>
              <a:ext cx="105480" cy="11376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91600" y="6127920"/>
              <a:ext cx="1044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5 target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3317760" y="1655640"/>
            <a:ext cx="314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Variation in progress by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2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"/>
                            </p:stCondLst>
                            <p:childTnLst>
                              <p:par>
                                <p:cTn id="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1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2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20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20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793800" y="2111400"/>
            <a:ext cx="7421400" cy="2675880"/>
            <a:chOff x="793800" y="2111400"/>
            <a:chExt cx="7421400" cy="2675880"/>
          </a:xfrm>
        </p:grpSpPr>
        <p:grpSp>
          <p:nvGrpSpPr>
            <p:cNvPr id="123" name=""/>
            <p:cNvGrpSpPr/>
            <p:nvPr/>
          </p:nvGrpSpPr>
          <p:grpSpPr>
            <a:xfrm>
              <a:off x="1012320" y="2111400"/>
              <a:ext cx="7202880" cy="2675880"/>
              <a:chOff x="1012320" y="2111400"/>
              <a:chExt cx="7202880" cy="267588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1395360" y="2193120"/>
                <a:ext cx="6819840" cy="2493000"/>
                <a:chOff x="1395360" y="2193120"/>
                <a:chExt cx="6819840" cy="249300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1395360" y="46861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1395360" y="447660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395360" y="406728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395360" y="385776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1395360" y="364896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395360" y="34394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395360" y="32299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395360" y="30211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395360" y="281160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395360" y="26114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395360" y="240228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1395360" y="21931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1012320" y="2111400"/>
                <a:ext cx="260640" cy="2675880"/>
                <a:chOff x="1012320" y="2111400"/>
                <a:chExt cx="260640" cy="267588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1051200" y="4604400"/>
                  <a:ext cx="2217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-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051200" y="4395240"/>
                  <a:ext cx="2217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-1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85120" y="418608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098720" y="39855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098720" y="37764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098720" y="35668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3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098720" y="335772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4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098720" y="31500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098720" y="29394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6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098720" y="27298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7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098720" y="252972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8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098720" y="23205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9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012320" y="2111400"/>
                  <a:ext cx="256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10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1" name=""/>
            <p:cNvSpPr/>
            <p:nvPr/>
          </p:nvSpPr>
          <p:spPr>
            <a:xfrm rot="16200000">
              <a:off x="-292320" y="3349800"/>
              <a:ext cx="235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a19b7f"/>
                  </a:solidFill>
                  <a:latin typeface="Arial"/>
                  <a:ea typeface="Arial"/>
                </a:rPr>
                <a:t>Progress toward goal by 2007 (%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LOBAL PROGRESS ON MD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35280" y="6527520"/>
            <a:ext cx="68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ource: World Bank Global Monitoring Repor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728720" y="3276720"/>
            <a:ext cx="6153120" cy="990360"/>
            <a:chOff x="1728720" y="3276720"/>
            <a:chExt cx="6153120" cy="990360"/>
          </a:xfrm>
        </p:grpSpPr>
        <p:sp>
          <p:nvSpPr>
            <p:cNvPr id="155" name=""/>
            <p:cNvSpPr/>
            <p:nvPr/>
          </p:nvSpPr>
          <p:spPr>
            <a:xfrm>
              <a:off x="5996160" y="4230360"/>
              <a:ext cx="1807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28720" y="3503520"/>
              <a:ext cx="190440" cy="763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85880" y="3458160"/>
              <a:ext cx="181080" cy="808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33680" y="3749040"/>
              <a:ext cx="190440" cy="517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90840" y="3276720"/>
              <a:ext cx="181080" cy="990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138640" y="3421800"/>
              <a:ext cx="190440" cy="84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843600" y="3313080"/>
              <a:ext cx="190440" cy="953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701120" y="3485160"/>
              <a:ext cx="180720" cy="781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6176880" y="4267080"/>
            <a:ext cx="190440" cy="29232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538280" y="2193840"/>
            <a:ext cx="6162840" cy="2073240"/>
            <a:chOff x="1538280" y="2193840"/>
            <a:chExt cx="6162840" cy="2073240"/>
          </a:xfrm>
        </p:grpSpPr>
        <p:sp>
          <p:nvSpPr>
            <p:cNvPr id="165" name=""/>
            <p:cNvSpPr/>
            <p:nvPr/>
          </p:nvSpPr>
          <p:spPr>
            <a:xfrm>
              <a:off x="1538280" y="2193840"/>
              <a:ext cx="190440" cy="2073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395440" y="2939400"/>
              <a:ext cx="190440" cy="1327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43240" y="2939400"/>
              <a:ext cx="190440" cy="1327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00400" y="2530080"/>
              <a:ext cx="190440" cy="1736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48200" y="2903040"/>
              <a:ext cx="190440" cy="136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05360" y="3666600"/>
              <a:ext cx="190800" cy="600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653160" y="2193840"/>
              <a:ext cx="190440" cy="2073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510320" y="3312360"/>
              <a:ext cx="190800" cy="954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1952280" y="1655640"/>
            <a:ext cx="587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  <a:ea typeface="Arial"/>
              </a:rPr>
              <a:t>Fragile states have made least progress towards MD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947960" y="5891040"/>
            <a:ext cx="1891800" cy="213480"/>
            <a:chOff x="1947960" y="5891040"/>
            <a:chExt cx="1891800" cy="213480"/>
          </a:xfrm>
        </p:grpSpPr>
        <p:sp>
          <p:nvSpPr>
            <p:cNvPr id="175" name=""/>
            <p:cNvSpPr/>
            <p:nvPr/>
          </p:nvSpPr>
          <p:spPr>
            <a:xfrm>
              <a:off x="1947960" y="5938920"/>
              <a:ext cx="113760" cy="11412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103120" y="5891040"/>
              <a:ext cx="1736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w-income countr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947960" y="5654520"/>
            <a:ext cx="2077200" cy="213480"/>
            <a:chOff x="1947960" y="5654520"/>
            <a:chExt cx="2077200" cy="213480"/>
          </a:xfrm>
        </p:grpSpPr>
        <p:sp>
          <p:nvSpPr>
            <p:cNvPr id="178" name=""/>
            <p:cNvSpPr/>
            <p:nvPr/>
          </p:nvSpPr>
          <p:spPr>
            <a:xfrm>
              <a:off x="1947960" y="5702400"/>
              <a:ext cx="105480" cy="114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090520" y="5654520"/>
              <a:ext cx="193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ddle-income countr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947960" y="6127920"/>
            <a:ext cx="1217880" cy="213480"/>
            <a:chOff x="1947960" y="6127920"/>
            <a:chExt cx="1217880" cy="213480"/>
          </a:xfrm>
        </p:grpSpPr>
        <p:sp>
          <p:nvSpPr>
            <p:cNvPr id="181" name=""/>
            <p:cNvSpPr/>
            <p:nvPr/>
          </p:nvSpPr>
          <p:spPr>
            <a:xfrm>
              <a:off x="1947960" y="6175440"/>
              <a:ext cx="105480" cy="11376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092320" y="6127920"/>
              <a:ext cx="107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agile sta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1919160" y="3421080"/>
            <a:ext cx="6153120" cy="846000"/>
            <a:chOff x="1919160" y="3421080"/>
            <a:chExt cx="6153120" cy="846000"/>
          </a:xfrm>
        </p:grpSpPr>
        <p:sp>
          <p:nvSpPr>
            <p:cNvPr id="184" name=""/>
            <p:cNvSpPr/>
            <p:nvPr/>
          </p:nvSpPr>
          <p:spPr>
            <a:xfrm>
              <a:off x="1919160" y="3857400"/>
              <a:ext cx="190800" cy="40932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766960" y="3857400"/>
              <a:ext cx="190440" cy="40932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24120" y="3957480"/>
              <a:ext cx="190800" cy="30924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471920" y="3630240"/>
              <a:ext cx="190440" cy="63648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29080" y="3684600"/>
              <a:ext cx="190800" cy="58212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034040" y="3666240"/>
              <a:ext cx="190800" cy="60048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881840" y="3421080"/>
              <a:ext cx="190440" cy="84600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538280" y="2193840"/>
            <a:ext cx="6343560" cy="2073240"/>
            <a:chOff x="1538280" y="2193840"/>
            <a:chExt cx="6343560" cy="2073240"/>
          </a:xfrm>
        </p:grpSpPr>
        <p:grpSp>
          <p:nvGrpSpPr>
            <p:cNvPr id="192" name=""/>
            <p:cNvGrpSpPr/>
            <p:nvPr/>
          </p:nvGrpSpPr>
          <p:grpSpPr>
            <a:xfrm>
              <a:off x="1538280" y="2193840"/>
              <a:ext cx="6162840" cy="2073240"/>
              <a:chOff x="1538280" y="2193840"/>
              <a:chExt cx="6162840" cy="2073240"/>
            </a:xfrm>
          </p:grpSpPr>
          <p:sp>
            <p:nvSpPr>
              <p:cNvPr id="193" name=""/>
              <p:cNvSpPr/>
              <p:nvPr/>
            </p:nvSpPr>
            <p:spPr>
              <a:xfrm>
                <a:off x="1538280" y="2193840"/>
                <a:ext cx="190440" cy="207324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395440" y="2939400"/>
                <a:ext cx="190440" cy="132732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243240" y="2939400"/>
                <a:ext cx="190440" cy="132732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100400" y="2530080"/>
                <a:ext cx="190440" cy="173664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948200" y="2903040"/>
                <a:ext cx="190440" cy="136368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805360" y="3666600"/>
                <a:ext cx="190800" cy="60012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653160" y="2193840"/>
                <a:ext cx="190440" cy="207324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510320" y="3312360"/>
                <a:ext cx="190800" cy="95436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1728720" y="3276720"/>
              <a:ext cx="6153120" cy="990360"/>
              <a:chOff x="1728720" y="3276720"/>
              <a:chExt cx="6153120" cy="990360"/>
            </a:xfrm>
          </p:grpSpPr>
          <p:sp>
            <p:nvSpPr>
              <p:cNvPr id="202" name=""/>
              <p:cNvSpPr/>
              <p:nvPr/>
            </p:nvSpPr>
            <p:spPr>
              <a:xfrm>
                <a:off x="5996160" y="4230360"/>
                <a:ext cx="180720" cy="363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728720" y="3503520"/>
                <a:ext cx="190440" cy="7632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585880" y="3458160"/>
                <a:ext cx="181080" cy="8085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433680" y="3749040"/>
                <a:ext cx="190440" cy="5176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290840" y="3276720"/>
                <a:ext cx="181080" cy="9903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138640" y="3421800"/>
                <a:ext cx="190440" cy="8449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843600" y="3313080"/>
                <a:ext cx="190440" cy="9536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701120" y="3485160"/>
                <a:ext cx="180720" cy="7815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0" name=""/>
          <p:cNvGrpSpPr/>
          <p:nvPr/>
        </p:nvGrpSpPr>
        <p:grpSpPr>
          <a:xfrm>
            <a:off x="1947960" y="5702400"/>
            <a:ext cx="114120" cy="350640"/>
            <a:chOff x="1947960" y="5702400"/>
            <a:chExt cx="114120" cy="350640"/>
          </a:xfrm>
        </p:grpSpPr>
        <p:sp>
          <p:nvSpPr>
            <p:cNvPr id="211" name=""/>
            <p:cNvSpPr/>
            <p:nvPr/>
          </p:nvSpPr>
          <p:spPr>
            <a:xfrm>
              <a:off x="1947960" y="5702400"/>
              <a:ext cx="106200" cy="114120"/>
            </a:xfrm>
            <a:prstGeom prst="rect">
              <a:avLst/>
            </a:prstGeom>
            <a:solidFill>
              <a:srgbClr val="eae9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47960" y="5938920"/>
              <a:ext cx="114120" cy="114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1395360" y="4267080"/>
            <a:ext cx="6819840" cy="0"/>
          </a:xfrm>
          <a:prstGeom prst="line">
            <a:avLst/>
          </a:prstGeom>
          <a:ln w="28440">
            <a:solidFill>
              <a:srgbClr val="a19b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508760" y="4816440"/>
            <a:ext cx="6679800" cy="547920"/>
            <a:chOff x="1508760" y="4816440"/>
            <a:chExt cx="6679800" cy="547920"/>
          </a:xfrm>
        </p:grpSpPr>
        <p:sp>
          <p:nvSpPr>
            <p:cNvPr id="215" name=""/>
            <p:cNvSpPr/>
            <p:nvPr/>
          </p:nvSpPr>
          <p:spPr>
            <a:xfrm>
              <a:off x="2319840" y="4816440"/>
              <a:ext cx="6120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1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un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50720" y="4816440"/>
              <a:ext cx="7214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im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u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82040" y="4816440"/>
              <a:ext cx="5356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n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883760" y="4816440"/>
              <a:ext cx="6454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il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ta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737680" y="4816440"/>
              <a:ext cx="6454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5.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ter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ta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551640" y="4816440"/>
              <a:ext cx="7491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fe wa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424280" y="4816440"/>
              <a:ext cx="7642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ess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nit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508760" y="4816440"/>
              <a:ext cx="6120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1.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tre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ver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2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"/>
                            </p:stCondLst>
                            <p:childTnLst>
                              <p:par>
                                <p:cTn id="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1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"/>
                            </p:stCondLst>
                            <p:childTnLst>
                              <p:par>
                                <p:cTn id="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3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53735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0000"/>
                </a:solidFill>
                <a:latin typeface="Arial"/>
              </a:rPr>
              <a:t>Water, sanitation and other MD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Poverty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: W&amp;S brings health, productive time, economic opportunities and direct savings to the poo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Hunger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 : W&amp;S improves nutrient uptake and allows for increased agricultural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Primary Education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 : W&amp;S in schools greatly improves school attendance, especially for adolescent gir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Gender Equality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 : W&amp;S helps empower wom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W&amp;S and other MDG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Child Mortality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W&amp;S greatly reduces diarrhea – the single biggest killer of children in the developing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Maternal Mortality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W&amp;S during pregnancy and at maternal facility diminish maternal mort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Major Diseases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W&amp;S is the foundation of health and therefore a perequisite for addressing major dis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Environmental Sustainability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Water is the natural recipient of most pol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Council conclusions on MDGs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(14 June 2010) </a:t>
            </a:r>
            <a:br>
              <a:rPr sz="2400"/>
            </a:b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Preparing for UN MDG Summit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Focusing efforts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Special attention to countries most off-track, and developing countries that make firm commitments through their development policies and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EU recognises interdependence of progress on the different MDGs and the impact of off-track MDGs such as hunger, child and maternal health, and </a:t>
            </a: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sanitation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12-POINT EU ACTION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d promises – a pathway to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effective aid means better value for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-track countries and “fragile first", starting with Hai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DGs in key sectors: hunger, heath, education, g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"donorship" to ownership – with countries and with 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ing other EU policies coherent for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mestic taxation capac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lobal and regional trade capac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novative finan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imate change: a test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velopment and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forming global gover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12-POINT EU ACTION PLAN</a:t>
            </a:r>
            <a:br>
              <a:rPr sz="3200"/>
            </a:b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4.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MDGs in key sectors: hunger, heath, education, g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 - national health systems and GF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 – focus on quality – with governments and through Fast Track Initi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 security – sustainable smallhold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der – apply OECD’s ‘policy marker’ to all MDG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 - priority funding for health and food security in EU program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9T06:20:02Z</dcterms:created>
  <dc:creator>liebaan</dc:creator>
  <dc:description/>
  <dc:language>en-US</dc:language>
  <cp:lastModifiedBy>liebaan</cp:lastModifiedBy>
  <dcterms:modified xsi:type="dcterms:W3CDTF">2010-07-07T05:57:13Z</dcterms:modified>
  <cp:revision>7</cp:revision>
  <dc:subject/>
  <dc:title>Slide 1</dc:title>
</cp:coreProperties>
</file>