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C993-BBCB-4A7F-84B0-CF7545F6E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6CB7-607D-4F3C-BCCE-24B44D152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4180-BEFC-4B4E-9BA8-24BDC6463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DF15-9440-4144-9700-B8326D921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E51F-3617-484A-8539-9BCBE800C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4C41-0D55-4F9F-9850-B50D2BF0C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1B38-BC0D-4CB7-93ED-09B2D0094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6AF8-D99B-4072-9BFF-2E448DAD0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9CF8-455F-41E7-9154-CF9906128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2ED3-EB0B-451C-8E07-91295638B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7074-4B88-4AD6-98A5-DB7E4E63D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1C4A-2D45-43CA-9A25-FA71B7AD3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FBDAF-04A7-4EBE-8EA2-0072A56F72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000000"/>
                </a:solidFill>
                <a:latin typeface="Arial"/>
              </a:rPr>
              <a:t>Water seminar</a:t>
            </a:r>
            <a:br>
              <a:rPr sz="4000"/>
            </a:b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Brussels, July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Water, sanitation and the other MD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A. Liebaert, DG DEV/B/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12-POINT EU ACTION PLAN</a:t>
            </a:r>
            <a:br>
              <a:rPr sz="3200"/>
            </a:br>
            <a:r>
              <a:rPr b="0" lang="en-GB" sz="3200" spc="-1" strike="noStrike">
                <a:solidFill>
                  <a:srgbClr val="009999"/>
                </a:solidFill>
                <a:latin typeface="Arial"/>
              </a:rPr>
              <a:t>6.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Making other EU policies coherent for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011240" y="2266920"/>
            <a:ext cx="685152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global challeng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e/finance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mate change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od security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gration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10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10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284720" y="1628640"/>
            <a:ext cx="3905280" cy="452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39640" y="2124000"/>
            <a:ext cx="3600720" cy="42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current rate of progress, Sub-Saharan Africa will miss the Millennium Development Goals of halving by 2015 the proportion of people without access to safe water &amp; sanitation by an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entire gener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 Water and by more than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two generations for Sanit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51280" y="6237360"/>
            <a:ext cx="475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84720" y="4653000"/>
            <a:ext cx="4032360" cy="576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793800" y="2111400"/>
            <a:ext cx="7421400" cy="2659320"/>
            <a:chOff x="793800" y="2111400"/>
            <a:chExt cx="7421400" cy="2659320"/>
          </a:xfrm>
        </p:grpSpPr>
        <p:grpSp>
          <p:nvGrpSpPr>
            <p:cNvPr id="48" name=""/>
            <p:cNvGrpSpPr/>
            <p:nvPr/>
          </p:nvGrpSpPr>
          <p:grpSpPr>
            <a:xfrm>
              <a:off x="1012320" y="2111400"/>
              <a:ext cx="7202880" cy="2659320"/>
              <a:chOff x="1012320" y="2111400"/>
              <a:chExt cx="7202880" cy="2659320"/>
            </a:xfrm>
          </p:grpSpPr>
          <p:grpSp>
            <p:nvGrpSpPr>
              <p:cNvPr id="49" name=""/>
              <p:cNvGrpSpPr/>
              <p:nvPr/>
            </p:nvGrpSpPr>
            <p:grpSpPr>
              <a:xfrm>
                <a:off x="1395360" y="2197080"/>
                <a:ext cx="6819840" cy="2228760"/>
                <a:chOff x="1395360" y="2197080"/>
                <a:chExt cx="6819840" cy="2228760"/>
              </a:xfrm>
            </p:grpSpPr>
            <p:sp>
              <p:nvSpPr>
                <p:cNvPr id="50" name=""/>
                <p:cNvSpPr/>
                <p:nvPr/>
              </p:nvSpPr>
              <p:spPr>
                <a:xfrm>
                  <a:off x="1395360" y="442584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5360" y="417852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1395360" y="393084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1395360" y="368316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1395360" y="343548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1395360" y="318780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1395360" y="294012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>
                  <a:off x="1395360" y="269244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1395360" y="244476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1395360" y="219708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" name=""/>
              <p:cNvGrpSpPr/>
              <p:nvPr/>
            </p:nvGrpSpPr>
            <p:grpSpPr>
              <a:xfrm>
                <a:off x="1012320" y="2111400"/>
                <a:ext cx="258840" cy="2659320"/>
                <a:chOff x="1012320" y="2111400"/>
                <a:chExt cx="258840" cy="26593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1185120" y="458784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1098720" y="434016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1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1098720" y="409248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2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1098720" y="384480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3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1098720" y="359748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4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1098720" y="334980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5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1098720" y="310212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6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1098720" y="285444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7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1098720" y="260676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8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1098720" y="235908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9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1012320" y="2111400"/>
                  <a:ext cx="256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10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2" name=""/>
            <p:cNvSpPr/>
            <p:nvPr/>
          </p:nvSpPr>
          <p:spPr>
            <a:xfrm rot="16200000">
              <a:off x="544320" y="3333960"/>
              <a:ext cx="681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a19b7f"/>
                  </a:solidFill>
                  <a:latin typeface="Arial"/>
                  <a:ea typeface="Arial"/>
                </a:rPr>
                <a:t>% of goal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1643040" y="2195640"/>
            <a:ext cx="6315120" cy="2477880"/>
            <a:chOff x="1643040" y="2195640"/>
            <a:chExt cx="6315120" cy="2477880"/>
          </a:xfrm>
        </p:grpSpPr>
        <p:sp>
          <p:nvSpPr>
            <p:cNvPr id="74" name=""/>
            <p:cNvSpPr/>
            <p:nvPr/>
          </p:nvSpPr>
          <p:spPr>
            <a:xfrm>
              <a:off x="1643040" y="2195640"/>
              <a:ext cx="352440" cy="2477880"/>
            </a:xfrm>
            <a:prstGeom prst="rect">
              <a:avLst/>
            </a:prstGeom>
            <a:solidFill>
              <a:srgbClr val="cdca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94080" y="2195640"/>
              <a:ext cx="352440" cy="2477880"/>
            </a:xfrm>
            <a:prstGeom prst="rect">
              <a:avLst/>
            </a:prstGeom>
            <a:solidFill>
              <a:srgbClr val="cdca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346560" y="2195640"/>
              <a:ext cx="352440" cy="2477880"/>
            </a:xfrm>
            <a:prstGeom prst="rect">
              <a:avLst/>
            </a:prstGeom>
            <a:solidFill>
              <a:srgbClr val="cdca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197240" y="2195640"/>
              <a:ext cx="352440" cy="2477880"/>
            </a:xfrm>
            <a:prstGeom prst="rect">
              <a:avLst/>
            </a:prstGeom>
            <a:solidFill>
              <a:srgbClr val="cdca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49720" y="2195640"/>
              <a:ext cx="352440" cy="2477880"/>
            </a:xfrm>
            <a:prstGeom prst="rect">
              <a:avLst/>
            </a:prstGeom>
            <a:solidFill>
              <a:srgbClr val="cdca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900760" y="2195640"/>
              <a:ext cx="352440" cy="2477880"/>
            </a:xfrm>
            <a:prstGeom prst="rect">
              <a:avLst/>
            </a:prstGeom>
            <a:solidFill>
              <a:srgbClr val="cdca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53240" y="2195640"/>
              <a:ext cx="352440" cy="2477880"/>
            </a:xfrm>
            <a:prstGeom prst="rect">
              <a:avLst/>
            </a:prstGeom>
            <a:solidFill>
              <a:srgbClr val="cdca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5720" y="2195640"/>
              <a:ext cx="352440" cy="2477880"/>
            </a:xfrm>
            <a:prstGeom prst="rect">
              <a:avLst/>
            </a:prstGeom>
            <a:solidFill>
              <a:srgbClr val="cdca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1643040" y="2444760"/>
            <a:ext cx="6315120" cy="2228760"/>
            <a:chOff x="1643040" y="2444760"/>
            <a:chExt cx="6315120" cy="2228760"/>
          </a:xfrm>
        </p:grpSpPr>
        <p:sp>
          <p:nvSpPr>
            <p:cNvPr id="83" name=""/>
            <p:cNvSpPr/>
            <p:nvPr/>
          </p:nvSpPr>
          <p:spPr>
            <a:xfrm>
              <a:off x="2500200" y="2835360"/>
              <a:ext cx="343080" cy="18381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348000" y="3111480"/>
              <a:ext cx="352440" cy="15620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052960" y="2683080"/>
              <a:ext cx="352440" cy="19904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0120" y="2759040"/>
              <a:ext cx="343080" cy="19144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615080" y="2882880"/>
              <a:ext cx="343080" cy="1790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643040" y="2692440"/>
              <a:ext cx="352440" cy="19810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205160" y="3063960"/>
              <a:ext cx="343080" cy="16095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757920" y="2444760"/>
              <a:ext cx="352440" cy="22287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LOBAL PROGRESS ON MDG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835280" y="6527520"/>
            <a:ext cx="68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ource: World Bank Global Monitoring Repor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1947960" y="5891040"/>
            <a:ext cx="1576800" cy="213480"/>
            <a:chOff x="1947960" y="5891040"/>
            <a:chExt cx="1576800" cy="213480"/>
          </a:xfrm>
        </p:grpSpPr>
        <p:sp>
          <p:nvSpPr>
            <p:cNvPr id="94" name=""/>
            <p:cNvSpPr/>
            <p:nvPr/>
          </p:nvSpPr>
          <p:spPr>
            <a:xfrm>
              <a:off x="1947960" y="5938920"/>
              <a:ext cx="113760" cy="114120"/>
            </a:xfrm>
            <a:prstGeom prst="rect">
              <a:avLst/>
            </a:prstGeom>
            <a:solidFill>
              <a:srgbClr val="005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103840" y="5891040"/>
              <a:ext cx="1420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hieved by 200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1947960" y="5654520"/>
            <a:ext cx="3790800" cy="213480"/>
            <a:chOff x="1947960" y="5654520"/>
            <a:chExt cx="3790800" cy="213480"/>
          </a:xfrm>
        </p:grpSpPr>
        <p:sp>
          <p:nvSpPr>
            <p:cNvPr id="97" name=""/>
            <p:cNvSpPr/>
            <p:nvPr/>
          </p:nvSpPr>
          <p:spPr>
            <a:xfrm>
              <a:off x="1947960" y="5702400"/>
              <a:ext cx="105480" cy="1141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080440" y="5654520"/>
              <a:ext cx="3658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eeded to be achieved by 2007 to be on trac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1508760" y="4816440"/>
            <a:ext cx="6679800" cy="547920"/>
            <a:chOff x="1508760" y="4816440"/>
            <a:chExt cx="6679800" cy="547920"/>
          </a:xfrm>
        </p:grpSpPr>
        <p:sp>
          <p:nvSpPr>
            <p:cNvPr id="100" name=""/>
            <p:cNvSpPr/>
            <p:nvPr/>
          </p:nvSpPr>
          <p:spPr>
            <a:xfrm>
              <a:off x="2319840" y="4816440"/>
              <a:ext cx="61200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1.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un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150720" y="4816440"/>
              <a:ext cx="72144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ima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edu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082040" y="4816440"/>
              <a:ext cx="53568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Gen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ar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883760" y="4816440"/>
              <a:ext cx="64548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hil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rtal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737680" y="4816440"/>
              <a:ext cx="64548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5.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tern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rtal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551640" y="4816440"/>
              <a:ext cx="74916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7.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7.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fe wat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424280" y="4816440"/>
              <a:ext cx="76428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7.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cess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nit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508760" y="4816440"/>
              <a:ext cx="61200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1.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Extrem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ver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1643040" y="2444760"/>
            <a:ext cx="6315120" cy="2228760"/>
            <a:chOff x="1643040" y="2444760"/>
            <a:chExt cx="6315120" cy="2228760"/>
          </a:xfrm>
        </p:grpSpPr>
        <p:sp>
          <p:nvSpPr>
            <p:cNvPr id="109" name=""/>
            <p:cNvSpPr/>
            <p:nvPr/>
          </p:nvSpPr>
          <p:spPr>
            <a:xfrm>
              <a:off x="1643040" y="2692440"/>
              <a:ext cx="352440" cy="1981080"/>
            </a:xfrm>
            <a:prstGeom prst="rect">
              <a:avLst/>
            </a:prstGeom>
            <a:solidFill>
              <a:srgbClr val="005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500200" y="3092400"/>
              <a:ext cx="343080" cy="1581120"/>
            </a:xfrm>
            <a:prstGeom prst="rect">
              <a:avLst/>
            </a:prstGeom>
            <a:solidFill>
              <a:srgbClr val="005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348000" y="3854520"/>
              <a:ext cx="352440" cy="819000"/>
            </a:xfrm>
            <a:prstGeom prst="rect">
              <a:avLst/>
            </a:prstGeom>
            <a:solidFill>
              <a:srgbClr val="005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205160" y="3063960"/>
              <a:ext cx="343080" cy="1609560"/>
            </a:xfrm>
            <a:prstGeom prst="rect">
              <a:avLst/>
            </a:prstGeom>
            <a:solidFill>
              <a:srgbClr val="005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052960" y="3683160"/>
              <a:ext cx="352440" cy="990360"/>
            </a:xfrm>
            <a:prstGeom prst="rect">
              <a:avLst/>
            </a:prstGeom>
            <a:solidFill>
              <a:srgbClr val="005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910120" y="4521240"/>
              <a:ext cx="343080" cy="152280"/>
            </a:xfrm>
            <a:prstGeom prst="rect">
              <a:avLst/>
            </a:prstGeom>
            <a:solidFill>
              <a:srgbClr val="005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757920" y="2444760"/>
              <a:ext cx="352440" cy="2228760"/>
            </a:xfrm>
            <a:prstGeom prst="rect">
              <a:avLst/>
            </a:prstGeom>
            <a:solidFill>
              <a:srgbClr val="005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615080" y="3683160"/>
              <a:ext cx="343080" cy="990360"/>
            </a:xfrm>
            <a:prstGeom prst="rect">
              <a:avLst/>
            </a:prstGeom>
            <a:solidFill>
              <a:srgbClr val="005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1395360" y="4673520"/>
            <a:ext cx="6819840" cy="0"/>
          </a:xfrm>
          <a:prstGeom prst="line">
            <a:avLst/>
          </a:prstGeom>
          <a:ln w="28440">
            <a:solidFill>
              <a:srgbClr val="a19b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1947960" y="6127920"/>
            <a:ext cx="1188360" cy="213480"/>
            <a:chOff x="1947960" y="6127920"/>
            <a:chExt cx="1188360" cy="213480"/>
          </a:xfrm>
        </p:grpSpPr>
        <p:sp>
          <p:nvSpPr>
            <p:cNvPr id="119" name=""/>
            <p:cNvSpPr/>
            <p:nvPr/>
          </p:nvSpPr>
          <p:spPr>
            <a:xfrm>
              <a:off x="1947960" y="6175440"/>
              <a:ext cx="105480" cy="113760"/>
            </a:xfrm>
            <a:prstGeom prst="rect">
              <a:avLst/>
            </a:prstGeom>
            <a:solidFill>
              <a:srgbClr val="cdca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091600" y="6127920"/>
              <a:ext cx="1044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15 target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3317760" y="1655640"/>
            <a:ext cx="314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Variation in progress by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2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"/>
                            </p:stCondLst>
                            <p:childTnLst>
                              <p:par>
                                <p:cTn id="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1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200"/>
                            </p:stCondLst>
                            <p:childTnLst>
                              <p:par>
                                <p:cTn id="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20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3200"/>
                            </p:stCondLst>
                            <p:childTnLst>
                              <p:par>
                                <p:cTn id="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793800" y="2111400"/>
            <a:ext cx="7421400" cy="2675880"/>
            <a:chOff x="793800" y="2111400"/>
            <a:chExt cx="7421400" cy="2675880"/>
          </a:xfrm>
        </p:grpSpPr>
        <p:grpSp>
          <p:nvGrpSpPr>
            <p:cNvPr id="123" name=""/>
            <p:cNvGrpSpPr/>
            <p:nvPr/>
          </p:nvGrpSpPr>
          <p:grpSpPr>
            <a:xfrm>
              <a:off x="1012320" y="2111400"/>
              <a:ext cx="7202880" cy="2675880"/>
              <a:chOff x="1012320" y="2111400"/>
              <a:chExt cx="7202880" cy="267588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1395360" y="2193120"/>
                <a:ext cx="6819840" cy="2493000"/>
                <a:chOff x="1395360" y="2193120"/>
                <a:chExt cx="6819840" cy="249300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1395360" y="468612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1395360" y="447660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1395360" y="406728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1395360" y="385776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1395360" y="364896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1395360" y="343944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395360" y="322992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395360" y="302112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395360" y="281160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395360" y="261144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1395360" y="240228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1395360" y="219312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7" name=""/>
              <p:cNvGrpSpPr/>
              <p:nvPr/>
            </p:nvGrpSpPr>
            <p:grpSpPr>
              <a:xfrm>
                <a:off x="1012320" y="2111400"/>
                <a:ext cx="260640" cy="2675880"/>
                <a:chOff x="1012320" y="2111400"/>
                <a:chExt cx="260640" cy="2675880"/>
              </a:xfrm>
            </p:grpSpPr>
            <p:sp>
              <p:nvSpPr>
                <p:cNvPr id="138" name=""/>
                <p:cNvSpPr/>
                <p:nvPr/>
              </p:nvSpPr>
              <p:spPr>
                <a:xfrm>
                  <a:off x="1051200" y="4604400"/>
                  <a:ext cx="2217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-2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051200" y="4395240"/>
                  <a:ext cx="2217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-1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85120" y="418608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1098720" y="398556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1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1098720" y="377640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2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1098720" y="356688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3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1098720" y="335772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4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1098720" y="315000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5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1098720" y="293940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6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098720" y="272988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7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1098720" y="252972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8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1098720" y="232056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9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1012320" y="2111400"/>
                  <a:ext cx="256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10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1" name=""/>
            <p:cNvSpPr/>
            <p:nvPr/>
          </p:nvSpPr>
          <p:spPr>
            <a:xfrm rot="16200000">
              <a:off x="-292320" y="3349800"/>
              <a:ext cx="2355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a19b7f"/>
                  </a:solidFill>
                  <a:latin typeface="Arial"/>
                  <a:ea typeface="Arial"/>
                </a:rPr>
                <a:t>Progress toward goal by 2007 (%)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LOBAL PROGRESS ON MD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835280" y="6527520"/>
            <a:ext cx="68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ource: World Bank Global Monitoring Repor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1728720" y="3276720"/>
            <a:ext cx="6153120" cy="990360"/>
            <a:chOff x="1728720" y="3276720"/>
            <a:chExt cx="6153120" cy="990360"/>
          </a:xfrm>
        </p:grpSpPr>
        <p:sp>
          <p:nvSpPr>
            <p:cNvPr id="155" name=""/>
            <p:cNvSpPr/>
            <p:nvPr/>
          </p:nvSpPr>
          <p:spPr>
            <a:xfrm>
              <a:off x="5996160" y="4230360"/>
              <a:ext cx="18072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728720" y="3503520"/>
              <a:ext cx="190440" cy="763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585880" y="3458160"/>
              <a:ext cx="181080" cy="808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433680" y="3749040"/>
              <a:ext cx="190440" cy="517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290840" y="3276720"/>
              <a:ext cx="181080" cy="990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138640" y="3421800"/>
              <a:ext cx="190440" cy="844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843600" y="3313080"/>
              <a:ext cx="190440" cy="953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701120" y="3485160"/>
              <a:ext cx="180720" cy="781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6176880" y="4267080"/>
            <a:ext cx="190440" cy="292320"/>
          </a:xfrm>
          <a:prstGeom prst="rect">
            <a:avLst/>
          </a:pr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1538280" y="2193840"/>
            <a:ext cx="6162840" cy="2073240"/>
            <a:chOff x="1538280" y="2193840"/>
            <a:chExt cx="6162840" cy="2073240"/>
          </a:xfrm>
        </p:grpSpPr>
        <p:sp>
          <p:nvSpPr>
            <p:cNvPr id="165" name=""/>
            <p:cNvSpPr/>
            <p:nvPr/>
          </p:nvSpPr>
          <p:spPr>
            <a:xfrm>
              <a:off x="1538280" y="2193840"/>
              <a:ext cx="190440" cy="20732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395440" y="2939400"/>
              <a:ext cx="190440" cy="13273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243240" y="2939400"/>
              <a:ext cx="190440" cy="13273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100400" y="2530080"/>
              <a:ext cx="190440" cy="1736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948200" y="2903040"/>
              <a:ext cx="190440" cy="1363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805360" y="3666600"/>
              <a:ext cx="190800" cy="6001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653160" y="2193840"/>
              <a:ext cx="190440" cy="20732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510320" y="3312360"/>
              <a:ext cx="190800" cy="9543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1952280" y="1655640"/>
            <a:ext cx="587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"/>
                <a:ea typeface="Arial"/>
              </a:rPr>
              <a:t>Fragile states have made least progress towards MDG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1947960" y="5891040"/>
            <a:ext cx="1891800" cy="213480"/>
            <a:chOff x="1947960" y="5891040"/>
            <a:chExt cx="1891800" cy="213480"/>
          </a:xfrm>
        </p:grpSpPr>
        <p:sp>
          <p:nvSpPr>
            <p:cNvPr id="175" name=""/>
            <p:cNvSpPr/>
            <p:nvPr/>
          </p:nvSpPr>
          <p:spPr>
            <a:xfrm>
              <a:off x="1947960" y="5938920"/>
              <a:ext cx="113760" cy="114120"/>
            </a:xfrm>
            <a:prstGeom prst="rect">
              <a:avLst/>
            </a:prstGeom>
            <a:solidFill>
              <a:srgbClr val="005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103120" y="5891040"/>
              <a:ext cx="1736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w-income countri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1947960" y="5654520"/>
            <a:ext cx="2077200" cy="213480"/>
            <a:chOff x="1947960" y="5654520"/>
            <a:chExt cx="2077200" cy="213480"/>
          </a:xfrm>
        </p:grpSpPr>
        <p:sp>
          <p:nvSpPr>
            <p:cNvPr id="178" name=""/>
            <p:cNvSpPr/>
            <p:nvPr/>
          </p:nvSpPr>
          <p:spPr>
            <a:xfrm>
              <a:off x="1947960" y="5702400"/>
              <a:ext cx="105480" cy="1141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090520" y="5654520"/>
              <a:ext cx="1934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iddle-income countri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947960" y="6127920"/>
            <a:ext cx="1217880" cy="213480"/>
            <a:chOff x="1947960" y="6127920"/>
            <a:chExt cx="1217880" cy="213480"/>
          </a:xfrm>
        </p:grpSpPr>
        <p:sp>
          <p:nvSpPr>
            <p:cNvPr id="181" name=""/>
            <p:cNvSpPr/>
            <p:nvPr/>
          </p:nvSpPr>
          <p:spPr>
            <a:xfrm>
              <a:off x="1947960" y="6175440"/>
              <a:ext cx="105480" cy="113760"/>
            </a:xfrm>
            <a:prstGeom prst="rect">
              <a:avLst/>
            </a:prstGeom>
            <a:solidFill>
              <a:srgbClr val="953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092320" y="6127920"/>
              <a:ext cx="1073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ragile stat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1919160" y="3421080"/>
            <a:ext cx="6153120" cy="846000"/>
            <a:chOff x="1919160" y="3421080"/>
            <a:chExt cx="6153120" cy="846000"/>
          </a:xfrm>
        </p:grpSpPr>
        <p:sp>
          <p:nvSpPr>
            <p:cNvPr id="184" name=""/>
            <p:cNvSpPr/>
            <p:nvPr/>
          </p:nvSpPr>
          <p:spPr>
            <a:xfrm>
              <a:off x="1919160" y="3857400"/>
              <a:ext cx="190800" cy="409320"/>
            </a:xfrm>
            <a:prstGeom prst="rect">
              <a:avLst/>
            </a:prstGeom>
            <a:solidFill>
              <a:srgbClr val="953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766960" y="3857400"/>
              <a:ext cx="190440" cy="409320"/>
            </a:xfrm>
            <a:prstGeom prst="rect">
              <a:avLst/>
            </a:prstGeom>
            <a:solidFill>
              <a:srgbClr val="953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624120" y="3957480"/>
              <a:ext cx="190800" cy="309240"/>
            </a:xfrm>
            <a:prstGeom prst="rect">
              <a:avLst/>
            </a:prstGeom>
            <a:solidFill>
              <a:srgbClr val="953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471920" y="3630240"/>
              <a:ext cx="190440" cy="636480"/>
            </a:xfrm>
            <a:prstGeom prst="rect">
              <a:avLst/>
            </a:prstGeom>
            <a:solidFill>
              <a:srgbClr val="953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329080" y="3684600"/>
              <a:ext cx="190800" cy="582120"/>
            </a:xfrm>
            <a:prstGeom prst="rect">
              <a:avLst/>
            </a:prstGeom>
            <a:solidFill>
              <a:srgbClr val="953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034040" y="3666240"/>
              <a:ext cx="190800" cy="600480"/>
            </a:xfrm>
            <a:prstGeom prst="rect">
              <a:avLst/>
            </a:prstGeom>
            <a:solidFill>
              <a:srgbClr val="953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881840" y="3421080"/>
              <a:ext cx="190440" cy="846000"/>
            </a:xfrm>
            <a:prstGeom prst="rect">
              <a:avLst/>
            </a:prstGeom>
            <a:solidFill>
              <a:srgbClr val="953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538280" y="2193840"/>
            <a:ext cx="6343560" cy="2073240"/>
            <a:chOff x="1538280" y="2193840"/>
            <a:chExt cx="6343560" cy="2073240"/>
          </a:xfrm>
        </p:grpSpPr>
        <p:grpSp>
          <p:nvGrpSpPr>
            <p:cNvPr id="192" name=""/>
            <p:cNvGrpSpPr/>
            <p:nvPr/>
          </p:nvGrpSpPr>
          <p:grpSpPr>
            <a:xfrm>
              <a:off x="1538280" y="2193840"/>
              <a:ext cx="6162840" cy="2073240"/>
              <a:chOff x="1538280" y="2193840"/>
              <a:chExt cx="6162840" cy="2073240"/>
            </a:xfrm>
          </p:grpSpPr>
          <p:sp>
            <p:nvSpPr>
              <p:cNvPr id="193" name=""/>
              <p:cNvSpPr/>
              <p:nvPr/>
            </p:nvSpPr>
            <p:spPr>
              <a:xfrm>
                <a:off x="1538280" y="2193840"/>
                <a:ext cx="190440" cy="2073240"/>
              </a:xfrm>
              <a:prstGeom prst="rect">
                <a:avLst/>
              </a:prstGeom>
              <a:solidFill>
                <a:srgbClr val="eae9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2395440" y="2939400"/>
                <a:ext cx="190440" cy="1327320"/>
              </a:xfrm>
              <a:prstGeom prst="rect">
                <a:avLst/>
              </a:prstGeom>
              <a:solidFill>
                <a:srgbClr val="eae9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3243240" y="2939400"/>
                <a:ext cx="190440" cy="1327320"/>
              </a:xfrm>
              <a:prstGeom prst="rect">
                <a:avLst/>
              </a:prstGeom>
              <a:solidFill>
                <a:srgbClr val="eae9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100400" y="2530080"/>
                <a:ext cx="190440" cy="1736640"/>
              </a:xfrm>
              <a:prstGeom prst="rect">
                <a:avLst/>
              </a:prstGeom>
              <a:solidFill>
                <a:srgbClr val="eae9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4948200" y="2903040"/>
                <a:ext cx="190440" cy="1363680"/>
              </a:xfrm>
              <a:prstGeom prst="rect">
                <a:avLst/>
              </a:prstGeom>
              <a:solidFill>
                <a:srgbClr val="eae9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5805360" y="3666600"/>
                <a:ext cx="190800" cy="600120"/>
              </a:xfrm>
              <a:prstGeom prst="rect">
                <a:avLst/>
              </a:prstGeom>
              <a:solidFill>
                <a:srgbClr val="eae9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6653160" y="2193840"/>
                <a:ext cx="190440" cy="2073240"/>
              </a:xfrm>
              <a:prstGeom prst="rect">
                <a:avLst/>
              </a:prstGeom>
              <a:solidFill>
                <a:srgbClr val="eae9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7510320" y="3312360"/>
                <a:ext cx="190800" cy="954360"/>
              </a:xfrm>
              <a:prstGeom prst="rect">
                <a:avLst/>
              </a:prstGeom>
              <a:solidFill>
                <a:srgbClr val="eae9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"/>
            <p:cNvGrpSpPr/>
            <p:nvPr/>
          </p:nvGrpSpPr>
          <p:grpSpPr>
            <a:xfrm>
              <a:off x="1728720" y="3276720"/>
              <a:ext cx="6153120" cy="990360"/>
              <a:chOff x="1728720" y="3276720"/>
              <a:chExt cx="6153120" cy="990360"/>
            </a:xfrm>
          </p:grpSpPr>
          <p:sp>
            <p:nvSpPr>
              <p:cNvPr id="202" name=""/>
              <p:cNvSpPr/>
              <p:nvPr/>
            </p:nvSpPr>
            <p:spPr>
              <a:xfrm>
                <a:off x="5996160" y="4230360"/>
                <a:ext cx="180720" cy="3636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1728720" y="3503520"/>
                <a:ext cx="190440" cy="76320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2585880" y="3458160"/>
                <a:ext cx="181080" cy="80856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3433680" y="3749040"/>
                <a:ext cx="190440" cy="51768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4290840" y="3276720"/>
                <a:ext cx="181080" cy="99036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5138640" y="3421800"/>
                <a:ext cx="190440" cy="8449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6843600" y="3313080"/>
                <a:ext cx="190440" cy="9536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7701120" y="3485160"/>
                <a:ext cx="180720" cy="78156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0" name=""/>
          <p:cNvGrpSpPr/>
          <p:nvPr/>
        </p:nvGrpSpPr>
        <p:grpSpPr>
          <a:xfrm>
            <a:off x="1947960" y="5702400"/>
            <a:ext cx="114120" cy="350640"/>
            <a:chOff x="1947960" y="5702400"/>
            <a:chExt cx="114120" cy="350640"/>
          </a:xfrm>
        </p:grpSpPr>
        <p:sp>
          <p:nvSpPr>
            <p:cNvPr id="211" name=""/>
            <p:cNvSpPr/>
            <p:nvPr/>
          </p:nvSpPr>
          <p:spPr>
            <a:xfrm>
              <a:off x="1947960" y="5702400"/>
              <a:ext cx="106200" cy="114120"/>
            </a:xfrm>
            <a:prstGeom prst="rect">
              <a:avLst/>
            </a:prstGeom>
            <a:solidFill>
              <a:srgbClr val="eae9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947960" y="5938920"/>
              <a:ext cx="114120" cy="11412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1395360" y="4267080"/>
            <a:ext cx="6819840" cy="0"/>
          </a:xfrm>
          <a:prstGeom prst="line">
            <a:avLst/>
          </a:prstGeom>
          <a:ln w="28440">
            <a:solidFill>
              <a:srgbClr val="a19b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1508760" y="4816440"/>
            <a:ext cx="6679800" cy="547920"/>
            <a:chOff x="1508760" y="4816440"/>
            <a:chExt cx="6679800" cy="547920"/>
          </a:xfrm>
        </p:grpSpPr>
        <p:sp>
          <p:nvSpPr>
            <p:cNvPr id="215" name=""/>
            <p:cNvSpPr/>
            <p:nvPr/>
          </p:nvSpPr>
          <p:spPr>
            <a:xfrm>
              <a:off x="2319840" y="4816440"/>
              <a:ext cx="61200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1.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un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150720" y="4816440"/>
              <a:ext cx="72144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ima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edu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82040" y="4816440"/>
              <a:ext cx="53568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Gen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ar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883760" y="4816440"/>
              <a:ext cx="64548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hil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rtal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737680" y="4816440"/>
              <a:ext cx="64548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5.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tern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rtal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551640" y="4816440"/>
              <a:ext cx="74916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7.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7.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fe wat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424280" y="4816440"/>
              <a:ext cx="76428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7.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cess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nit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508760" y="4816440"/>
              <a:ext cx="61200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1.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Extrem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ver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2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00"/>
                            </p:stCondLst>
                            <p:childTnLst>
                              <p:par>
                                <p:cTn id="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1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"/>
                            </p:stCondLst>
                            <p:childTnLst>
                              <p:par>
                                <p:cTn id="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3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8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3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"/>
                            </p:stCondLst>
                            <p:childTnLst>
                              <p:par>
                                <p:cTn id="1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2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53735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000000"/>
                </a:solidFill>
                <a:latin typeface="Arial"/>
              </a:rPr>
              <a:t>Water, sanitation and other MD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Poverty </a:t>
            </a:r>
            <a:r>
              <a:rPr b="0" i="1" lang="fr-BE" sz="2800" spc="-1" strike="noStrike">
                <a:solidFill>
                  <a:srgbClr val="000000"/>
                </a:solidFill>
                <a:latin typeface="Arial"/>
              </a:rPr>
              <a:t>: W&amp;S brings health, productive time, economic opportunities and direct savings to the poor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Hunger</a:t>
            </a:r>
            <a:r>
              <a:rPr b="0" i="1" lang="fr-BE" sz="2800" spc="-1" strike="noStrike">
                <a:solidFill>
                  <a:srgbClr val="000000"/>
                </a:solidFill>
                <a:latin typeface="Arial"/>
              </a:rPr>
              <a:t> : W&amp;S improves nutrient uptake and allows for increased agricultural out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Primary Education</a:t>
            </a:r>
            <a:r>
              <a:rPr b="0" i="1" lang="fr-BE" sz="2800" spc="-1" strike="noStrike">
                <a:solidFill>
                  <a:srgbClr val="000000"/>
                </a:solidFill>
                <a:latin typeface="Arial"/>
              </a:rPr>
              <a:t> : W&amp;S in schools greatly improves school attendance, especially for adolescent gir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Gender Equality</a:t>
            </a:r>
            <a:r>
              <a:rPr b="0" i="1" lang="fr-BE" sz="2800" spc="-1" strike="noStrike">
                <a:solidFill>
                  <a:srgbClr val="000000"/>
                </a:solidFill>
                <a:latin typeface="Arial"/>
              </a:rPr>
              <a:t> : W&amp;S helps empower wom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W&amp;S and other MDG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Child Mortality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i="1" lang="fr-BE" sz="2800" spc="-1" strike="noStrike">
                <a:solidFill>
                  <a:srgbClr val="000000"/>
                </a:solidFill>
                <a:latin typeface="Arial"/>
              </a:rPr>
              <a:t>W&amp;S greatly reduces diarrhea – the single biggest killer of children in the developing wor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Maternal Mortality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i="1" lang="fr-BE" sz="2800" spc="-1" strike="noStrike">
                <a:solidFill>
                  <a:srgbClr val="000000"/>
                </a:solidFill>
                <a:latin typeface="Arial"/>
              </a:rPr>
              <a:t>W&amp;S during pregnancy and at maternal facility diminish maternal mort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Major Diseases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i="1" lang="fr-BE" sz="2800" spc="-1" strike="noStrike">
                <a:solidFill>
                  <a:srgbClr val="000000"/>
                </a:solidFill>
                <a:latin typeface="Arial"/>
              </a:rPr>
              <a:t>W&amp;S is the foundation of health and therefore a perequisite for addressing major dis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Environmental Sustainability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i="1" lang="fr-BE" sz="2800" spc="-1" strike="noStrike">
                <a:solidFill>
                  <a:srgbClr val="000000"/>
                </a:solidFill>
                <a:latin typeface="Arial"/>
              </a:rPr>
              <a:t>Water is the natural recipient of most poll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Council conclusions on MDGs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(14 June 2010) </a:t>
            </a:r>
            <a:br>
              <a:rPr sz="2400"/>
            </a:b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Preparing for UN MDG Summit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Focusing efforts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 : Special attention to countries most off-track, and developing countries that make firm commitments through their development policies and pl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EU recognises interdependence of progress on the different MDGs and the impact of off-track MDGs such as hunger, child and maternal health, and </a:t>
            </a: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sanitation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12-POINT EU ACTION 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id promises – a pathway to 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effective aid means better value for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f-track countries and “fragile first", starting with Hait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DGs in key sectors: hunger, heath, education, gen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"donorship" to ownership – with countries and with Af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ing other EU policies coherent for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omestic taxation capac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lobal and regional trade capac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novative financ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limate change: a test 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velopment and secu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forming global gover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12-POINT EU ACTION PLAN</a:t>
            </a:r>
            <a:br>
              <a:rPr sz="3200"/>
            </a:br>
            <a:r>
              <a:rPr b="0" lang="en-GB" sz="3200" spc="-1" strike="noStrike">
                <a:solidFill>
                  <a:srgbClr val="009999"/>
                </a:solidFill>
                <a:latin typeface="Arial"/>
              </a:rPr>
              <a:t>4.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MDGs in key sectors: hunger, heath, education, ge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22960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lth - national health systems and GFA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ion – focus on quality – with governments and through Fast Track Initi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od security – sustainable smallhold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der – apply OECD’s ‘policy marker’ to all MDG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arch  - priority funding for health and food security in EU program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9T06:20:02Z</dcterms:created>
  <dc:creator>liebaan</dc:creator>
  <dc:description/>
  <dc:language>en-US</dc:language>
  <cp:lastModifiedBy>liebaan</cp:lastModifiedBy>
  <dcterms:modified xsi:type="dcterms:W3CDTF">2010-07-07T05:57:13Z</dcterms:modified>
  <cp:revision>7</cp:revision>
  <dc:subject/>
  <dc:title>Slide 1</dc:title>
</cp:coreProperties>
</file>