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B7E99-8B7F-4B31-8F7B-674683F10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CA8DA-58F3-4D3A-A434-C96085819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05D28-B9E3-42C7-B7CC-0E94295F2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B267E-CD59-48DE-8DE8-1EF8E5B81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61EFA8-E6AE-4645-988A-627377D333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3FECCC-552B-451B-A5CB-F85F0DC2CE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1B0B3D-584E-4629-8D54-0C385D2E39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C5531-80DB-4DAC-8A39-DC9EC953AF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2CF86E-A033-478F-ADF4-7B52F5CB12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8B948-E726-4EC6-AEE9-EBE14DE272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98A57-50C8-44D3-A5CC-1C628DE53A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C6683-D870-4FA5-ABC6-E8CF37BC8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65E7F7-854E-482E-8A65-F1346D1FE6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872E43-C23C-476D-B006-1F9020C77C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C4E29F-02A6-4303-8892-23EEB590D3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C09B39-F898-470D-B6A2-8BDC5C6391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10BBA6-AE30-41DA-96F1-B2393F865B3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DD6F-D225-439D-A6DB-C5EBF4EA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7D5BE-308C-4B7B-842F-F2795193B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A234-2DEE-4E20-8A79-872A16438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C144B-468E-4749-8ABD-A0B8354A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A000-83FE-41C8-A99C-A9FFE5D5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3316-05B4-485D-B1FC-7B96B7DF0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CADB2-871E-43AB-9C8F-516651494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3291FB5C-236B-4AC8-932F-A35DBE385F12}" type="datetime11">
              <a:rPr b="0" lang="en-US" sz="1400" spc="-1" strike="noStrike">
                <a:solidFill>
                  <a:srgbClr val="ffffff"/>
                </a:solidFill>
                <a:latin typeface="Times New Roman"/>
              </a:rPr>
              <a:t>17:52:3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BC27-ABEE-4A5A-9A26-8D985A3C30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9EC5-F01E-4F7B-8860-C80A89D4AD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B6D8D9A9-C4E0-42ED-950B-C4F67BDEB8F5}" type="datetime11">
              <a:rPr b="0" lang="en-US" sz="1400" spc="-1" strike="noStrike">
                <a:solidFill>
                  <a:srgbClr val="ffffff"/>
                </a:solidFill>
                <a:latin typeface="Times New Roman"/>
              </a:rPr>
              <a:t>17:52:39</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508491D-B7BB-4B8A-A27E-60D36FFCD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377F4BE-EE0C-4543-B167-ACD9025CE7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3C3F232-1AD7-4B4D-98EF-046E06388A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B7D2A70-5BF7-43E0-918C-A64321EC94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BCC01F2E-64A1-4FB9-A999-9A0DE6777F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FDDEF5A-9DFD-46F5-9270-2D49120BBC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FC50D56-9280-4A77-A1AF-F2712CD251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C4C76D9-8212-4338-92E0-FADBD3E88C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7E81F3A3-0EE3-4D92-9715-42FA055BC475}"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978F79B-6484-480A-9684-90BD64BF42E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F9CDB14-3902-4B50-8618-3BA5AF5992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3D28FFE-3400-4916-BB8F-DECC6C1BDE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BA0006D-76F6-4009-81F0-A8D59B833C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5A0A9F7-3E63-4EE4-8886-3D85594E19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02118A7-BE89-441C-BF42-A90815CCE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8494D28-14B3-49CB-B088-06D039184C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5949A9A-A0D4-467A-A136-A5FF9C3646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