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33B88-E23D-49D2-A4A5-1D24A077F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355A0-3D23-41E1-A114-1BB043E9F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0257A-AAA5-42BF-A6F7-CB8F7C9B1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01DF7-E41C-410F-A117-6A8FE4E72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682215-08DF-4283-BDD7-9E9E859CCF2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2CBE6C-3378-4039-A34C-8EDA14F4ECB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260F01-CCAC-4845-B970-04E90EC1FEC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5C190A-BE90-4188-A87E-1CA5D26C03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D20BE1-26D3-49F8-B2E7-81025A07A0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7D0CA7-3497-446F-BE45-0F577F1E08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F2055E-00C4-4CC5-85A8-68EA3431E9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3C26F-F609-4BD1-97EA-E51B96348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0B14E1-F5FD-4E33-AF5C-B781B9402C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9207F4-E9AC-4259-A61C-F02298C533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115B57-111F-4EE4-96BF-C9A00DEAE3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E56936-A3BF-4675-8E29-393CCBFC295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5FF4B5-BF4A-4FBE-9E37-9992D1C3BF7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32C16-F360-4D3D-8956-760114046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F6863-ABDD-491E-AC6A-9C01AE61B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5BEC6-9F38-46F4-9871-D1E937133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A6FFA-137A-4CB5-B38D-93080FFE9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A5123-3454-4D4A-BADF-B297FF8CF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2652D-5E18-4938-A256-3FCE6D4E0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517B9-6D9C-40E4-85EA-14DCA778B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A2E4DCC6-5EF9-4B78-991A-71E42FCCFD47}" type="datetime11">
              <a:rPr b="0" lang="en-US" sz="1400" spc="-1" strike="noStrike">
                <a:solidFill>
                  <a:srgbClr val="ffffff"/>
                </a:solidFill>
                <a:latin typeface="Times New Roman"/>
              </a:rPr>
              <a:t>17:52:0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5560-9ED9-4F06-89D6-CF5F1D4C03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206F-5D27-4356-98F8-CC514EA6C6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730B2715-90DF-45DE-AFAF-8F313230232B}" type="datetime11">
              <a:rPr b="0" lang="en-US" sz="1400" spc="-1" strike="noStrike">
                <a:solidFill>
                  <a:srgbClr val="ffffff"/>
                </a:solidFill>
                <a:latin typeface="Times New Roman"/>
              </a:rPr>
              <a:t>17:52:06</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8C72B92-A4ED-4E26-95BE-52F2AF6682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E222F38-A2B4-47DE-A647-09D3D73015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FE81F76-4FBF-420B-8DA2-B7A8453763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E985AF1-DFC7-4433-B49D-4BAA6BE29C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F5D4C570-659E-40EC-A3E1-2D9CF099C8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B0F3696-634C-49F8-B4CE-50382FDBA1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2C3F2D8-C374-457E-9F5A-9DABF838CB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D1C04CA-5798-43E7-B908-8C2F2DA02E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3C99FF83-0278-4358-BDAF-DC9F5DB4A04C}"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2007FB4-35A5-4F20-970D-E4C899FBBA9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743C333-2B97-4359-8B35-386502BE59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88FD1C0-8319-46C5-B0BF-05BA3D4DCE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1FB4ED1-6DAB-459A-A4B5-A295018099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88A789E-FAB4-4725-A67F-6667454BEA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8701244-4BA0-47F3-9A31-CD90887833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6DA8B0A-3D00-41C4-BA22-B080A568FE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2EC1628-66E0-423F-AB32-8AB01C41B3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