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4AB5-388E-49D8-93C0-B4D571BF5B5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EF91-81BC-4CBF-ADE4-BB126E1D80C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EDB3-6E83-4C96-82E0-CCAF9AB36BD8}" type="datetime">
              <a:rPr b="0" lang="en-US" sz="1200" spc="-1" strike="noStrike">
                <a:solidFill>
                  <a:srgbClr val="ffffff"/>
                </a:solidFill>
                <a:latin typeface="Verdana"/>
              </a:rPr>
              <a:t>07/30/26</a:t>
            </a:fld>
            <a:r>
              <a:rPr b="0" lang="en-US" sz="1200" spc="-1" strike="noStrike">
                <a:solidFill>
                  <a:srgbClr val="ffffff"/>
                </a:solidFill>
                <a:latin typeface="Verdana"/>
              </a:rPr>
              <a:t> </a:t>
            </a:r>
            <a:fld id="{F87D29B6-05C4-49BF-90C4-6E16F650BCCF}"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5709-7569-418B-A572-6EC1CC97C5C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FAD0-9A0B-4740-992F-253B25421B79}" type="datetime">
              <a:rPr b="0" lang="en-US" sz="1200" spc="-1" strike="noStrike">
                <a:solidFill>
                  <a:srgbClr val="ffffff"/>
                </a:solidFill>
                <a:latin typeface="Verdana"/>
              </a:rPr>
              <a:t>07/30/26</a:t>
            </a:fld>
            <a:r>
              <a:rPr b="0" lang="en-US" sz="1200" spc="-1" strike="noStrike">
                <a:solidFill>
                  <a:srgbClr val="ffffff"/>
                </a:solidFill>
                <a:latin typeface="Verdana"/>
              </a:rPr>
              <a:t> </a:t>
            </a:r>
            <a:fld id="{ADD51DFD-6BDA-470D-B0CE-3C5B0B232A74}"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348B-C8A7-4AAD-B54B-FECD79D265C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C984-E3BF-4E8F-A047-437D741FADB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1726-32FA-47F8-ACC4-8377613F799E}" type="datetime">
              <a:rPr b="0" lang="en-US" sz="1200" spc="-1" strike="noStrike">
                <a:solidFill>
                  <a:srgbClr val="ffffff"/>
                </a:solidFill>
                <a:latin typeface="Verdana"/>
              </a:rPr>
              <a:t>07/30/26</a:t>
            </a:fld>
            <a:r>
              <a:rPr b="0" lang="en-US" sz="1200" spc="-1" strike="noStrike">
                <a:solidFill>
                  <a:srgbClr val="ffffff"/>
                </a:solidFill>
                <a:latin typeface="Verdana"/>
              </a:rPr>
              <a:t> </a:t>
            </a:r>
            <a:fld id="{B0147FF1-B421-45BD-9395-5E9395390D83}"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7D30-C2FA-4B2E-819D-ECE985A83FF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E3EB-100F-4300-99C3-51DD4A543AE7}" type="datetime">
              <a:rPr b="0" lang="en-US" sz="1200" spc="-1" strike="noStrike">
                <a:solidFill>
                  <a:srgbClr val="ffffff"/>
                </a:solidFill>
                <a:latin typeface="Verdana"/>
              </a:rPr>
              <a:t>07/30/26</a:t>
            </a:fld>
            <a:r>
              <a:rPr b="0" lang="en-US" sz="1200" spc="-1" strike="noStrike">
                <a:solidFill>
                  <a:srgbClr val="ffffff"/>
                </a:solidFill>
                <a:latin typeface="Verdana"/>
              </a:rPr>
              <a:t> </a:t>
            </a:r>
            <a:fld id="{EC75DFAF-F5B3-413B-8D7B-2D53DDB833F7}"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3754-5326-47A7-93E3-7853F6CE909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DC9F-4553-477D-A59E-05AAD0E7BCA0}" type="datetime">
              <a:rPr b="0" lang="en-US" sz="1200" spc="-1" strike="noStrike">
                <a:solidFill>
                  <a:srgbClr val="ffffff"/>
                </a:solidFill>
                <a:latin typeface="Verdana"/>
              </a:rPr>
              <a:t>07/30/26</a:t>
            </a:fld>
            <a:r>
              <a:rPr b="0" lang="en-US" sz="1200" spc="-1" strike="noStrike">
                <a:solidFill>
                  <a:srgbClr val="ffffff"/>
                </a:solidFill>
                <a:latin typeface="Verdana"/>
              </a:rPr>
              <a:t> </a:t>
            </a:r>
            <a:fld id="{83736BCD-5462-48B2-B574-4FC7164731E5}"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6A0F-9CD5-4426-99F0-A88D4F7B3DB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528E-D393-4B11-B3D5-44B7ADD336CD}" type="datetime">
              <a:rPr b="0" lang="en-US" sz="1200" spc="-1" strike="noStrike">
                <a:solidFill>
                  <a:srgbClr val="ffffff"/>
                </a:solidFill>
                <a:latin typeface="Verdana"/>
              </a:rPr>
              <a:t>07/30/26</a:t>
            </a:fld>
            <a:r>
              <a:rPr b="0" lang="en-US" sz="1200" spc="-1" strike="noStrike">
                <a:solidFill>
                  <a:srgbClr val="ffffff"/>
                </a:solidFill>
                <a:latin typeface="Verdana"/>
              </a:rPr>
              <a:t> </a:t>
            </a:r>
            <a:fld id="{5F7A75F5-4F28-42DF-84E5-D193912BC271}"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2D3D-3B61-4F4C-91D5-ACAABCEB046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8DEC-42F2-4369-BC1D-5FBBADC32677}" type="datetime">
              <a:rPr b="0" lang="en-US" sz="1200" spc="-1" strike="noStrike">
                <a:solidFill>
                  <a:srgbClr val="ffffff"/>
                </a:solidFill>
                <a:latin typeface="Verdana"/>
              </a:rPr>
              <a:t>07/30/26</a:t>
            </a:fld>
            <a:r>
              <a:rPr b="0" lang="en-US" sz="1200" spc="-1" strike="noStrike">
                <a:solidFill>
                  <a:srgbClr val="ffffff"/>
                </a:solidFill>
                <a:latin typeface="Verdana"/>
              </a:rPr>
              <a:t> </a:t>
            </a:r>
            <a:fld id="{04397992-AD0A-44F4-86A0-98BD48BEF495}"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FAFD-806A-4BB4-A33F-40BEFB16D4A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C20A-0D4C-47D4-8109-42123D46A461}" type="datetime">
              <a:rPr b="0" lang="en-US" sz="1200" spc="-1" strike="noStrike">
                <a:solidFill>
                  <a:srgbClr val="ffffff"/>
                </a:solidFill>
                <a:latin typeface="Verdana"/>
              </a:rPr>
              <a:t>07/30/26</a:t>
            </a:fld>
            <a:r>
              <a:rPr b="0" lang="en-US" sz="1200" spc="-1" strike="noStrike">
                <a:solidFill>
                  <a:srgbClr val="ffffff"/>
                </a:solidFill>
                <a:latin typeface="Verdana"/>
              </a:rPr>
              <a:t> </a:t>
            </a:r>
            <a:fld id="{52FA1A09-ECE8-494C-9BF6-DEC05C4D3B22}"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382E-B440-47F4-94FE-86170AC1E97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00AE-F453-446D-93A7-90FE6352937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B63B-5FE2-4E1A-AF3A-88A391F406C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2057-F101-4367-A622-D34F4F1C2C9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D1E4-BB24-4FD7-AF75-41F7F7486DD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CBF6-53D7-4435-8F55-14EDC98031AF}" type="datetime">
              <a:rPr b="0" lang="en-US" sz="1200" spc="-1" strike="noStrike">
                <a:solidFill>
                  <a:srgbClr val="ffffff"/>
                </a:solidFill>
                <a:latin typeface="Verdana"/>
              </a:rPr>
              <a:t>07/30/26</a:t>
            </a:fld>
            <a:r>
              <a:rPr b="0" lang="en-US" sz="1200" spc="-1" strike="noStrike">
                <a:solidFill>
                  <a:srgbClr val="ffffff"/>
                </a:solidFill>
                <a:latin typeface="Verdana"/>
              </a:rPr>
              <a:t> </a:t>
            </a:r>
            <a:fld id="{5D0DB28A-E0BA-4D54-B5E7-7A621729F9E3}"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7C70-56BD-4225-A49D-CC9906D2B13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41F3-461E-4FA4-A127-13750827E612}" type="datetime">
              <a:rPr b="0" lang="en-US" sz="1200" spc="-1" strike="noStrike">
                <a:solidFill>
                  <a:srgbClr val="ffffff"/>
                </a:solidFill>
                <a:latin typeface="Verdana"/>
              </a:rPr>
              <a:t>07/30/26</a:t>
            </a:fld>
            <a:r>
              <a:rPr b="0" lang="en-US" sz="1200" spc="-1" strike="noStrike">
                <a:solidFill>
                  <a:srgbClr val="ffffff"/>
                </a:solidFill>
                <a:latin typeface="Verdana"/>
              </a:rPr>
              <a:t> </a:t>
            </a:r>
            <a:fld id="{882236FF-EAE6-44E8-A35C-A6D1DE404371}"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F9B1-D12E-403E-9FD0-C6BEE9E02B7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4F0A-96E7-45E3-8031-783FDC8FACA3}" type="datetime">
              <a:rPr b="0" lang="en-US" sz="1200" spc="-1" strike="noStrike">
                <a:solidFill>
                  <a:srgbClr val="ffffff"/>
                </a:solidFill>
                <a:latin typeface="Verdana"/>
              </a:rPr>
              <a:t>07/30/26</a:t>
            </a:fld>
            <a:r>
              <a:rPr b="0" lang="en-US" sz="1200" spc="-1" strike="noStrike">
                <a:solidFill>
                  <a:srgbClr val="ffffff"/>
                </a:solidFill>
                <a:latin typeface="Verdana"/>
              </a:rPr>
              <a:t> </a:t>
            </a:r>
            <a:fld id="{C59C95E8-0846-40B5-BD0D-C9ABF48FB5AE}" type="datetime10">
              <a:rPr b="0" lang="en-US" sz="1200" spc="-1" strike="noStrike">
                <a:solidFill>
                  <a:srgbClr val="ffffff"/>
                </a:solidFill>
                <a:latin typeface="Verdana"/>
              </a:rPr>
              <a:t>17:47</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9C81-C718-428C-8A2E-BDEDDFA0FB2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C0B44-8B98-414D-9AE6-8CFA4CA40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935ED-B53A-4B79-829A-82CDE206F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45A4C-F0D2-439F-8CB3-842783378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D0D9D-526E-43CD-8757-AF107C26E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DE141-1038-472E-9367-50F558DCD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C84A8-C93E-4EF4-B511-259B5E73F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29660-7B4C-4047-BFEA-E79638BFD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D1919-9332-4A36-8CBD-24B5EADC2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E0433-3048-4C42-970D-D5762D0AE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3373A-1E18-4684-A533-45B61663C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908F1-AD8A-435E-9FBB-48C2CAD20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EDBB1-5266-4364-AC1A-32D140550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3108B-F327-495E-842B-BFEC81468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A8B42-0DB4-4084-8441-CFF50827C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72C2C-44F8-4E76-8B63-9A6AD75D8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58F6B-B7B9-44F6-B7DA-81A38A717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343EF-53A5-4AEB-AA31-138CBD3AB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96787-69D3-42AA-8349-CEC77E630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31DEF-85FF-4801-8728-32954A41A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236BE-816C-4674-99EF-0B6277119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79F08-F6AF-4EB7-B40A-169B294F6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0230-2F49-4285-8A97-4AE072CA4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A9DA9-6DFF-4D27-A858-1B05614B2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136EC-0E0F-47E2-AEED-EBFE8471D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0C4D-C5AA-428C-9255-CDDA674BEEF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8C63-6F86-4862-94B8-AC429D276FC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FC30-D32E-4465-AD98-B434D9029E19}"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