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29BC-7D63-4F30-A742-0061E577A5A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4D62-A318-4183-806A-207974CC07C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6BD0-1B15-489D-94D1-19DCFE5D73AD}" type="datetime">
              <a:rPr b="0" lang="en-US" sz="1200" spc="-1" strike="noStrike">
                <a:solidFill>
                  <a:srgbClr val="ffffff"/>
                </a:solidFill>
                <a:latin typeface="Verdana"/>
              </a:rPr>
              <a:t>07/29/26</a:t>
            </a:fld>
            <a:r>
              <a:rPr b="0" lang="en-US" sz="1200" spc="-1" strike="noStrike">
                <a:solidFill>
                  <a:srgbClr val="ffffff"/>
                </a:solidFill>
                <a:latin typeface="Verdana"/>
              </a:rPr>
              <a:t> </a:t>
            </a:r>
            <a:fld id="{5481ED77-5D75-49C2-86CF-B099A2383339}"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B411-B104-4A85-A316-D76B50D85C1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A0E4-CFD3-490C-B15A-8BF6DA169AE7}" type="datetime">
              <a:rPr b="0" lang="en-US" sz="1200" spc="-1" strike="noStrike">
                <a:solidFill>
                  <a:srgbClr val="ffffff"/>
                </a:solidFill>
                <a:latin typeface="Verdana"/>
              </a:rPr>
              <a:t>07/29/26</a:t>
            </a:fld>
            <a:r>
              <a:rPr b="0" lang="en-US" sz="1200" spc="-1" strike="noStrike">
                <a:solidFill>
                  <a:srgbClr val="ffffff"/>
                </a:solidFill>
                <a:latin typeface="Verdana"/>
              </a:rPr>
              <a:t> </a:t>
            </a:r>
            <a:fld id="{1D15FCF4-5905-4630-9A4C-9C886D84B928}"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5D8C-5D50-48D4-B4E9-C2FEEC784BB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0461-4BD7-4D65-8F5A-96AE7DDCA51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5DA2-9BCE-4458-91F3-AE8B56074C9B}" type="datetime">
              <a:rPr b="0" lang="en-US" sz="1200" spc="-1" strike="noStrike">
                <a:solidFill>
                  <a:srgbClr val="ffffff"/>
                </a:solidFill>
                <a:latin typeface="Verdana"/>
              </a:rPr>
              <a:t>07/29/26</a:t>
            </a:fld>
            <a:r>
              <a:rPr b="0" lang="en-US" sz="1200" spc="-1" strike="noStrike">
                <a:solidFill>
                  <a:srgbClr val="ffffff"/>
                </a:solidFill>
                <a:latin typeface="Verdana"/>
              </a:rPr>
              <a:t> </a:t>
            </a:r>
            <a:fld id="{5D99BBAF-B808-4DA8-BFED-F36F2E76B1EA}"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79F1-475F-43E1-AD90-E68587BA580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3AD5-6E41-479A-9419-E9F5B2BDD1EB}" type="datetime">
              <a:rPr b="0" lang="en-US" sz="1200" spc="-1" strike="noStrike">
                <a:solidFill>
                  <a:srgbClr val="ffffff"/>
                </a:solidFill>
                <a:latin typeface="Verdana"/>
              </a:rPr>
              <a:t>07/29/26</a:t>
            </a:fld>
            <a:r>
              <a:rPr b="0" lang="en-US" sz="1200" spc="-1" strike="noStrike">
                <a:solidFill>
                  <a:srgbClr val="ffffff"/>
                </a:solidFill>
                <a:latin typeface="Verdana"/>
              </a:rPr>
              <a:t> </a:t>
            </a:r>
            <a:fld id="{BA8611F0-9A09-45AD-9772-7D2110EAFC12}"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FC24-C2A1-4769-B7AC-34BAFD27305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BB20-24D3-41A3-85F1-FCA2C1F81A8C}" type="datetime">
              <a:rPr b="0" lang="en-US" sz="1200" spc="-1" strike="noStrike">
                <a:solidFill>
                  <a:srgbClr val="ffffff"/>
                </a:solidFill>
                <a:latin typeface="Verdana"/>
              </a:rPr>
              <a:t>07/29/26</a:t>
            </a:fld>
            <a:r>
              <a:rPr b="0" lang="en-US" sz="1200" spc="-1" strike="noStrike">
                <a:solidFill>
                  <a:srgbClr val="ffffff"/>
                </a:solidFill>
                <a:latin typeface="Verdana"/>
              </a:rPr>
              <a:t> </a:t>
            </a:r>
            <a:fld id="{B8EC7321-7239-4252-8AE0-E9CCAA34CBD3}"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0A23-F4AB-49FE-9422-4A0BAAE1026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EA2A-C4BE-4CF4-9480-056BBBAB9813}" type="datetime">
              <a:rPr b="0" lang="en-US" sz="1200" spc="-1" strike="noStrike">
                <a:solidFill>
                  <a:srgbClr val="ffffff"/>
                </a:solidFill>
                <a:latin typeface="Verdana"/>
              </a:rPr>
              <a:t>07/29/26</a:t>
            </a:fld>
            <a:r>
              <a:rPr b="0" lang="en-US" sz="1200" spc="-1" strike="noStrike">
                <a:solidFill>
                  <a:srgbClr val="ffffff"/>
                </a:solidFill>
                <a:latin typeface="Verdana"/>
              </a:rPr>
              <a:t> </a:t>
            </a:r>
            <a:fld id="{A3D5DEDF-D31D-4408-9FE4-F0F918CE1FB3}"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0A9C-58EC-4EAE-897D-C13D56516E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67D7-2871-40CB-988A-5A5E254C0894}" type="datetime">
              <a:rPr b="0" lang="en-US" sz="1200" spc="-1" strike="noStrike">
                <a:solidFill>
                  <a:srgbClr val="ffffff"/>
                </a:solidFill>
                <a:latin typeface="Verdana"/>
              </a:rPr>
              <a:t>07/29/26</a:t>
            </a:fld>
            <a:r>
              <a:rPr b="0" lang="en-US" sz="1200" spc="-1" strike="noStrike">
                <a:solidFill>
                  <a:srgbClr val="ffffff"/>
                </a:solidFill>
                <a:latin typeface="Verdana"/>
              </a:rPr>
              <a:t> </a:t>
            </a:r>
            <a:fld id="{34F06A0E-2CAA-4D59-B4E4-6D4683A9CE58}"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60C1-EDD5-4111-9D18-C32B1D3D2C6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B29E-11DC-49D3-A254-001F9DF6B11C}" type="datetime">
              <a:rPr b="0" lang="en-US" sz="1200" spc="-1" strike="noStrike">
                <a:solidFill>
                  <a:srgbClr val="ffffff"/>
                </a:solidFill>
                <a:latin typeface="Verdana"/>
              </a:rPr>
              <a:t>07/29/26</a:t>
            </a:fld>
            <a:r>
              <a:rPr b="0" lang="en-US" sz="1200" spc="-1" strike="noStrike">
                <a:solidFill>
                  <a:srgbClr val="ffffff"/>
                </a:solidFill>
                <a:latin typeface="Verdana"/>
              </a:rPr>
              <a:t> </a:t>
            </a:r>
            <a:fld id="{295E6427-5201-4090-A523-E1CFDE242D15}"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83BE-AE48-4C12-8536-4CA4660D9EF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BFB9-4796-4DF6-8B01-B32FC592E2E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76E2-C9E9-4B54-B00B-006248A7790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8342-82A6-4793-8503-526D0FDDA25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B221-792D-41E1-8717-0A2EFF4CFA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3267-A617-410B-8305-1CB4A0A457AC}" type="datetime">
              <a:rPr b="0" lang="en-US" sz="1200" spc="-1" strike="noStrike">
                <a:solidFill>
                  <a:srgbClr val="ffffff"/>
                </a:solidFill>
                <a:latin typeface="Verdana"/>
              </a:rPr>
              <a:t>07/29/26</a:t>
            </a:fld>
            <a:r>
              <a:rPr b="0" lang="en-US" sz="1200" spc="-1" strike="noStrike">
                <a:solidFill>
                  <a:srgbClr val="ffffff"/>
                </a:solidFill>
                <a:latin typeface="Verdana"/>
              </a:rPr>
              <a:t> </a:t>
            </a:r>
            <a:fld id="{53472927-3F68-4BE1-A34C-C95B49A8E623}"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F709-5B95-427F-BB0F-CAB8C769A05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B145-6F7A-4E53-B822-452576643EA0}" type="datetime">
              <a:rPr b="0" lang="en-US" sz="1200" spc="-1" strike="noStrike">
                <a:solidFill>
                  <a:srgbClr val="ffffff"/>
                </a:solidFill>
                <a:latin typeface="Verdana"/>
              </a:rPr>
              <a:t>07/29/26</a:t>
            </a:fld>
            <a:r>
              <a:rPr b="0" lang="en-US" sz="1200" spc="-1" strike="noStrike">
                <a:solidFill>
                  <a:srgbClr val="ffffff"/>
                </a:solidFill>
                <a:latin typeface="Verdana"/>
              </a:rPr>
              <a:t> </a:t>
            </a:r>
            <a:fld id="{A02AECF2-34EA-4CAC-811D-C1EE66BAB418}"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222A-5E92-4928-9911-EC055324639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07D3-1A07-4856-B1E6-D4E6E497FA2B}" type="datetime">
              <a:rPr b="0" lang="en-US" sz="1200" spc="-1" strike="noStrike">
                <a:solidFill>
                  <a:srgbClr val="ffffff"/>
                </a:solidFill>
                <a:latin typeface="Verdana"/>
              </a:rPr>
              <a:t>07/29/26</a:t>
            </a:fld>
            <a:r>
              <a:rPr b="0" lang="en-US" sz="1200" spc="-1" strike="noStrike">
                <a:solidFill>
                  <a:srgbClr val="ffffff"/>
                </a:solidFill>
                <a:latin typeface="Verdana"/>
              </a:rPr>
              <a:t> </a:t>
            </a:r>
            <a:fld id="{3D2A13D0-BB98-4827-B423-A5B8DFCE343F}"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40F6-18DC-40F1-B180-4749DF66EBE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90A88-2793-4B97-A630-9E0AC6386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3F8C-E5C8-4518-8587-5D201FB66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709DA-8299-420A-ADCB-801054081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644A7-4C9F-46A0-A0EA-256236AC7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BFE26-9549-4B16-B993-EBD7DF2DE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B4C8B-F168-4072-BC24-0E72B5612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4AA08-BAD6-4577-A67B-DBCF502C0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7C098-BF72-412A-A601-E0EFAAFC0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CC2D9-675E-47FF-8E2A-5CBC447BF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C8991-4397-4A26-8D0E-3D4D2BBE4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7928E-EE5B-43F9-8328-5410E2E5B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A81CB-7BE5-4956-AED8-560F5ED97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85A4B-329A-4724-A033-3ED669818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072DE-F10E-4237-BFDA-A860C80F2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231EC-3BEF-4615-A85D-33F926461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55CCE-E3A5-4DE6-9FC2-0E0326801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28AD1-5420-4A62-9322-F1AC2C836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16FAF-DEB0-453A-9686-9E37D8B13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943B3-8017-4F1F-867D-1B10B9893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65C05-4380-44E5-A879-03E504942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CE7F2-2E7E-4868-AACF-97269B761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88721-D5AD-44F0-A5DA-BF2827AF9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0B2BF-6491-4B10-8E9B-D570889EB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E6A7B-0805-4B75-A3DE-269E4E9F8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DCE9-4B9E-4B05-B314-26F3A7CF1D3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3862-EC4A-4BB0-9EC6-6764C75DA8C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D18A-7575-43CB-A1BE-253660B3802D}"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