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8D7D-01F1-4B86-A099-D20442C1D0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F74B-70B4-443F-A915-2EDECB6137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272E-6D90-44D5-97CF-0EF9C53118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8312-4137-4782-AEE1-ABB6F04729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855F-F391-4F5A-B4BC-D82A1F9BFC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FCF1-11CE-4FEA-A8C3-E0D5DAFBD1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1B18-8A18-412F-9221-4BB5E38D07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840B-22FE-446C-A585-D5D551883D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75C3-2D4B-4F28-8C7B-1D2E920B8F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45ED-4A4B-4382-AFA8-2DC2646024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2E1B3-6C71-471B-92D2-7F66A277CC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6CC5-643F-473D-B941-B7F437F036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6DB5-C0C5-4752-A0B2-391A3B8EB1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F40A-03C5-4CCA-B885-B4A749CE02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D796-A14F-4D91-9C17-3A14F57221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D8CE-B47C-4A26-9984-F4A2B39FB8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9882-8182-4E67-B873-3DC44E7666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1A02-8B2D-4B9B-90D8-10B12DE148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72DD-C659-4EC4-92BA-6D4A28E90D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5223-0905-458E-B291-8DC7B88A65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D4BC-111B-4BFA-8DBD-C91CCCC44B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E856-5837-4B10-802B-3E7F964D3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A5E3-E36A-407B-A396-F8685516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75FE-5DF4-4F9D-90BF-DEBF964BD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CE50-7DEB-400A-8F20-CA2C38C6F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E5ED-6A26-4602-90A4-9A1A0C24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0A62-C12C-4F21-88A8-B5217D6A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D056-590C-45E2-B29F-B8D5C36E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CFFB-DBD9-4501-BB14-156A7633E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120B-96D2-4FE8-BD90-AC4C3906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F4EB-88A3-4BEB-8BB7-A304419C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358F-32C0-4F37-92E0-32EC0105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AFF0-9CE0-44B3-9FCD-A729F546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2035-2625-417E-874C-799773CDC9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493B-99CB-4643-8EE9-DB6D519C0A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642960" y="357120"/>
            <a:ext cx="807228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8ed5"/>
                </a:solidFill>
                <a:latin typeface="Calibri"/>
              </a:rPr>
              <a:t>Water Services Trust Fu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Urban Projects Concept (UP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859c"/>
                </a:solidFill>
                <a:latin typeface="Calibri"/>
              </a:rPr>
              <a:t>Fast-tracking &amp; up scaling provision of water and sanitation services to the urban 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42960" y="2071800"/>
            <a:ext cx="78166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Eng. Jacqueline Musyok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CEO of the WS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4714920" y="2924280"/>
            <a:ext cx="3844800" cy="3097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09DD-4CC9-491B-97D4-C56E5E2CB0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8ABB-39CC-4969-8E8C-48B67E07FE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285840" y="214200"/>
            <a:ext cx="47862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57200" y="1000080"/>
            <a:ext cx="790092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oval and awarding of 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implementation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P and the W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Field Monitors of the WSTF provide support and are part of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ulti-Stakeholder Project Task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5. Proposal Awarding by WSTF.jpg"/>
          <p:cNvPicPr/>
          <p:nvPr/>
        </p:nvPicPr>
        <p:blipFill>
          <a:blip r:embed="rId2"/>
          <a:stretch/>
        </p:blipFill>
        <p:spPr>
          <a:xfrm>
            <a:off x="5286240" y="214200"/>
            <a:ext cx="32306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27" name="Picture 8" descr="6b.Project Implementaton (Community Sensitisation).jpg"/>
          <p:cNvPicPr/>
          <p:nvPr/>
        </p:nvPicPr>
        <p:blipFill>
          <a:blip r:embed="rId3"/>
          <a:stretch/>
        </p:blipFill>
        <p:spPr>
          <a:xfrm>
            <a:off x="5214960" y="2786040"/>
            <a:ext cx="3286080" cy="2428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767F-D771-4897-BCD1-DF0BE08908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42920" y="142920"/>
            <a:ext cx="4572000" cy="706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5286240" y="571680"/>
            <a:ext cx="3356280" cy="25714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35" name="Picture 8" descr="8. Project Evaluation.jpg"/>
          <p:cNvPicPr/>
          <p:nvPr/>
        </p:nvPicPr>
        <p:blipFill>
          <a:blip r:embed="rId3"/>
          <a:stretch/>
        </p:blipFill>
        <p:spPr>
          <a:xfrm>
            <a:off x="5283360" y="3500280"/>
            <a:ext cx="33494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36" name="Rectangle 3"/>
          <p:cNvSpPr/>
          <p:nvPr/>
        </p:nvSpPr>
        <p:spPr>
          <a:xfrm>
            <a:off x="142920" y="92880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ration of the pro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.    Evaluation of the project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TF or by external evalua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valuation should be participativ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nvolve the residents  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7A04-3B52-447C-873D-CA9411F21D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500040" y="214200"/>
            <a:ext cx="800100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428760" y="1071720"/>
            <a:ext cx="790092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WSTF has developed a number support produ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UPC Brochure &amp; UPC 8-Step Ch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Water Supply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Public Sanitation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ource -  the water and sanitation literature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quaPix  -    the urban pictures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In-situ Water Kiosk Construction Man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Sanitation Pro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 number of urban community sensitisation posters. Focus, fetching at the kiosk, on water storage &amp; use, hand washing and HIV/AIDS (laminated, size A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0B48-8434-43A0-BC83-5B0169D8D5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85840" y="1285920"/>
            <a:ext cx="853272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s a project to mainstream HIV/AIDS and to address gender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rganis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 easy accessible modul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ll mainly be used by the Field monitors and by WSP and WSB staff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Was developed with three  WSPs (Oloolaiser Water and Sewerage Company, Mavoko WSC and Naivasha Water, Sewerage and Sanitation Company) during the implementation of the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Kiosk Pilot Project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(funded by GT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ll lessons learned resulted in numerous improvements and adap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The pilot project currently supplies more than 2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FA00-BC95-444B-B918-D1AE3894CD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45720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all tools needed to plan, implement &amp; operate an urban water supply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vers all phases of the project cyc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STF Application For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s well as data collection and project evaluation t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s all necessar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rawing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ills of quantiti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ccompanying measur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a water supply project (community mobilisation, sensitisation and participation, training of staff and kiosk operators, etc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C445-59A9-4511-AAC9-E65C6A9A55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285840" y="214200"/>
            <a:ext cx="81439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: Field Monitor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285840" y="1071720"/>
            <a:ext cx="790092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project receives the support from a (1) Engineering-, (2) Social- and an (3) Financial Field Moni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Field Monito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specialists contracted by the WST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attached to WSTF-funded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ist, facilitate, advice &amp; build capacity at WSP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so monitor progress and quality on behalf of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 closely together with the WSP and WSB and are part of the Project Task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ject Task Team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consists of: WSP and WSB staff, Council staff, the Public Health Officer (PHO),  the Chief, residents and the Field Mon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7213-4917-499B-A93C-ED1616A2E0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71280" y="71280"/>
            <a:ext cx="864396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57200" y="128592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ins a number of technical options (drawings, BoQs, etc.)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closed water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closed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bamboo eco kio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n kiosk (covered and not cove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yard t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yard t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paid  public tap (being develop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er chambers (for up to 25 me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SP can also choose to implement a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ixed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kiosks and yard taps or kiosk and domestic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DSC02807.JPG"/>
          <p:cNvPicPr/>
          <p:nvPr/>
        </p:nvPicPr>
        <p:blipFill>
          <a:blip r:embed="rId2"/>
          <a:stretch/>
        </p:blipFill>
        <p:spPr>
          <a:xfrm>
            <a:off x="4809960" y="2928960"/>
            <a:ext cx="41911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4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2987-C105-4DE8-964E-8FAD34EF7C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71280" y="142920"/>
            <a:ext cx="871560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142920" y="142884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inal version of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Sanitation Projec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will contain a number of technical options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ublic sanitation facility (linked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ewer or to a bio-dige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lot-level (shared fac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household level sanitation fac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n increasing number of residents of low income areas are renting their accommodation. They live on a plot together with other tenants and share the available toilet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8" descr="image 01.jpg"/>
          <p:cNvPicPr/>
          <p:nvPr/>
        </p:nvPicPr>
        <p:blipFill>
          <a:blip r:embed="rId2"/>
          <a:stretch/>
        </p:blipFill>
        <p:spPr>
          <a:xfrm>
            <a:off x="4429080" y="2567160"/>
            <a:ext cx="42861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9679-C2FF-4FB6-9BBB-25AB1168EE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285840" y="21420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st but not least: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285840" y="116064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WSTF, at the request of the Ministry of Water and irrigation, is conducting a pro-poor mapping exerc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ailed data is collected in and 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all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 income urban areas of Keny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on population, current water supply &amp; sanitation (WSS) situation, housing, solid waste, socio-economic activities &amp; infrastructure, land ownership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PS readings are taken of area boundaries, existing WSS infrastructure and of the “area characterisation pictures” t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data will be used to create a database: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Maji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ajiData  is supported and implemented together with Google.org, Un-Habitat and Kf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C8F3-757E-4CE3-AD2A-FF3DE8743F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42876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ives of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5712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roving water supply &amp; sanitation (WSS) in urban low income are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nable Water Services Providers (WSPs) to prepare realistic project proposals for the WST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WSTF to evaluate and prioritise proposals (value for mon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rengthen the capacity of WSPs to manage WSS sche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Kenyan water sector to assess the current WSS situation and monitor the impact of programmes and their contribution to the achievement of MDGs &amp; Vision 2030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Team has completed data collection in 6 Water Services Boards regions. Data collection will be complete in November. The Team has collected data on more than 1,100  low income urban ar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C664-7BF9-4BAE-AB6A-6DB677B40B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50004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00040" y="1357200"/>
            <a:ext cx="792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large proportion of the urban population in Kenya does not have access to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fe wate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adequate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1010648.JPG"/>
          <p:cNvPicPr/>
          <p:nvPr/>
        </p:nvPicPr>
        <p:blipFill>
          <a:blip r:embed="rId2"/>
          <a:stretch/>
        </p:blipFill>
        <p:spPr>
          <a:xfrm>
            <a:off x="857160" y="2874960"/>
            <a:ext cx="3500640" cy="2625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P1010664.JPG"/>
          <p:cNvPicPr/>
          <p:nvPr/>
        </p:nvPicPr>
        <p:blipFill>
          <a:blip r:embed="rId3"/>
          <a:stretch/>
        </p:blipFill>
        <p:spPr>
          <a:xfrm>
            <a:off x="4786200" y="2874960"/>
            <a:ext cx="35006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9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0818-59A4-4C50-A17E-47D2F2E056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14200" y="214200"/>
            <a:ext cx="4500720" cy="1071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" descr=""/>
          <p:cNvPicPr/>
          <p:nvPr/>
        </p:nvPicPr>
        <p:blipFill>
          <a:blip r:embed="rId2"/>
          <a:stretch/>
        </p:blipFill>
        <p:spPr>
          <a:xfrm>
            <a:off x="5076720" y="216000"/>
            <a:ext cx="3346560" cy="2511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P1020493.JPG"/>
          <p:cNvPicPr/>
          <p:nvPr/>
        </p:nvPicPr>
        <p:blipFill>
          <a:blip r:embed="rId3"/>
          <a:stretch/>
        </p:blipFill>
        <p:spPr>
          <a:xfrm>
            <a:off x="5072040" y="30718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P1020484.JPG"/>
          <p:cNvPicPr/>
          <p:nvPr/>
        </p:nvPicPr>
        <p:blipFill>
          <a:blip r:embed="rId4"/>
          <a:stretch/>
        </p:blipFill>
        <p:spPr>
          <a:xfrm>
            <a:off x="214200" y="228600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659E-F0BC-4D2C-9105-B682D6CA80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00040" y="142920"/>
            <a:ext cx="7858080" cy="714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Respon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000080"/>
            <a:ext cx="821844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 respond to this challenge, the Water Services Trust Fund (WSTF) established an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Window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to finance sustainable urban water supply and sanitation projects in low income urban a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Window is supported by the European Union (EU) and by the German Development Bank (KfW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vailable funds :  € 15.5 million (approx KSh 1.5 Bill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KfW will continue supporting the UPC after the current phase          (€ 5.5. million) with an additional € 12 mill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echnical support is provided by the German Technical Cooperation (GTZ) and by Kf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WSTF has developed the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Projects Concept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(UPC) to provide support and opportunities to the Water Service Providers (WSPs) &amp; Water Services Boards (WSB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72AE-6C6B-4F77-91E6-783C69375A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57200" y="1143000"/>
            <a:ext cx="797256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does the WSTF intend to achie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king sustainable safe water and adequate sanitation accessible to a large number of urban po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mproving public heal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ntributing to the improvement of urban liveliho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ild capacity at provider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Objective of the WSTF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:  reaching the poor…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upply:    1.4 million residents (500,000 in 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anitation: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     40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etween January 2009 and December 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8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04C4-4D4D-42B5-BABE-8CFDD4908D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00040" y="214200"/>
            <a:ext cx="8001000" cy="6429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457200" y="100008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 Euro 5 – Euro 17 (depending on the required technical works and social constraints) of urban livelih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P1010655.JPG"/>
          <p:cNvPicPr/>
          <p:nvPr/>
        </p:nvPicPr>
        <p:blipFill>
          <a:blip r:embed="rId2"/>
          <a:stretch/>
        </p:blipFill>
        <p:spPr>
          <a:xfrm>
            <a:off x="4238640" y="3498840"/>
            <a:ext cx="39052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DB35-2BB9-48D1-8E3B-F2913117E8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500040" y="214200"/>
            <a:ext cx="80010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57200" y="92880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KSh 500 (funded by WSTF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TF will offer innovativ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ublic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lot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household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sanitation solutions: KSh 8,000 for a single household facility and KSh 40,000 – 70,000; for a shared facility (4 – 20 households living on the same pl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Sanitation, in most cases, the outcome of a household decision... or a decision made by the landlo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P1010737.JPG"/>
          <p:cNvPicPr/>
          <p:nvPr/>
        </p:nvPicPr>
        <p:blipFill>
          <a:blip r:embed="rId2"/>
          <a:stretch/>
        </p:blipFill>
        <p:spPr>
          <a:xfrm>
            <a:off x="571680" y="4071960"/>
            <a:ext cx="3524040" cy="2214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image 01.jpg"/>
          <p:cNvPicPr/>
          <p:nvPr/>
        </p:nvPicPr>
        <p:blipFill>
          <a:blip r:embed="rId3"/>
          <a:stretch/>
        </p:blipFill>
        <p:spPr>
          <a:xfrm>
            <a:off x="4500720" y="4071960"/>
            <a:ext cx="407196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04D7-88FD-41AA-B98E-709F3C8985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ppro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2"/>
          <a:stretch/>
        </p:blipFill>
        <p:spPr>
          <a:xfrm>
            <a:off x="1473120" y="3481560"/>
            <a:ext cx="3527640" cy="26445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457200" y="1428840"/>
            <a:ext cx="80438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funds of the WSTF can only be accessed by licensed Water Service Providers (WS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Ps are responsible for the management of project funds as well as for the successful implementation and sustainable operation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B5FD-691C-45C8-B043-BBCB1FF155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214200" y="214200"/>
            <a:ext cx="835848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rban Projects Concept has eight (8)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14200" y="1214280"/>
            <a:ext cx="814392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unch of the Call for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lection of data 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opulation demand for wat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1. Announcing the Call for Proposals .jpg"/>
          <p:cNvPicPr/>
          <p:nvPr/>
        </p:nvPicPr>
        <p:blipFill>
          <a:blip r:embed="rId2"/>
          <a:stretch/>
        </p:blipFill>
        <p:spPr>
          <a:xfrm>
            <a:off x="5357880" y="1143000"/>
            <a:ext cx="321480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9" name="Picture 8" descr="2. Data Collection.jpg"/>
          <p:cNvPicPr/>
          <p:nvPr/>
        </p:nvPicPr>
        <p:blipFill>
          <a:blip r:embed="rId3"/>
          <a:stretch/>
        </p:blipFill>
        <p:spPr>
          <a:xfrm>
            <a:off x="5357880" y="3643200"/>
            <a:ext cx="3286080" cy="2336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0E5B-74D4-4DC3-A937-19C32C4EB5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28760" y="214200"/>
            <a:ext cx="814392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paration of project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WSPs and WS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Appraisal of project propos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he WS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3. Proposal Preparation.jpg"/>
          <p:cNvPicPr/>
          <p:nvPr/>
        </p:nvPicPr>
        <p:blipFill>
          <a:blip r:embed="rId2"/>
          <a:stretch/>
        </p:blipFill>
        <p:spPr>
          <a:xfrm>
            <a:off x="5286240" y="1071720"/>
            <a:ext cx="328644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18" name="Picture 8" descr="4. Proposal Evaluation by WSTF.jpg"/>
          <p:cNvPicPr/>
          <p:nvPr/>
        </p:nvPicPr>
        <p:blipFill>
          <a:blip r:embed="rId3"/>
          <a:stretch/>
        </p:blipFill>
        <p:spPr>
          <a:xfrm>
            <a:off x="5286240" y="3643200"/>
            <a:ext cx="3321360" cy="23148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02:34Z</dcterms:created>
  <dc:creator>dell client</dc:creator>
  <dc:description/>
  <dc:language>en-US</dc:language>
  <cp:lastModifiedBy>rolendo</cp:lastModifiedBy>
  <dcterms:modified xsi:type="dcterms:W3CDTF">2010-10-18T04:54:57Z</dcterms:modified>
  <cp:revision>123</cp:revision>
  <dc:subject/>
  <dc:title>Slide 1</dc:title>
</cp:coreProperties>
</file>