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A121-74C1-41E3-9FBE-671600EA2E60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36FC-6BF3-4D45-81C2-2A8A344CBB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A342-27A3-4330-8FC9-73B833F8AE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2814-380C-4317-BDA0-507AC0A05E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5833-206F-436F-9D8B-D4E9436B60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B2C9-3C5A-4BF0-B844-5C19105033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9524-F9C2-44B7-9D59-193BFF2AD0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A05B-EF44-4B90-8151-AF9FEC3C88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5863-7BDA-4F19-B836-F4493C3B89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D21C-E5D6-457B-9840-9FFAAE7304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39FE-AB29-42EA-A801-1F16BB8FF0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8A31-612F-4412-A8AF-FCC97C725A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Indicato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a unit of measurement, used to describe a situation, monitor the evolution of a situation or measure achievements against an 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measurement may be based on quantitative or qualitative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arge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performance standard to be reached; the concrete translation of an objective, expressed by means of an indicator (possibly expressed against a baseline) associated with a point in time (by which the target is expected to be reach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Milest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key step in the process of developing or implementing a policy, programme or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3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.g. adoption of a policy, law or regulation, establishment of a coordination structure, restructuring of an 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alisation/completion of a milestone is a way of measuring progress towards an objective but it is not an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icato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45D2-83E1-4566-864C-D282BB9FFF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D67D-89D4-4188-945B-966ECF7E1C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0C65-990C-4D53-BFFB-0A2585F53D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5D24-7B45-43BA-84AB-7F75174880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E7DD-2744-43B3-92A6-00D12FFDC7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EB38-D1C7-4A66-B22E-943D04C688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8272-0D3A-49F0-8A59-CF38D0D045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22BE-523C-465B-A119-8BD67777F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98B0-C503-4CA3-9C23-DC54E9A3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2E8E-3613-40C9-A1B9-FDC5AA2A3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F4AD-5680-4451-8D1A-2D31A4FAB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C075-C6C2-4FD0-A641-BE8C6E055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764F-8017-4E41-A201-ABFE1837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C269-EDF8-41ED-A1C5-07C7C036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3416B-9779-4A60-92B5-01A3BF8F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BD21-5CBF-45DD-8494-6C936AD9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E25A8-48DC-49BA-845D-D74E21F1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3183C-7AE1-4BED-B2B3-3F37C08A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7C2A-E783-4B25-AFBA-80E975BF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D5AF8-4521-4C23-A077-2B0F2964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4720-9618-42F8-B1E7-F05587BC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6FDF-757B-4938-9079-84C7EDAB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FEC24-5ADD-424B-8812-E8BC2024A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0FE74-2004-47F0-9757-0ADA1B889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F41D-831D-46EB-A304-4B3EDED7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6999-0B7A-46D8-A14A-3375F300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6DB6-A892-4999-9307-21FAFF09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7C8D-DFDB-4D17-9CD2-76FE8153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FF77-584E-4D6F-913A-E3A25418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2711-4052-4735-8437-A24D8368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70FF-381D-4F8B-893B-3BA21F36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474D-5634-4390-A198-6888B3482DA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7A70-3DFB-4BB0-9A02-CE31572BB52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2565360"/>
            <a:ext cx="85676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odule 8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ainstreaming in country 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onitoring system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8360" y="414972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ountry-led environmental and climate change mainstreaming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Monitoring policy and institutional chang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153E-23E9-498D-9D31-29724C563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3419640" y="3141720"/>
            <a:ext cx="2232000" cy="33732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Mainstream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Rounded Rectangular Callout 5"/>
          <p:cNvSpPr/>
          <p:nvPr/>
        </p:nvSpPr>
        <p:spPr>
          <a:xfrm>
            <a:off x="755640" y="1700280"/>
            <a:ext cx="1981080" cy="839880"/>
          </a:xfrm>
          <a:prstGeom prst="wedgeRoundRectCallout">
            <a:avLst>
              <a:gd name="adj1" fmla="val 96064"/>
              <a:gd name="adj2" fmla="val 94231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licy chang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Rounded Rectangular Callout 6"/>
          <p:cNvSpPr/>
          <p:nvPr/>
        </p:nvSpPr>
        <p:spPr>
          <a:xfrm>
            <a:off x="6300720" y="1700280"/>
            <a:ext cx="1979640" cy="838080"/>
          </a:xfrm>
          <a:prstGeom prst="wedgeRoundRectCallout">
            <a:avLst>
              <a:gd name="adj1" fmla="val -108745"/>
              <a:gd name="adj2" fmla="val 96180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nstitutional chang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Rounded Rectangle 11"/>
          <p:cNvSpPr/>
          <p:nvPr/>
        </p:nvSpPr>
        <p:spPr>
          <a:xfrm>
            <a:off x="152280" y="2708280"/>
            <a:ext cx="3081600" cy="3692520"/>
          </a:xfrm>
          <a:custGeom>
            <a:avLst/>
            <a:gdLst>
              <a:gd name="textAreaLeft" fmla="*/ 150120 w 3081600"/>
              <a:gd name="textAreaRight" fmla="*/ 2931480 w 3081600"/>
              <a:gd name="textAreaTop" fmla="*/ 150120 h 3692520"/>
              <a:gd name="textAreaBottom" fmla="*/ 3542400 h 3692520"/>
            </a:gdLst>
            <a:ahLst/>
            <a:rect l="textAreaLeft" t="textAreaTop" r="textAreaRight" b="textAreaBottom"/>
            <a:pathLst>
              <a:path w="21600" h="25882">
                <a:moveTo>
                  <a:pt x="3600" y="0"/>
                </a:moveTo>
                <a:arcTo wR="3600" hR="3600" stAng="16200000" swAng="-5400000"/>
                <a:lnTo>
                  <a:pt x="0" y="22282"/>
                </a:lnTo>
                <a:arcTo wR="3600" hR="3600" stAng="10800000" swAng="-5400000"/>
                <a:lnTo>
                  <a:pt x="18000" y="258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Integration of environment/climate change considerations in national &amp; sector policies/strategi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Development of adaptation- &amp; mitigation-oriented policies &amp; plans (e.g. DRR, REDD </a:t>
            </a:r>
            <a:br>
              <a:rPr sz="1600"/>
            </a:b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trategy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Development of environment-specific policies &amp; plans (e.g. IWRM, biodiversity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Rounded Rectangle 12"/>
          <p:cNvSpPr/>
          <p:nvPr/>
        </p:nvSpPr>
        <p:spPr>
          <a:xfrm>
            <a:off x="5867280" y="2781360"/>
            <a:ext cx="2971800" cy="3673440"/>
          </a:xfrm>
          <a:custGeom>
            <a:avLst/>
            <a:gdLst>
              <a:gd name="textAreaLeft" fmla="*/ 145080 w 2971800"/>
              <a:gd name="textAreaRight" fmla="*/ 2826720 w 2971800"/>
              <a:gd name="textAreaTop" fmla="*/ 145080 h 3673440"/>
              <a:gd name="textAreaBottom" fmla="*/ 3528360 h 3673440"/>
            </a:gdLst>
            <a:ahLst/>
            <a:rect l="textAreaLeft" t="textAreaTop" r="textAreaRight" b="textAreaBottom"/>
            <a:pathLst>
              <a:path w="21600" h="26699">
                <a:moveTo>
                  <a:pt x="3600" y="0"/>
                </a:moveTo>
                <a:arcTo wR="3600" hR="3600" stAng="16200000" swAng="-5400000"/>
                <a:lnTo>
                  <a:pt x="0" y="23099"/>
                </a:lnTo>
                <a:arcTo wR="3600" hR="3600" stAng="10800000" swAng="-5400000"/>
                <a:lnTo>
                  <a:pt x="18000" y="266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Political leadership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Institutional commit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Coordination &amp; participatory mechanis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Procedur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yste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Tool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Capacity building programm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Cloud Callout 8"/>
          <p:cNvSpPr/>
          <p:nvPr/>
        </p:nvSpPr>
        <p:spPr>
          <a:xfrm>
            <a:off x="2705040" y="5257800"/>
            <a:ext cx="3733920" cy="1511280"/>
          </a:xfrm>
          <a:prstGeom prst="cloudCallout">
            <a:avLst>
              <a:gd name="adj1" fmla="val 3097"/>
              <a:gd name="adj2" fmla="val -124351"/>
            </a:avLst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Is mainstreaming getting institutionalised at all levels?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2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Monitoring policy implementation and outcome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3C07-FD8F-46B2-B4D9-D607F2EF8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3492360" y="3860640"/>
            <a:ext cx="2303640" cy="383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Mainstreaming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Rounded Rectangular Callout 5"/>
          <p:cNvSpPr/>
          <p:nvPr/>
        </p:nvSpPr>
        <p:spPr>
          <a:xfrm>
            <a:off x="539640" y="2205000"/>
            <a:ext cx="2133720" cy="838080"/>
          </a:xfrm>
          <a:prstGeom prst="wedgeRoundRectCallout">
            <a:avLst>
              <a:gd name="adj1" fmla="val 116305"/>
              <a:gd name="adj2" fmla="val 126027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mplementation (inputs, outputs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Rounded Rectangular Callout 6"/>
          <p:cNvSpPr/>
          <p:nvPr/>
        </p:nvSpPr>
        <p:spPr>
          <a:xfrm>
            <a:off x="5940360" y="1916280"/>
            <a:ext cx="1979640" cy="838080"/>
          </a:xfrm>
          <a:prstGeom prst="wedgeRoundRectCallout">
            <a:avLst>
              <a:gd name="adj1" fmla="val -75393"/>
              <a:gd name="adj2" fmla="val 153759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Outcomes, impac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Rounded Rectangle 11"/>
          <p:cNvSpPr/>
          <p:nvPr/>
        </p:nvSpPr>
        <p:spPr>
          <a:xfrm>
            <a:off x="533520" y="3213000"/>
            <a:ext cx="2700360" cy="3340080"/>
          </a:xfrm>
          <a:custGeom>
            <a:avLst/>
            <a:gdLst>
              <a:gd name="textAreaLeft" fmla="*/ 131760 w 2700360"/>
              <a:gd name="textAreaRight" fmla="*/ 2568600 w 2700360"/>
              <a:gd name="textAreaTop" fmla="*/ 131760 h 3340080"/>
              <a:gd name="textAreaBottom" fmla="*/ 3208320 h 3340080"/>
            </a:gdLst>
            <a:ahLst/>
            <a:rect l="textAreaLeft" t="textAreaTop" r="textAreaRight" b="textAreaBottom"/>
            <a:pathLst>
              <a:path w="21600" h="26716">
                <a:moveTo>
                  <a:pt x="3600" y="0"/>
                </a:moveTo>
                <a:arcTo wR="3600" hR="3600" stAng="16200000" swAng="-5400000"/>
                <a:lnTo>
                  <a:pt x="0" y="23116"/>
                </a:lnTo>
                <a:arcTo wR="3600" hR="3600" stAng="10800000" swAng="-5400000"/>
                <a:lnTo>
                  <a:pt x="18000" y="267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ncreased allocation of resourc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(Inclusion of) environment/climate change (measures in) programmes/projec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mplementation &amp; enforcement of environment/climate change measures &amp; regulation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Rounded Rectangle 12"/>
          <p:cNvSpPr/>
          <p:nvPr/>
        </p:nvSpPr>
        <p:spPr>
          <a:xfrm>
            <a:off x="5943600" y="2852640"/>
            <a:ext cx="3124080" cy="3700440"/>
          </a:xfrm>
          <a:custGeom>
            <a:avLst/>
            <a:gdLst>
              <a:gd name="textAreaLeft" fmla="*/ 152280 w 3124080"/>
              <a:gd name="textAreaRight" fmla="*/ 2971800 w 3124080"/>
              <a:gd name="textAreaTop" fmla="*/ 152280 h 3700440"/>
              <a:gd name="textAreaBottom" fmla="*/ 3548160 h 3700440"/>
            </a:gdLst>
            <a:ahLst/>
            <a:rect l="textAreaLeft" t="textAreaTop" r="textAreaRight" b="textAreaBottom"/>
            <a:pathLst>
              <a:path w="21600" h="25585">
                <a:moveTo>
                  <a:pt x="3600" y="0"/>
                </a:moveTo>
                <a:arcTo wR="3600" hR="3600" stAng="16200000" swAng="-5400000"/>
                <a:lnTo>
                  <a:pt x="0" y="21985"/>
                </a:lnTo>
                <a:arcTo wR="3600" hR="3600" stAng="10800000" swAng="-5400000"/>
                <a:lnTo>
                  <a:pt x="18000" y="25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Reduced environmental degradation and its incidence on poverty/developmen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ncreased resilience of vulnerable groups (women, children, farmers, coastal communities, ...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ncreased resilience of key sector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Green growth, </a:t>
            </a:r>
            <a:br>
              <a:rPr sz="1400"/>
            </a:b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green job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Environmentally sustainable, climate-resilient, low-emission developmen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Cloud Callout 8"/>
          <p:cNvSpPr/>
          <p:nvPr/>
        </p:nvSpPr>
        <p:spPr>
          <a:xfrm>
            <a:off x="2666880" y="5162400"/>
            <a:ext cx="3810240" cy="1619280"/>
          </a:xfrm>
          <a:prstGeom prst="cloudCallout">
            <a:avLst>
              <a:gd name="adj1" fmla="val 4458"/>
              <a:gd name="adj2" fmla="val -78157"/>
            </a:avLst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Does the mainstreaming process produce results and impacts?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24000" y="2565000"/>
            <a:ext cx="853416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Performance assessment frameworks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and budget support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1389-961C-49B2-9357-34E727CBE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08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f5494"/>
                </a:solidFill>
                <a:latin typeface="Verdana"/>
              </a:rPr>
              <a:t>Role of PAFs in relation to budget support</a:t>
            </a:r>
            <a:endParaRPr b="1" lang="en-US" sz="2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4920" y="2349000"/>
            <a:ext cx="8381880" cy="42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Progress measured against the PAF</a:t>
            </a:r>
            <a:r>
              <a:rPr b="0" lang="ja-JP" sz="2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 criteria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nd targets provides opportunities for policy dialogue in the context of budget suppor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creasingly, the PAF associated with development and poverty reduction strategies is likely to include indicators and targets associated with environmental sustainability, climate change adaptation, disaster risk reduction, energy efficiency, etc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 the case of EC budget support, performance against a chosen sub-set of criteria and targets also determines the final amount of disbursemen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B0ED-625B-429F-B78B-72F9653A3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94920" y="2491920"/>
            <a:ext cx="8534520" cy="2057400"/>
          </a:xfrm>
          <a:prstGeom prst="rect">
            <a:avLst/>
          </a:prstGeom>
          <a:solidFill>
            <a:srgbClr val="f8fbfc"/>
          </a:solidFill>
          <a:ln w="25560">
            <a:solidFill>
              <a:srgbClr val="0f5494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Discussion and action planning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FF9D-5228-4CB6-B733-EA576EB47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Turning words into ac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nitoring environment and climate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nitoring policy and institutional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nitoring policy implementation and outcom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BB77-A85E-42CD-B08B-D5E53FCCA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Rounded Rectangle 4"/>
          <p:cNvSpPr/>
          <p:nvPr/>
        </p:nvSpPr>
        <p:spPr>
          <a:xfrm>
            <a:off x="1908000" y="4292640"/>
            <a:ext cx="5410440" cy="19447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What can be done and what are the institutional and capacity needs in your country/sector of responsibility?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c8c93"/>
                </a:solidFill>
                <a:latin typeface="Verdana"/>
              </a:rPr>
              <a:t>Recap – Key messag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50560" y="1844280"/>
            <a:ext cx="871380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nvironment and climate monitoring, and monitoring of responses for environmental sustainability and climate change, should be integrated into existing development monitoring system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is is a key aspect of the mainstreaming proces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ultiple aspects can be subject to monitoring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state of environmental variables closely linked to poverty and develop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limate variability and change and their impac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hanges in policies and institutio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implementation and outcomes of adaptation and mitigation measur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9288-184B-4E65-B211-8EFCEC82F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c8c93"/>
                </a:solidFill>
                <a:latin typeface="Verdana"/>
              </a:rPr>
              <a:t>Key 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World Bank report on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Mainstreaming Adaptation to Climate Change in Agriculture and Natural Resources Management Project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http://climatechange.worldbank.org/content/mainstreaming-adaptation-climate-change-agriculture-and-natural-resources-management-project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uropean Commission Guidance on the Integration of Environment and Climate Change in Development Cooperation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http://ec.europa.eu/europeaid/infopoint/publications/europeaid/172a_en.htm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8DB5-FA48-473C-94C4-ED48FB6A8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c8c93"/>
                </a:solidFill>
                <a:latin typeface="Verdana"/>
              </a:rPr>
              <a:t>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6840" y="2133360"/>
            <a:ext cx="79246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EC (2004) Project Cycle Management Guidelines. Aid Delivery Methods series, Volume 1. European Commission, Brussels. Available from: </a:t>
            </a:r>
            <a:r>
              <a:rPr b="0" lang="en-GB" sz="1400" spc="-1" strike="noStrike" u="sng">
                <a:solidFill>
                  <a:srgbClr val="0f5494"/>
                </a:solidFill>
                <a:uFillTx/>
                <a:latin typeface="Verdana"/>
              </a:rPr>
              <a:t>http://ec.europa.eu/europeaid/infopoint/publications/europeaid/documents/49a_adm_pcm_guidelines_2004_en.pdf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EC (2009) Guidance on Integration of the Environment and Climate Change in Development Cooperation. EuropeAid Tools and Methods Series Guidelines No. 4, Brussels. Available from: http://ec.europa.eu/europeaid/infopoint/publications/europeaid/172a_en.htm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OECD (2002) Glossary of Key Terms in Evaluation and Results Based Management. OECD Publishing, Paris. Available from: </a:t>
            </a:r>
            <a:r>
              <a:rPr b="0" lang="en-GB" sz="1400" spc="-1" strike="noStrike" u="sng">
                <a:solidFill>
                  <a:srgbClr val="0f5494"/>
                </a:solidFill>
                <a:uFillTx/>
                <a:latin typeface="Verdana"/>
              </a:rPr>
              <a:t>http://www.oecd.org/dataoecd/29/21/2754804.pdf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0C4D-3EE9-48D2-8C6E-0CABED919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Performance measurement and monitoring: 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Key concept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C469-EC14-4BED-8B3F-28AEBB184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Objectives and related indicators/mileston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1258920" y="1773360"/>
            <a:ext cx="2971800" cy="39888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Verdana"/>
              </a:rPr>
              <a:t>Hierarchy of objectiv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5292720" y="1773360"/>
            <a:ext cx="2971800" cy="70380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Verdana"/>
              </a:rPr>
              <a:t>Progress measurement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1295280" y="2579760"/>
            <a:ext cx="2971800" cy="398880"/>
          </a:xfrm>
          <a:prstGeom prst="rect">
            <a:avLst/>
          </a:prstGeom>
          <a:solidFill>
            <a:srgbClr val="60606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verall objective(s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1295280" y="3494160"/>
            <a:ext cx="2971800" cy="398880"/>
          </a:xfrm>
          <a:prstGeom prst="rect">
            <a:avLst/>
          </a:prstGeom>
          <a:solidFill>
            <a:srgbClr val="e9f4f5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Specific objective(s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1295280" y="4405320"/>
            <a:ext cx="2971800" cy="398880"/>
          </a:xfrm>
          <a:prstGeom prst="rect">
            <a:avLst/>
          </a:prstGeom>
          <a:solidFill>
            <a:srgbClr val="f0f8f9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Intermediate result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295280" y="5319720"/>
            <a:ext cx="2971800" cy="398880"/>
          </a:xfrm>
          <a:prstGeom prst="rect">
            <a:avLst/>
          </a:prstGeom>
          <a:solidFill>
            <a:srgbClr val="f8fbf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Input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5257800" y="2576520"/>
            <a:ext cx="2971800" cy="398880"/>
          </a:xfrm>
          <a:prstGeom prst="rect">
            <a:avLst/>
          </a:prstGeom>
          <a:solidFill>
            <a:srgbClr val="60606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mpact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5257800" y="3490920"/>
            <a:ext cx="2971800" cy="398880"/>
          </a:xfrm>
          <a:prstGeom prst="rect">
            <a:avLst/>
          </a:prstGeom>
          <a:solidFill>
            <a:srgbClr val="e9f4f5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Outcome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5257800" y="4253040"/>
            <a:ext cx="2971800" cy="703800"/>
          </a:xfrm>
          <a:prstGeom prst="rect">
            <a:avLst/>
          </a:prstGeom>
          <a:solidFill>
            <a:srgbClr val="f0f8f9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Output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Mileston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5257800" y="5167440"/>
            <a:ext cx="2971800" cy="703800"/>
          </a:xfrm>
          <a:prstGeom prst="rect">
            <a:avLst/>
          </a:prstGeom>
          <a:solidFill>
            <a:srgbClr val="f8fbf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Input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Mileston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10" name="Straight Arrow Connector 13"/>
          <p:cNvCxnSpPr>
            <a:stCxn id="105" idx="0"/>
            <a:endCxn id="104" idx="2"/>
          </p:cNvCxnSpPr>
          <p:nvPr/>
        </p:nvCxnSpPr>
        <p:spPr>
          <a:xfrm flipV="1">
            <a:off x="2778480" y="4804560"/>
            <a:ext cx="3960" cy="51516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1" name="Straight Arrow Connector 17"/>
          <p:cNvCxnSpPr>
            <a:stCxn id="104" idx="0"/>
            <a:endCxn id="103" idx="2"/>
          </p:cNvCxnSpPr>
          <p:nvPr/>
        </p:nvCxnSpPr>
        <p:spPr>
          <a:xfrm flipV="1">
            <a:off x="2778480" y="3893760"/>
            <a:ext cx="3960" cy="51192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2" name="Straight Arrow Connector 19"/>
          <p:cNvCxnSpPr>
            <a:stCxn id="103" idx="0"/>
            <a:endCxn id="102" idx="2"/>
          </p:cNvCxnSpPr>
          <p:nvPr/>
        </p:nvCxnSpPr>
        <p:spPr>
          <a:xfrm flipV="1">
            <a:off x="2778480" y="2979000"/>
            <a:ext cx="3960" cy="51516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3" name="Straight Arrow Connector 21"/>
          <p:cNvCxnSpPr>
            <a:stCxn id="109" idx="1"/>
            <a:endCxn id="105" idx="3"/>
          </p:cNvCxnSpPr>
          <p:nvPr/>
        </p:nvCxnSpPr>
        <p:spPr>
          <a:xfrm flipH="1" flipV="1">
            <a:off x="4266720" y="5519520"/>
            <a:ext cx="991440" cy="216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14" name="Straight Arrow Connector 25"/>
          <p:cNvCxnSpPr>
            <a:stCxn id="108" idx="1"/>
            <a:endCxn id="104" idx="3"/>
          </p:cNvCxnSpPr>
          <p:nvPr/>
        </p:nvCxnSpPr>
        <p:spPr>
          <a:xfrm flipH="1" flipV="1">
            <a:off x="4266720" y="4605120"/>
            <a:ext cx="991440" cy="216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15" name="Straight Arrow Connector 27"/>
          <p:cNvCxnSpPr>
            <a:stCxn id="107" idx="1"/>
            <a:endCxn id="103" idx="3"/>
          </p:cNvCxnSpPr>
          <p:nvPr/>
        </p:nvCxnSpPr>
        <p:spPr>
          <a:xfrm flipH="1">
            <a:off x="4266720" y="3691080"/>
            <a:ext cx="991440" cy="360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16" name="Straight Arrow Connector 29"/>
          <p:cNvCxnSpPr>
            <a:stCxn id="106" idx="1"/>
            <a:endCxn id="102" idx="3"/>
          </p:cNvCxnSpPr>
          <p:nvPr/>
        </p:nvCxnSpPr>
        <p:spPr>
          <a:xfrm flipH="1">
            <a:off x="4266720" y="2776680"/>
            <a:ext cx="991440" cy="360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117" name="Left Brace 30"/>
          <p:cNvSpPr/>
          <p:nvPr/>
        </p:nvSpPr>
        <p:spPr>
          <a:xfrm>
            <a:off x="884160" y="4275000"/>
            <a:ext cx="335160" cy="1600200"/>
          </a:xfrm>
          <a:custGeom>
            <a:avLst/>
            <a:gdLst>
              <a:gd name="textAreaLeft" fmla="*/ 214200 w 335160"/>
              <a:gd name="textAreaRight" fmla="*/ 335520 w 335160"/>
              <a:gd name="textAreaTop" fmla="*/ 8640 h 1600200"/>
              <a:gd name="textAreaBottom" fmla="*/ 159156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9"/>
                  <a:pt x="10800" y="377"/>
                </a:cubicBezTo>
                <a:lnTo>
                  <a:pt x="10800" y="10423"/>
                </a:lnTo>
                <a:cubicBezTo>
                  <a:pt x="10800" y="10612"/>
                  <a:pt x="5400" y="10800"/>
                  <a:pt x="0" y="10800"/>
                </a:cubicBezTo>
                <a:cubicBezTo>
                  <a:pt x="5400" y="10800"/>
                  <a:pt x="10800" y="10989"/>
                  <a:pt x="10800" y="11177"/>
                </a:cubicBezTo>
                <a:lnTo>
                  <a:pt x="10800" y="21223"/>
                </a:lnTo>
                <a:cubicBezTo>
                  <a:pt x="10800" y="21412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Left Brace 31"/>
          <p:cNvSpPr/>
          <p:nvPr/>
        </p:nvSpPr>
        <p:spPr>
          <a:xfrm>
            <a:off x="914400" y="2425680"/>
            <a:ext cx="287280" cy="1620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7200 h 1620720"/>
              <a:gd name="textAreaBottom" fmla="*/ 1613520 h 16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0"/>
                  <a:pt x="10800" y="319"/>
                </a:cubicBezTo>
                <a:lnTo>
                  <a:pt x="10800" y="10481"/>
                </a:lnTo>
                <a:cubicBezTo>
                  <a:pt x="10800" y="10641"/>
                  <a:pt x="5400" y="10800"/>
                  <a:pt x="0" y="10800"/>
                </a:cubicBezTo>
                <a:cubicBezTo>
                  <a:pt x="5400" y="10800"/>
                  <a:pt x="10800" y="10960"/>
                  <a:pt x="10800" y="11119"/>
                </a:cubicBezTo>
                <a:lnTo>
                  <a:pt x="10800" y="21281"/>
                </a:lnTo>
                <a:cubicBezTo>
                  <a:pt x="10800" y="2144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TextBox 32"/>
          <p:cNvSpPr/>
          <p:nvPr/>
        </p:nvSpPr>
        <p:spPr>
          <a:xfrm>
            <a:off x="457200" y="1989000"/>
            <a:ext cx="304920" cy="204084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Outcom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TextBox 33"/>
          <p:cNvSpPr/>
          <p:nvPr/>
        </p:nvSpPr>
        <p:spPr>
          <a:xfrm>
            <a:off x="457200" y="4273560"/>
            <a:ext cx="304920" cy="17974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0" y="6550200"/>
            <a:ext cx="42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EC (2004), OECD (2002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Slide Number Placeholder 2"/>
          <p:cNvSpPr/>
          <p:nvPr/>
        </p:nvSpPr>
        <p:spPr>
          <a:xfrm>
            <a:off x="6858000" y="6545160"/>
            <a:ext cx="21337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1E4E-1217-4ECC-B527-9BDDC4C72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SMART indicators and targe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AEC9-D59B-4CE8-8789-98E2F67A7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Content Placeholder 2"/>
          <p:cNvSpPr/>
          <p:nvPr/>
        </p:nvSpPr>
        <p:spPr>
          <a:xfrm>
            <a:off x="304920" y="2060640"/>
            <a:ext cx="868680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icators and targets should be: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S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pecific to the related objectives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asurable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A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vailable at a reasonable cost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evant to information needs of decision makers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T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ime-bound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4495680" y="6477120"/>
            <a:ext cx="33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EC (2004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24000" y="2492280"/>
            <a:ext cx="8534160" cy="198144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Mainstreaming environment and climate change in monitoring systems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825F-4CFC-4CDD-9262-EFD1D99F5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What should be monitored, and why?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AE62-4939-4E87-9149-5A98D0209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0920" y="1989000"/>
          <a:ext cx="8686800" cy="4638960"/>
        </p:xfrm>
        <a:graphic>
          <a:graphicData uri="http://schemas.openxmlformats.org/drawingml/2006/table">
            <a:tbl>
              <a:tblPr/>
              <a:tblGrid>
                <a:gridCol w="4038480"/>
                <a:gridCol w="46483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spect to monitor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ationale for monitoring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nges in environmental parameters that influence poverty/development in a significant manner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ke decisions as well-informed as possible to take opportunities to enhance effects on poverty reduction and revert adverse trend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imate variability and change, impacts and vulnerabil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ke decisions as well informed as possibl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pport adaptive managemen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y and institutional chang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mote the institutionalisation of environmental and climate change mainstream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hance transparency and accountability of the mainstreaming proces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y/Strategy implementation and outcom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engthen commitment to the objectives set in policies and strateg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imulate the achievement of tangible outcom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Environment and climate change in the national development monitoring system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2708280"/>
            <a:ext cx="853416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nvironment and climate change monitoring should be integrated into wider national and specific development monitoring system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Verdana"/>
              </a:rPr>
              <a:t>=&gt;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Strengthen and adapt existing monitoring systems (incl. statistical systems) to integrate environment and climate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11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Build on existing institutions and sources of information..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11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... but adapt statistical systems and data sourc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4693-0178-440F-8385-D6A64928B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896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Levels at which to measure environment- and climate-related performanc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3640" y="2349360"/>
            <a:ext cx="8450280" cy="39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dicators and milestones related to environment/climate change and the associated response can be included in the PAFs </a:t>
            </a:r>
            <a:r>
              <a:rPr b="0" lang="en-GB" sz="2400" spc="-1" strike="noStrike" baseline="30000">
                <a:solidFill>
                  <a:srgbClr val="0f5494"/>
                </a:solidFill>
                <a:latin typeface="Verdana"/>
              </a:rPr>
              <a:t>(*)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of environmental and climate change strategies and actions plans, but also those of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national and sectoral development strategies and programm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ub-national (e.g. regional, local) development pla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dividual projects (logical framework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(*) Performance assessment framework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Right Brace 3"/>
          <p:cNvSpPr/>
          <p:nvPr/>
        </p:nvSpPr>
        <p:spPr>
          <a:xfrm>
            <a:off x="8153280" y="4025880"/>
            <a:ext cx="304920" cy="1600200"/>
          </a:xfrm>
          <a:custGeom>
            <a:avLst/>
            <a:gdLst>
              <a:gd name="textAreaLeft" fmla="*/ 0 w 304920"/>
              <a:gd name="textAreaRight" fmla="*/ 110160 w 304920"/>
              <a:gd name="textAreaTop" fmla="*/ 7920 h 1600200"/>
              <a:gd name="textAreaBottom" fmla="*/ 15922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2"/>
                  <a:pt x="10800" y="343"/>
                </a:cubicBezTo>
                <a:lnTo>
                  <a:pt x="10800" y="10457"/>
                </a:lnTo>
                <a:cubicBezTo>
                  <a:pt x="10800" y="10629"/>
                  <a:pt x="16200" y="10800"/>
                  <a:pt x="21600" y="10800"/>
                </a:cubicBezTo>
                <a:cubicBezTo>
                  <a:pt x="16200" y="10800"/>
                  <a:pt x="10800" y="10972"/>
                  <a:pt x="10800" y="11143"/>
                </a:cubicBezTo>
                <a:lnTo>
                  <a:pt x="10800" y="21257"/>
                </a:lnTo>
                <a:cubicBezTo>
                  <a:pt x="10800" y="2142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Rounded Rectangular Callout 4"/>
          <p:cNvSpPr/>
          <p:nvPr/>
        </p:nvSpPr>
        <p:spPr>
          <a:xfrm>
            <a:off x="5364000" y="5867280"/>
            <a:ext cx="3065760" cy="990720"/>
          </a:xfrm>
          <a:prstGeom prst="wedgeRoundRectCallout">
            <a:avLst>
              <a:gd name="adj1" fmla="val 41916"/>
              <a:gd name="adj2" fmla="val -129430"/>
              <a:gd name="adj3" fmla="val 16667"/>
            </a:avLst>
          </a:prstGeom>
          <a:solidFill>
            <a:srgbClr val="0f549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ltimate objective of mainstreaming!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017E-BBF4-4323-87B7-F59198C91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Monitoring environment &amp; climate chang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12EE-27BD-4633-96BD-D8B4EA70C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3492360" y="3573360"/>
            <a:ext cx="2232000" cy="383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Mainstreaming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Rounded Rectangular Callout 5"/>
          <p:cNvSpPr/>
          <p:nvPr/>
        </p:nvSpPr>
        <p:spPr>
          <a:xfrm>
            <a:off x="395280" y="1916280"/>
            <a:ext cx="2438280" cy="1144440"/>
          </a:xfrm>
          <a:prstGeom prst="wedgeRoundRectCallout">
            <a:avLst>
              <a:gd name="adj1" fmla="val 96064"/>
              <a:gd name="adj2" fmla="val 94231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eteorology, climate variability, environmental parameter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Rounded Rectangular Callout 6"/>
          <p:cNvSpPr/>
          <p:nvPr/>
        </p:nvSpPr>
        <p:spPr>
          <a:xfrm>
            <a:off x="6372360" y="2205000"/>
            <a:ext cx="1979640" cy="838080"/>
          </a:xfrm>
          <a:prstGeom prst="wedgeRoundRectCallout">
            <a:avLst>
              <a:gd name="adj1" fmla="val -108745"/>
              <a:gd name="adj2" fmla="val 96180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limate chang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Rounded Rectangle 11"/>
          <p:cNvSpPr/>
          <p:nvPr/>
        </p:nvSpPr>
        <p:spPr>
          <a:xfrm>
            <a:off x="324000" y="3284640"/>
            <a:ext cx="2700360" cy="1981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Data collection, management and dissemin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trengthening of meteorological information &amp; syste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Rounded Rectangle 12"/>
          <p:cNvSpPr/>
          <p:nvPr/>
        </p:nvSpPr>
        <p:spPr>
          <a:xfrm>
            <a:off x="6012000" y="3284640"/>
            <a:ext cx="2928960" cy="1981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New pattern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Emerging trend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Projections, scenario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Tools for assessing impacts, vulnerabilities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&amp; risk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Cloud Callout 8"/>
          <p:cNvSpPr/>
          <p:nvPr/>
        </p:nvSpPr>
        <p:spPr>
          <a:xfrm>
            <a:off x="2681280" y="4876920"/>
            <a:ext cx="3781440" cy="1523880"/>
          </a:xfrm>
          <a:prstGeom prst="cloudCallout">
            <a:avLst>
              <a:gd name="adj1" fmla="val 620"/>
              <a:gd name="adj2" fmla="val -101967"/>
            </a:avLst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Is the mainstreaming process based on reliable information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uan Palerm</cp:lastModifiedBy>
  <dcterms:modified xsi:type="dcterms:W3CDTF">2014-02-08T15:03:59Z</dcterms:modified>
  <cp:revision>119</cp:revision>
  <dc:subject/>
  <dc:title>Slide 1</dc:title>
</cp:coreProperties>
</file>