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D83B-E227-4E07-9894-D7F13A6B5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5451-7770-4BF0-8CCD-4744362A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3AE0-07C2-49A5-82DC-11D9DE8F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9C62-C6E0-4D08-879E-127CAA96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6549-4BAE-4C34-BD77-6C5351DC9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BFD9-D439-4891-81FE-37E3EF54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B465-3144-454B-8C2B-312486C4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A404-FD31-4AEF-B6A5-8B079EF7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079C-4B8D-4D57-B2AD-07CD922A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639D-9B6A-462B-92A6-8B19EFC0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772B-FEC8-4197-9479-1A79BC60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2827-3CBF-4245-BDAA-5274EEE7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FB0D-8E45-4C5C-9724-3D1FB0FB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0DC9-795A-4080-AD17-6AF1982B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FBDF-1426-48D6-99FA-422DD6D2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6B7F-BD15-4B47-822F-61B289B84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8B54-EB15-4B9F-ADF4-F52982A0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041A-79C3-4DA6-9185-160B829E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2FB3-8E01-4223-9CDB-AB581416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5879-995C-468F-8551-1D55660A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962D-8AFB-457E-9593-71506354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0E3A-EF79-46E8-8584-E05D4FAF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2FD8-50A2-47E2-A4EA-D77A3A92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A55F-9F99-48DB-B23B-24545505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A2CF-413F-4365-9EEB-A0C263583680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03c72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AE0A-7C84-477D-BCA9-D708EB1A68EE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285264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Pre-Assessment and Assessment for Parliamentary Development 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325440" y="836640"/>
            <a:ext cx="568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d2d8a"/>
                </a:solidFill>
                <a:latin typeface="Verdana"/>
              </a:rPr>
              <a:t>Promoting domestic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d2d8a"/>
                </a:solidFill>
                <a:latin typeface="Verdana"/>
              </a:rPr>
              <a:t>accountability: engaging with parliaments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24000" y="5950080"/>
            <a:ext cx="590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03c72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14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nalysis and Design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341000"/>
            <a:ext cx="78598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Programme desig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ich areas of parliamentary functioning should be prioritised based on the Matrix analysis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ich support activities are indicated and what is the programme theory underpinning selection of these activities to achieve desired outcomes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at timeframe of support will be requir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at support modalities will best address these issues and what kind and scope of resources will be required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Are other actors involved in supporting parliament, and how will efforts be coordinated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9" name="Footer Placeholder 1"/>
          <p:cNvSpPr/>
          <p:nvPr/>
        </p:nvSpPr>
        <p:spPr>
          <a:xfrm>
            <a:off x="468360" y="6237360"/>
            <a:ext cx="763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5ECB-2F95-4ADF-869C-B27027DF72E5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nalysis and Design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341000"/>
            <a:ext cx="78598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roman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Monitoring and evalu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Bef>
                <a:spcPts val="1199"/>
              </a:spcBef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ow can programme impact be measured (may require measurement before and after programme)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at risk analysis has been conducted and what strategies are in place for responding to unforeseen circumstances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ow will programme outcomes be captured and communicated and fed into future programmes in-country and elsewhere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468360" y="6237360"/>
            <a:ext cx="763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6DED-2FC7-43F9-AB1E-2CEC31C01AE0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ssessment Framework - Overview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412640"/>
            <a:ext cx="7859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Stages of the assess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 the Reference Document we recommend a two stage approach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45720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e-assess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Are the basic pre-requisites for parliamentary support met?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Normally carried out by the Delegation to determine whether to proceed with a full assessment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45720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ull assess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Normally carried out by a dedicated team including national and international expert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Contains three stages: desk information gathering, discussions and interviews with key actors, and analysis and recommended programme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1" name="Footer Placeholder 1"/>
          <p:cNvSpPr/>
          <p:nvPr/>
        </p:nvSpPr>
        <p:spPr>
          <a:xfrm>
            <a:off x="468360" y="6237360"/>
            <a:ext cx="748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D33E-B88A-40F4-962F-1F1BE65DB20F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Pre-assessment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600200"/>
            <a:ext cx="78598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Determining whether a parliamentary support programme should be develop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asic political economic contex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asic rights and institutional legitimac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arliamentary make-up and functioning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elationship with other branches of govern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National and institutional commitment to parliamentary develop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pacity and commitment of Deleg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Footer Placeholder 1"/>
          <p:cNvSpPr/>
          <p:nvPr/>
        </p:nvSpPr>
        <p:spPr>
          <a:xfrm>
            <a:off x="468360" y="6237360"/>
            <a:ext cx="763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7C5A-631E-4EA6-BA19-2797B54BD019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Preparatory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1413000"/>
            <a:ext cx="78598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i) Establishing the assessment tea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rocess belongs to the parliament and their active participation is an early indication of institutional commit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Normally important to include both national and international exper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arliament should normally have a representativ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assessment team should report to a cross-party instance of parlia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9" name="Footer Placeholder 1"/>
          <p:cNvSpPr/>
          <p:nvPr/>
        </p:nvSpPr>
        <p:spPr>
          <a:xfrm>
            <a:off x="468360" y="6237360"/>
            <a:ext cx="763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BADA-19B1-4D38-8E06-767C527246A8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Preparatory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413000"/>
            <a:ext cx="78598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ii) Desk information gathering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t is important to understand the historical context of parliament’s development and the institution’s role in an emergent democratic syste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dentify where is the pressure for parliamentary reform – for example from the parliamentary leadership, from MPs, from civil society, and/or from the international communit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uring the context analysis relevant document should be processed and the key actors to be interviewed identifi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3" name="Footer Placeholder 1"/>
          <p:cNvSpPr/>
          <p:nvPr/>
        </p:nvSpPr>
        <p:spPr>
          <a:xfrm>
            <a:off x="468360" y="6237360"/>
            <a:ext cx="777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6350-4818-410B-B92B-E586EB86ED5E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7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nterview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268280"/>
            <a:ext cx="78598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iii) Assessing parliamentary performanc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Questions to be addressed are organized into four main domain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spcBef>
                <a:spcPts val="601"/>
              </a:spcBef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Legisl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dgetary responsibilit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versigh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Represent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actors to be explored are divided into five aspec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spcBef>
                <a:spcPts val="601"/>
              </a:spcBef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onstitutional power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dural clar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apacity and resour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xperience and expectation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olitical for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468360" y="6237360"/>
            <a:ext cx="755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D8E1-350C-4EC6-A7AE-EAA4ACB4CF12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Legisl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125000"/>
            <a:ext cx="78598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187560">
              <a:lnSpc>
                <a:spcPts val="2599"/>
              </a:lnSpc>
              <a:spcAft>
                <a:spcPts val="601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role does parliament have in drafting and amending legislation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63600" indent="-187560">
              <a:lnSpc>
                <a:spcPts val="2599"/>
              </a:lnSpc>
              <a:spcAft>
                <a:spcPts val="601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capacity has parliament to debate legislative proposals and to identify weaknesses and problem areas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63600" indent="-187560">
              <a:lnSpc>
                <a:spcPts val="2599"/>
              </a:lnSpc>
              <a:spcAft>
                <a:spcPts val="601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ability does parliament have to scrutinise, amend and approve the final versions of legislation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63600" indent="-18756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1" name="Content Placeholder 2"/>
          <p:cNvSpPr/>
          <p:nvPr/>
        </p:nvSpPr>
        <p:spPr>
          <a:xfrm>
            <a:off x="469800" y="3933720"/>
            <a:ext cx="785808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play a role in developing the budget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have sufficient time, resources, and capacity to analyse the budget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powers does parliament have to amend the budget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powers does parliament have in budget oversight and audit, and does it have the capacity to use those powers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Footer Placeholder 1"/>
          <p:cNvSpPr/>
          <p:nvPr/>
        </p:nvSpPr>
        <p:spPr>
          <a:xfrm>
            <a:off x="468360" y="6237360"/>
            <a:ext cx="7826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8292-D893-4B73-8C3F-FC0BF107C861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4" name="Title 1"/>
          <p:cNvSpPr/>
          <p:nvPr/>
        </p:nvSpPr>
        <p:spPr>
          <a:xfrm>
            <a:off x="507960" y="3213000"/>
            <a:ext cx="7786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The budgetary functio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Title 1"/>
          <p:cNvSpPr/>
          <p:nvPr/>
        </p:nvSpPr>
        <p:spPr>
          <a:xfrm>
            <a:off x="457200" y="81000"/>
            <a:ext cx="778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3d200"/>
                </a:solidFill>
                <a:latin typeface="Verdana"/>
              </a:rPr>
              <a:t>Interview St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Oversigh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3680" y="836640"/>
            <a:ext cx="785952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have the powers to carry out effective executive oversigh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have the resources and political will to hold government to account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receive timely and accurate information from the executive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8" name="Footer Placeholder 1"/>
          <p:cNvSpPr/>
          <p:nvPr/>
        </p:nvSpPr>
        <p:spPr>
          <a:xfrm>
            <a:off x="468360" y="6237360"/>
            <a:ext cx="77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C198-37AE-48A3-A09C-A24E03454D5B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Content Placeholder 2"/>
          <p:cNvSpPr/>
          <p:nvPr/>
        </p:nvSpPr>
        <p:spPr>
          <a:xfrm>
            <a:off x="482760" y="3500280"/>
            <a:ext cx="785808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ow do parliamentarians communicate and dialogue with their constituents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 parliamentary committees consult with experts and civil society in their deliberations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 what ways does parliament communicate its work with the wider public and interest groups?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the make-up of parliament reflect the diversity of the population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482760" y="3068640"/>
            <a:ext cx="778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Representatio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457200" y="81000"/>
            <a:ext cx="778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3d200"/>
                </a:solidFill>
                <a:latin typeface="Verdana"/>
              </a:rPr>
              <a:t>Interview St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nalysis and Design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341000"/>
            <a:ext cx="78598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roman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Commitment to reform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o are the key stakeholders inside and outside parliament and what is their attitude to the reform project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s there common recognition of problems in parliament and agreement about the nature of change needed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ow will the stakeholders be engaged in the project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structures and processes exist to ensure that the programme benefits the institution and democratic governance more widely, and is not captured by sectional interests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5" name="Footer Placeholder 1"/>
          <p:cNvSpPr/>
          <p:nvPr/>
        </p:nvSpPr>
        <p:spPr>
          <a:xfrm>
            <a:off x="468360" y="6237360"/>
            <a:ext cx="763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E4A2-ADCB-446A-86BE-A27C857C449C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MUGERIN Coralie (DEVCO)</cp:lastModifiedBy>
  <dcterms:modified xsi:type="dcterms:W3CDTF">2012-07-16T13:38:14Z</dcterms:modified>
  <cp:revision>19</cp:revision>
  <dc:subject/>
  <dc:title>Slide 1</dc:title>
</cp:coreProperties>
</file>