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BC36-DCB9-47D2-B4F9-353DC6616F8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16F2-5278-4C08-B86C-803525B4ED1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3934-977B-4A3D-B47E-C2B6CED53C6C}" type="datetime">
              <a:rPr b="0" lang="en-US" sz="1200" spc="-1" strike="noStrike">
                <a:solidFill>
                  <a:srgbClr val="ffffff"/>
                </a:solidFill>
                <a:latin typeface="Verdana"/>
              </a:rPr>
              <a:t>07/30/26</a:t>
            </a:fld>
            <a:r>
              <a:rPr b="0" lang="en-US" sz="1200" spc="-1" strike="noStrike">
                <a:solidFill>
                  <a:srgbClr val="ffffff"/>
                </a:solidFill>
                <a:latin typeface="Verdana"/>
              </a:rPr>
              <a:t> </a:t>
            </a:r>
            <a:fld id="{301A4A20-A556-43EE-ADB9-2C4E071E4C67}"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AF2E-7E8F-4560-B383-676DB3272B7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FD66-AE5E-4747-A163-F8FF551BEF6D}" type="datetime">
              <a:rPr b="0" lang="en-US" sz="1200" spc="-1" strike="noStrike">
                <a:solidFill>
                  <a:srgbClr val="ffffff"/>
                </a:solidFill>
                <a:latin typeface="Verdana"/>
              </a:rPr>
              <a:t>07/30/26</a:t>
            </a:fld>
            <a:r>
              <a:rPr b="0" lang="en-US" sz="1200" spc="-1" strike="noStrike">
                <a:solidFill>
                  <a:srgbClr val="ffffff"/>
                </a:solidFill>
                <a:latin typeface="Verdana"/>
              </a:rPr>
              <a:t> </a:t>
            </a:r>
            <a:fld id="{6466B620-18B2-4804-AF7A-E5631F6A3AE2}"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1263-76DD-4F62-B32D-740F58D276C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9A61-0621-4937-9637-9827E51E57E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F54B-29C1-491A-8434-CFAB097AEEB8}" type="datetime">
              <a:rPr b="0" lang="en-US" sz="1200" spc="-1" strike="noStrike">
                <a:solidFill>
                  <a:srgbClr val="ffffff"/>
                </a:solidFill>
                <a:latin typeface="Verdana"/>
              </a:rPr>
              <a:t>07/30/26</a:t>
            </a:fld>
            <a:r>
              <a:rPr b="0" lang="en-US" sz="1200" spc="-1" strike="noStrike">
                <a:solidFill>
                  <a:srgbClr val="ffffff"/>
                </a:solidFill>
                <a:latin typeface="Verdana"/>
              </a:rPr>
              <a:t> </a:t>
            </a:r>
            <a:fld id="{F5B9E4F0-FAFF-4560-B1A0-25E655CCE2A7}"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EF0E-C6E8-47C0-BAE9-8F32B95C86D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D92B-6A85-41E9-B468-C0341A1820B6}" type="datetime">
              <a:rPr b="0" lang="en-US" sz="1200" spc="-1" strike="noStrike">
                <a:solidFill>
                  <a:srgbClr val="ffffff"/>
                </a:solidFill>
                <a:latin typeface="Verdana"/>
              </a:rPr>
              <a:t>07/30/26</a:t>
            </a:fld>
            <a:r>
              <a:rPr b="0" lang="en-US" sz="1200" spc="-1" strike="noStrike">
                <a:solidFill>
                  <a:srgbClr val="ffffff"/>
                </a:solidFill>
                <a:latin typeface="Verdana"/>
              </a:rPr>
              <a:t> </a:t>
            </a:r>
            <a:fld id="{1A53B53F-F5B0-4ED2-9BEB-7EB3A2EE2B6B}"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58FE-E4C1-463A-A739-A71829EBA1D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0358-E67C-48F9-B947-8AFEC5814250}" type="datetime">
              <a:rPr b="0" lang="en-US" sz="1200" spc="-1" strike="noStrike">
                <a:solidFill>
                  <a:srgbClr val="ffffff"/>
                </a:solidFill>
                <a:latin typeface="Verdana"/>
              </a:rPr>
              <a:t>07/30/26</a:t>
            </a:fld>
            <a:r>
              <a:rPr b="0" lang="en-US" sz="1200" spc="-1" strike="noStrike">
                <a:solidFill>
                  <a:srgbClr val="ffffff"/>
                </a:solidFill>
                <a:latin typeface="Verdana"/>
              </a:rPr>
              <a:t> </a:t>
            </a:r>
            <a:fld id="{B29B9867-B896-4228-A6E7-B14BB24F97FB}"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8356-504F-4CCF-96F1-A408AC24261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37CC-4D60-40AA-AD7D-0C4C01314C8C}" type="datetime">
              <a:rPr b="0" lang="en-US" sz="1200" spc="-1" strike="noStrike">
                <a:solidFill>
                  <a:srgbClr val="ffffff"/>
                </a:solidFill>
                <a:latin typeface="Verdana"/>
              </a:rPr>
              <a:t>07/30/26</a:t>
            </a:fld>
            <a:r>
              <a:rPr b="0" lang="en-US" sz="1200" spc="-1" strike="noStrike">
                <a:solidFill>
                  <a:srgbClr val="ffffff"/>
                </a:solidFill>
                <a:latin typeface="Verdana"/>
              </a:rPr>
              <a:t> </a:t>
            </a:r>
            <a:fld id="{9BC69B7B-BC39-4E42-9BFD-E1F3644849B6}"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9440-92DE-44A7-A422-EE74A2F69B9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AE34-9CF8-4E40-9E35-894F2CACB18B}" type="datetime">
              <a:rPr b="0" lang="en-US" sz="1200" spc="-1" strike="noStrike">
                <a:solidFill>
                  <a:srgbClr val="ffffff"/>
                </a:solidFill>
                <a:latin typeface="Verdana"/>
              </a:rPr>
              <a:t>07/30/26</a:t>
            </a:fld>
            <a:r>
              <a:rPr b="0" lang="en-US" sz="1200" spc="-1" strike="noStrike">
                <a:solidFill>
                  <a:srgbClr val="ffffff"/>
                </a:solidFill>
                <a:latin typeface="Verdana"/>
              </a:rPr>
              <a:t> </a:t>
            </a:r>
            <a:fld id="{65CDD643-6DD6-4B1B-9C19-35B5A12C02CD}"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8D27-41CA-4FB5-8918-6CF861B542D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11CA-6A30-4A7E-8E5A-B6A31E60828F}" type="datetime">
              <a:rPr b="0" lang="en-US" sz="1200" spc="-1" strike="noStrike">
                <a:solidFill>
                  <a:srgbClr val="ffffff"/>
                </a:solidFill>
                <a:latin typeface="Verdana"/>
              </a:rPr>
              <a:t>07/30/26</a:t>
            </a:fld>
            <a:r>
              <a:rPr b="0" lang="en-US" sz="1200" spc="-1" strike="noStrike">
                <a:solidFill>
                  <a:srgbClr val="ffffff"/>
                </a:solidFill>
                <a:latin typeface="Verdana"/>
              </a:rPr>
              <a:t> </a:t>
            </a:r>
            <a:fld id="{F0CA7B0C-5E46-468E-A3DD-C8F47F64F031}"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C41D-7EBA-4655-9CAE-5AD8DF8B3E8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94DF-F911-4B0B-9BEB-44BBAA94AF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40B1-79D3-48A1-BC0D-BCBC168C28A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1763-A234-42A6-8049-1A99A4275A0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1C0A-664B-496C-BF7C-D242757C1CA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05EA-B542-42FD-8BFA-3CBE82971385}" type="datetime">
              <a:rPr b="0" lang="en-US" sz="1200" spc="-1" strike="noStrike">
                <a:solidFill>
                  <a:srgbClr val="ffffff"/>
                </a:solidFill>
                <a:latin typeface="Verdana"/>
              </a:rPr>
              <a:t>07/30/26</a:t>
            </a:fld>
            <a:r>
              <a:rPr b="0" lang="en-US" sz="1200" spc="-1" strike="noStrike">
                <a:solidFill>
                  <a:srgbClr val="ffffff"/>
                </a:solidFill>
                <a:latin typeface="Verdana"/>
              </a:rPr>
              <a:t> </a:t>
            </a:r>
            <a:fld id="{619D8116-1BAD-4E6C-B707-61DC2437136C}"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FD11-79A0-475A-8A80-679B01436A8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EFB7-1BF6-4FF6-AC02-40E315F2B07A}" type="datetime">
              <a:rPr b="0" lang="en-US" sz="1200" spc="-1" strike="noStrike">
                <a:solidFill>
                  <a:srgbClr val="ffffff"/>
                </a:solidFill>
                <a:latin typeface="Verdana"/>
              </a:rPr>
              <a:t>07/30/26</a:t>
            </a:fld>
            <a:r>
              <a:rPr b="0" lang="en-US" sz="1200" spc="-1" strike="noStrike">
                <a:solidFill>
                  <a:srgbClr val="ffffff"/>
                </a:solidFill>
                <a:latin typeface="Verdana"/>
              </a:rPr>
              <a:t> </a:t>
            </a:r>
            <a:fld id="{D42FE44F-0070-4092-9C60-959818A0A939}"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4A5E-B068-4494-A3B1-30AAEB4BE3E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07B5-C2CC-4CAB-B88D-A08AEDE0EFB5}" type="datetime">
              <a:rPr b="0" lang="en-US" sz="1200" spc="-1" strike="noStrike">
                <a:solidFill>
                  <a:srgbClr val="ffffff"/>
                </a:solidFill>
                <a:latin typeface="Verdana"/>
              </a:rPr>
              <a:t>07/30/26</a:t>
            </a:fld>
            <a:r>
              <a:rPr b="0" lang="en-US" sz="1200" spc="-1" strike="noStrike">
                <a:solidFill>
                  <a:srgbClr val="ffffff"/>
                </a:solidFill>
                <a:latin typeface="Verdana"/>
              </a:rPr>
              <a:t> </a:t>
            </a:r>
            <a:fld id="{82F85601-D591-41A5-AE25-A154BE31B8BA}"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C387-6E10-481A-A88D-F15A3A7DF33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FE089-F304-47B7-A26E-73211E341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CD2A2-7D09-4D4A-A710-FBABB9790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6725E-CE7B-46B5-B685-D0C6ECEEC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D63F1-16DF-40A4-B937-EFE8486B2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56B6A-61E9-49BC-8F14-0C48A1A62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5E8A2-624D-4799-A08E-500A024C5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C2851-204D-411E-8BE1-07013E36C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53A3E-9A60-40ED-A2D1-741B734E7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27742-087F-4102-B63D-2C373B15D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1DCF6-A7BC-43AB-95AB-235AE0AD6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1B097-D05A-40BB-BE03-80D91048B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ACB38-CA2E-4EAA-8F64-2D3810F2F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E8308-B20A-40BA-B7CE-C625C3464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18003-721E-4763-9E90-EFA609892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C7270-5E1F-4F09-B27C-8F70BB10C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F5333D-8AF4-42F5-B5F3-D13E040F9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E888F-CC3E-4001-823C-7CEE5E856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CD80D-ECA1-4E4A-89B8-6E9167C54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1222A-6D40-4B4E-A550-EBB87F4DB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475FE-40E8-475B-A196-DD5A88E81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48576-79C5-4190-8134-6479C5023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A81FB-EE73-44E2-BBFC-E0E54854D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A4446-7C4C-4858-91A2-6A324A7C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BD7B-D593-4429-944F-FF0173A2C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2AB8-18AC-4F35-AD60-0B508375FC2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1C40-85A0-42E5-B0F3-974A588FB91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273A-4D5B-415B-AD19-23B8EAB8D6DE}"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