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BC71-3D01-46AA-8566-8A11A018AC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F4D8-0386-4D1F-ADF5-4EEC26982F6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C519-CD41-4FB8-A74B-86523CFFFC8C}" type="datetime">
              <a:rPr b="0" lang="en-US" sz="1200" spc="-1" strike="noStrike">
                <a:solidFill>
                  <a:srgbClr val="ffffff"/>
                </a:solidFill>
                <a:latin typeface="Verdana"/>
              </a:rPr>
              <a:t>07/29/26</a:t>
            </a:fld>
            <a:r>
              <a:rPr b="0" lang="en-US" sz="1200" spc="-1" strike="noStrike">
                <a:solidFill>
                  <a:srgbClr val="ffffff"/>
                </a:solidFill>
                <a:latin typeface="Verdana"/>
              </a:rPr>
              <a:t> </a:t>
            </a:r>
            <a:fld id="{D0B2050D-D2D2-4001-A09B-8DE9164CCE79}"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B648-D699-4538-88F8-0371107A034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8DC1-D378-4829-BF4F-B87DF95398A2}" type="datetime">
              <a:rPr b="0" lang="en-US" sz="1200" spc="-1" strike="noStrike">
                <a:solidFill>
                  <a:srgbClr val="ffffff"/>
                </a:solidFill>
                <a:latin typeface="Verdana"/>
              </a:rPr>
              <a:t>07/29/26</a:t>
            </a:fld>
            <a:r>
              <a:rPr b="0" lang="en-US" sz="1200" spc="-1" strike="noStrike">
                <a:solidFill>
                  <a:srgbClr val="ffffff"/>
                </a:solidFill>
                <a:latin typeface="Verdana"/>
              </a:rPr>
              <a:t> </a:t>
            </a:r>
            <a:fld id="{7F04C2DE-8BB2-4F7B-A794-79A266330065}"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1B39-C098-419F-8C80-80F8AA11BB9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8C14-538B-4724-A7DA-A2A48CBED3F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173A-02F2-49AA-A3EE-D0EBB08B5342}" type="datetime">
              <a:rPr b="0" lang="en-US" sz="1200" spc="-1" strike="noStrike">
                <a:solidFill>
                  <a:srgbClr val="ffffff"/>
                </a:solidFill>
                <a:latin typeface="Verdana"/>
              </a:rPr>
              <a:t>07/29/26</a:t>
            </a:fld>
            <a:r>
              <a:rPr b="0" lang="en-US" sz="1200" spc="-1" strike="noStrike">
                <a:solidFill>
                  <a:srgbClr val="ffffff"/>
                </a:solidFill>
                <a:latin typeface="Verdana"/>
              </a:rPr>
              <a:t> </a:t>
            </a:r>
            <a:fld id="{4353477C-1498-4A30-8011-81A2ED89EA36}"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946A-F760-49D6-9187-4FF66817115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A711-75CD-4B8E-BE7A-418B04AB4675}" type="datetime">
              <a:rPr b="0" lang="en-US" sz="1200" spc="-1" strike="noStrike">
                <a:solidFill>
                  <a:srgbClr val="ffffff"/>
                </a:solidFill>
                <a:latin typeface="Verdana"/>
              </a:rPr>
              <a:t>07/29/26</a:t>
            </a:fld>
            <a:r>
              <a:rPr b="0" lang="en-US" sz="1200" spc="-1" strike="noStrike">
                <a:solidFill>
                  <a:srgbClr val="ffffff"/>
                </a:solidFill>
                <a:latin typeface="Verdana"/>
              </a:rPr>
              <a:t> </a:t>
            </a:r>
            <a:fld id="{DE70F92E-A11A-4556-B113-DDDA054D05EA}"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521C-E41B-4D56-883A-C925208DCAC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1D15-A345-400B-8C20-74E524EA5046}" type="datetime">
              <a:rPr b="0" lang="en-US" sz="1200" spc="-1" strike="noStrike">
                <a:solidFill>
                  <a:srgbClr val="ffffff"/>
                </a:solidFill>
                <a:latin typeface="Verdana"/>
              </a:rPr>
              <a:t>07/29/26</a:t>
            </a:fld>
            <a:r>
              <a:rPr b="0" lang="en-US" sz="1200" spc="-1" strike="noStrike">
                <a:solidFill>
                  <a:srgbClr val="ffffff"/>
                </a:solidFill>
                <a:latin typeface="Verdana"/>
              </a:rPr>
              <a:t> </a:t>
            </a:r>
            <a:fld id="{65696A12-8651-432C-919F-99297054E9FF}"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2600-925C-4C26-860A-CB9B8DEE7CC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9DDD-8177-488A-860F-0B00D0506463}" type="datetime">
              <a:rPr b="0" lang="en-US" sz="1200" spc="-1" strike="noStrike">
                <a:solidFill>
                  <a:srgbClr val="ffffff"/>
                </a:solidFill>
                <a:latin typeface="Verdana"/>
              </a:rPr>
              <a:t>07/29/26</a:t>
            </a:fld>
            <a:r>
              <a:rPr b="0" lang="en-US" sz="1200" spc="-1" strike="noStrike">
                <a:solidFill>
                  <a:srgbClr val="ffffff"/>
                </a:solidFill>
                <a:latin typeface="Verdana"/>
              </a:rPr>
              <a:t> </a:t>
            </a:r>
            <a:fld id="{79E32546-6243-466C-AC5E-C710D26EDC40}"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4F57-D70F-4666-B166-D44B5B22AF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0990-868F-4654-AB62-F9D1B6626487}" type="datetime">
              <a:rPr b="0" lang="en-US" sz="1200" spc="-1" strike="noStrike">
                <a:solidFill>
                  <a:srgbClr val="ffffff"/>
                </a:solidFill>
                <a:latin typeface="Verdana"/>
              </a:rPr>
              <a:t>07/29/26</a:t>
            </a:fld>
            <a:r>
              <a:rPr b="0" lang="en-US" sz="1200" spc="-1" strike="noStrike">
                <a:solidFill>
                  <a:srgbClr val="ffffff"/>
                </a:solidFill>
                <a:latin typeface="Verdana"/>
              </a:rPr>
              <a:t> </a:t>
            </a:r>
            <a:fld id="{561F55D3-D802-40F6-A8E9-E0E6708D3B64}"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8075-E3D5-430C-A028-66029FF4ABF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6B59-61C6-46EB-A77F-B954183BAEF1}" type="datetime">
              <a:rPr b="0" lang="en-US" sz="1200" spc="-1" strike="noStrike">
                <a:solidFill>
                  <a:srgbClr val="ffffff"/>
                </a:solidFill>
                <a:latin typeface="Verdana"/>
              </a:rPr>
              <a:t>07/29/26</a:t>
            </a:fld>
            <a:r>
              <a:rPr b="0" lang="en-US" sz="1200" spc="-1" strike="noStrike">
                <a:solidFill>
                  <a:srgbClr val="ffffff"/>
                </a:solidFill>
                <a:latin typeface="Verdana"/>
              </a:rPr>
              <a:t> </a:t>
            </a:r>
            <a:fld id="{B65F4FA2-2980-4DB9-BFFC-4FD175CFE770}"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55BE-13ED-41A8-B9E8-7F668BA1C78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133C-0CAA-45E6-92FD-92519AFDB32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47F8-BEAC-43A2-AF28-261D8D80596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6065-F7F4-4AA8-9C15-88CBEB43D16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6628-78B3-4600-8F5F-1025CFE7BF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FFD4-C2E4-4585-8844-B5BC735D582D}" type="datetime">
              <a:rPr b="0" lang="en-US" sz="1200" spc="-1" strike="noStrike">
                <a:solidFill>
                  <a:srgbClr val="ffffff"/>
                </a:solidFill>
                <a:latin typeface="Verdana"/>
              </a:rPr>
              <a:t>07/29/26</a:t>
            </a:fld>
            <a:r>
              <a:rPr b="0" lang="en-US" sz="1200" spc="-1" strike="noStrike">
                <a:solidFill>
                  <a:srgbClr val="ffffff"/>
                </a:solidFill>
                <a:latin typeface="Verdana"/>
              </a:rPr>
              <a:t> </a:t>
            </a:r>
            <a:fld id="{5526A722-1952-4722-A17D-4809151D3176}"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88AF-0FC7-4373-9017-7158F353D5A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7677-2408-4049-BA52-C311C90F2391}" type="datetime">
              <a:rPr b="0" lang="en-US" sz="1200" spc="-1" strike="noStrike">
                <a:solidFill>
                  <a:srgbClr val="ffffff"/>
                </a:solidFill>
                <a:latin typeface="Verdana"/>
              </a:rPr>
              <a:t>07/29/26</a:t>
            </a:fld>
            <a:r>
              <a:rPr b="0" lang="en-US" sz="1200" spc="-1" strike="noStrike">
                <a:solidFill>
                  <a:srgbClr val="ffffff"/>
                </a:solidFill>
                <a:latin typeface="Verdana"/>
              </a:rPr>
              <a:t> </a:t>
            </a:r>
            <a:fld id="{1836A11D-0ECA-4271-B947-47620443C40A}"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3CE1-A54C-48E5-BFAC-2562F50DBD4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2185-A889-4B6C-BD47-C44643416797}" type="datetime">
              <a:rPr b="0" lang="en-US" sz="1200" spc="-1" strike="noStrike">
                <a:solidFill>
                  <a:srgbClr val="ffffff"/>
                </a:solidFill>
                <a:latin typeface="Verdana"/>
              </a:rPr>
              <a:t>07/29/26</a:t>
            </a:fld>
            <a:r>
              <a:rPr b="0" lang="en-US" sz="1200" spc="-1" strike="noStrike">
                <a:solidFill>
                  <a:srgbClr val="ffffff"/>
                </a:solidFill>
                <a:latin typeface="Verdana"/>
              </a:rPr>
              <a:t> </a:t>
            </a:r>
            <a:fld id="{C12AF050-1005-4D05-B38C-6A21941F391B}"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A436-BBE5-42BF-A853-354A4DFFF8A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E506B-6AEA-48DA-996B-6108C1244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A47BF-C5F4-4211-8EBC-AC932281B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925A8-F4BE-40D5-BA4E-B0CDAEE8A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C132A-244B-4A6B-9673-F93CDDFDB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EC24C-E09E-4A87-9058-1877025FE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83853-A9BC-4E5F-805D-08659D4CB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232D1-D025-4489-B8A1-606B7418A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6D5F3-DF29-4BFA-A5C5-567DB1F52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0EC5E-65F8-4F1E-8C1C-9C5A7B1EE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B4543-C913-4303-942B-DB72BE258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CF7D2-0E6C-45EA-B9A7-1152A3461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B49D-3181-4976-920F-CFF5DDF66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510B7-8FB7-44D0-86B6-18E892E6E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81B39-D3DA-4E32-B1CA-9BFC1F5B2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E8C05-627B-4B50-B5F5-557C49335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B3AA4-6344-41CB-B249-6ACE93292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627BD-8827-4BBB-89A1-DDB215B4E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013E0-0823-4A89-8195-92E8A65F3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FF8B3-17C9-4420-8B1A-C82F9332E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6E0C-DF74-4642-8422-E63350328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AA00D-11A8-46A7-B849-C20452B3E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FF13-D150-46AE-BC49-86AF4B7C2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F061-79E9-4618-8EF6-800F520AC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CC2A7-5E38-4A19-AEB9-FC007DC9F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78A5-91E2-4AA6-B960-FAA1572F32C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76B9-0F72-443B-9B27-54A1B64DF7E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1C5A-A23A-4FBF-A495-DE930FE2DCBF}"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