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E214-A413-448C-AFD8-CA34C75A78F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5CB2-0249-48D2-81C5-4AF2E1591F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45D7-686C-4D05-87D1-702B3A4CFD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8A61-CEF7-4173-9430-AE084A17E8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F34A-3FF0-4C90-A785-4702F63349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A0B0-6D6D-4E74-9119-39E541102D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013A-9F4A-4A85-AAB6-17E23C191D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37DC-B74A-49A3-800F-52AFD69420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07818-DB33-40F3-B856-EAF570F6B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7FE2-DE10-4244-93EC-309BCCB1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59F307-7F7B-4F80-8508-2288A2B1F6E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983BBD-64A1-40AF-8223-6027434EDFF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0D57B9-D48E-40EF-849F-7422076FAD9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20EE99-0841-45FB-81CD-BF7BB89CB0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521D28-6DEB-41D0-BD38-0F0EEA5F213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100782-82E3-48B3-A78C-54F5126024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8208673-7EA7-49A9-85D7-D7F894D4C5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BC389A0-A23A-4902-9AA3-69E808ECCAD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910D5B1-FF79-4037-A00B-6F4FB2CD61C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38EBCD4-1B2A-4E0D-8981-3B3334DAE8E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D92D7-AC5C-4BB1-A5C6-BABB70B39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61F883-AF2C-48AF-B623-A385E35E10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D1E84E-EF66-449F-9BFB-F21916258AA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0ED59F4-DE5C-497C-AD97-2C1939DE03F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C732768-5678-4363-9D97-DB6515F3F2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228018C-1D27-4BC1-853A-336833AF851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ACAD31-2AC5-4526-8D5A-86F8FCCD51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52FA2A-2593-41E7-9D03-027830FD83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A00A0C-782D-467E-8DA9-CECD482814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0033D3-CC12-4DB4-8004-08D8B89589F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9B1BF76-9BC9-48B1-8195-886D8A04520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F86EB-3B6E-43E8-AE38-3E2A6CCC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5F6718B-4EB1-43C2-ABD1-B07A40652B2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4C4C1F5-A77E-4EC6-868D-C02506AED53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A426735-3C9D-4468-8824-519444AF73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CEAC25B-2C42-4AB7-B0DE-9DE58D5F08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757AEE-D752-4CFB-AC6F-65FE7D5123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6FD07BD-65F2-4F89-8EF5-39E233C134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B647651-1EEF-426F-88FE-83D9251350D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86DBB2B-E083-4E6A-A317-DA96FCED68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66F0F53-7590-4C8F-84AA-E1B04F6A14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013C9F2-FFFA-43DD-8726-EBD0B71250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78643EA-8B11-4335-897B-A4D37A504C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697E2CF-1CA5-4883-AE89-3582A9F43C6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BC5D15D-6DE2-43D5-AB29-6F6A00C26D0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3655599-A6F4-4EDB-821C-228385CAAF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EEED87D-5941-4015-81B3-C460CF1107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221E12F-46A1-437A-8ECB-3E459B69CD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7F9DD2A-75C0-489C-B097-90A2C5626F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D5C25C6-BE6E-4915-A863-0EAAC217C2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7C8A9E4-46BE-4379-984D-120CC34818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D6CB74-99AD-4BD9-95FF-5EC6C2006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BEFC9C4-A731-4E53-84FC-E576D93279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E1B15F2-B61F-4086-B7AA-350909B030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2697DF-D9BC-4812-9A08-3BACFF029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9C17C73-B99C-4B04-A641-84BB157963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FED2B9E-48E5-47F8-B12A-68B6CA037B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CA0DF2F-5DD7-41B5-9FA3-C5BFB66682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9949F86-E201-41E9-B0ED-0B96D123E4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B5753C-7947-4DB7-9381-CC81697D0A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7BBA9D0-3794-42C3-93FF-42ED26CBC7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2000E81-4705-4ABF-AB3E-7007E7F122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58B4DE4-D81A-40AD-9C1B-A383385069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C98289-ABA3-4531-9FC6-4B2AC295B5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6C91F8-598E-46D5-8F64-6E0D490D55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185E13-EAE6-459A-9185-EDB7E2EF3A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008FFAA-A817-4D70-A51C-57E9B563A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1EF02FF-59FC-4706-B426-F755653A4C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AB1E250-5B8C-4733-BF90-BD37C26D7E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071DCE0-CD03-4C3D-B42D-652938C8A0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91F11BC-F612-4F54-A73E-8053361DC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0F75F37-0100-4BAB-A8A3-560713590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E8A05EF-549B-4C3E-917A-54F87C8A35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49EB095-539A-4EF3-A516-99801C9542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5F588A-BF56-4DF5-8A18-66B442115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420BC92-C60F-403C-BC94-E93B52793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DD3E259-D0B1-495B-8997-8DCD91113D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345962C-21D9-40C1-8828-D3088FEE2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1EBF65B-D19F-48F2-B2D6-73F3894AD4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AAA9D37-8B77-4105-88D1-BCEF014E3C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87CEB44-13C9-4513-BF90-A342D04C5F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DA67487-C34E-48B5-B17E-D385045AFE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1B85A8B-0255-4558-9446-AC2D1CCC93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21F03D3-6319-4AF0-BE7F-6542671F8D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7328B4F-DE6C-4EA3-89EF-7A028E139A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CA8AD75-70D6-4091-9DA8-62B791FE51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D2D8DA7-68A8-4A74-A52A-7E3F4A3EF0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4582C73-A061-4EA6-8834-0E56F98F55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15DCA10-C6F1-43B8-B20F-6D9A82A14B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5093D91-55BD-44D4-BCFC-67E225392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FABEF05-2C6D-48C0-B48B-31141C25E3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0510641-14B6-4EF5-8524-356B28FB78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969432D-5486-45CF-8DF4-1E70D760F9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58247BA-F51D-472A-B5A1-D70D63532E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5695607-43D9-49EA-BF0C-24D87BAA0D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8AF0285-4212-495C-964A-66994B12A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5B86D2B-BD43-4ED4-A010-06AB29E020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3B8F6F3-AD51-4991-A7E2-213D866C3F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7193530-C035-4E66-8F76-434A2450C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EE9D8E2-0591-42EB-B75D-8C9D6AF6D6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66F93E6-4FBC-44BA-AF26-8DB1CC0832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43886CD-A34A-4F67-87FC-6769AB29AF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8E57BEB-C613-4C7D-8A4D-D0E9CEBA5B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3BD94BD-0FCC-46B1-8EF6-438CB411BC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C1EFBDD-766E-4BEF-8A9A-353F21FA88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937F366-389E-4228-AC27-1C13DF05CE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6C504AE-105E-47C4-9C7D-84A2CAB802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96B352F-7089-4524-BD79-676D69BB50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B106718-B25A-4E73-96E1-30B7ADF214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2BCB307-F25C-401A-9B58-4C0B97328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F9C9F12-F942-48C1-8729-789F3B810D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5424F74-DAF3-4E35-A7C9-3D5B964EDB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2226-B370-4719-940A-F0803C66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E42C533-DE7C-4A6C-B48A-5E3A2314C5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4830D31-66D3-4F44-A4E9-A6A4F4E5AE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257E345-A4EE-4821-B229-E8AE8962E4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D6EB563-6968-4E1F-818E-C1BE7B6C4F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FC460D3-58A1-491F-8834-81BA596E87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5C34F1A-B89A-4283-9176-20F2236175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3B4B44B-CBD2-4371-B572-0357553F4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AA3C86D-94F8-4D46-943C-5ABA832BE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33F3C3D-1540-41B1-A93F-0641B03581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AC01562-71E8-4E40-8641-0FB84B7E4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076B723-C586-482D-B355-C0B783DAD7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A66CBA3-49D3-4748-8074-25DD0ADADE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B3A71FB-C8B5-4BE9-BD72-B50ACA2F3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486BB4B-61B5-409E-B249-68D5EFB230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D2FAAB2-E73C-4B9F-A88D-E0C474A14E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D71C96A-E568-4CEA-BFC7-F381970019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92E6385-E4E3-41D1-BEFD-926A4AFF65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B9E2D27-F377-4571-A181-9F1D1F8D1F0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9A36C29-37CB-4DCB-85DB-71B3B93F34E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03C1B34-4E49-473F-9B5B-AA28F3F122E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8BFDB42-0060-46B3-BB99-5CE512D6F09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61C02DE-4BFE-4DCE-B79B-4EB1B488A48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7609082-CAC8-4E3E-9827-6ADCAB77523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79D4001-3D3C-468E-89AD-6490B57F1DD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FA90F92-67C0-4A8B-A10A-1ADB67ABDDE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FCC5579-0688-4552-A109-7EB09E053A5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E898F2A-1008-47AB-83BF-2AF254EFBC5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F1FA0AE-0C21-4587-B5AD-472BFCEBF01F}"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5FD7EE7-2332-4D77-A89F-3357F40B9C4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C8CB5E4-CCF0-4C23-B803-88922B2AF44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F6840C8-9C46-4981-9F6A-F6A043EDBE3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731ED02-7341-4B63-9566-5295B8EAA8F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B288C51-604C-48DE-87C3-D609F6E8C46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6480313-41E1-44E6-AE58-22B97F8BC07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8004B80-963A-4672-9AD5-0155D70D02B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BC3A409-4322-4FC7-95A1-826A2A0ABFA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3F1262B-3932-4F0D-84E0-7FF6EC832C9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DEC3391-2801-45E2-8B1A-EC6A00B456D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3ECA396-2068-4ECB-96AD-7FF50D14AF6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F51A4D4-1AD3-4FA2-AC18-44A2F2C3E8CD}"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0E32652B-557F-47BE-B93E-B9F6B406CDD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3EB0D-566E-4EEC-ACD4-AC49A8AAD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9EC2B-B49E-4DC8-88DE-AB6049D24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ACC7F-6360-485E-ABF2-B2708A310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D9AD5-2A6D-480F-847F-790D0C300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D9C80-51EB-46C6-BB43-47675599F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3835-D7D0-4A10-9144-682E9E27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D5921-3988-4EFD-AD9A-CD82DA356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5C630-9B6C-4967-AC2A-C1C7A5462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BADB5-772A-4E35-B306-CAD882ACA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D0A3-D901-44E5-AC73-58280755E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0207-7FD6-477E-8482-13054A40C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8FA60-C1EC-483D-BB72-23F62A740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C38BC-95FD-405F-9D72-4AE7061B4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7CA909-9644-4F2B-8D7A-49BC6EB32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F30E1-01F7-4679-9CD9-A8D2AE4D0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D5680-18F1-40CB-89D5-AB28DD5D5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CBE4-1EE1-426D-A6A8-6415B81F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017DD-5DFC-47BB-A9B9-33106A651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287AF-199E-4EAD-B0CA-74DBE3F2E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36BA3-B6EF-4D39-96E0-DFFD30DC9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901F9-40A8-445A-8AD2-65DB67CD1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06780-F78F-4082-9199-3F67ABC67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E792C-E286-47E6-BC33-FA0F1AD5C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28979-A0F0-4122-9235-C079F39B3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E972B-1402-4AC9-89C5-505DAACA7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11D69D-2CF2-45CD-8EBE-AC25EE9C42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BE2F33-F6FB-4D18-90A9-DAC9F506F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4111-C1B5-4AD2-926E-28F0B500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FB6B7-2D71-4512-A49F-CF5FABCF9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9041F-87E8-4CE8-9B67-DA2544CF34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8F44F-B4C3-4828-91D1-04762801A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99F93-26B3-4DDC-BD84-FFF58A748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4FC9F-DBFE-4222-9C43-3C6253E82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8B05B-B1B0-41FE-8FB6-D7AFBD213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2CBC9-5739-45AB-99DF-10D367C2E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FA8AF-AB03-47E1-A9C9-8305FE3A8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5F44E-2F72-467C-986F-E7A28E991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3C046D-3F2B-4AA7-8F70-757C2F2E8D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707C-ED08-4642-A328-AE0374DE0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E67BA8-526B-4F86-BA39-B898592F7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C01CDE-4F5C-4C09-9471-F2F10231E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412B2-E09A-4097-A6DC-35089F05F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E58E9-1E3B-441B-9D5C-5B6AB7556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C7493-483A-4267-B79C-5C983CF0C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BC063-D587-4002-A105-680EA0891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7C09A-4066-4D24-9082-3E7818DE3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BE3BA-E7D1-4CDF-8857-8E16ADE72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29D7C-8020-44B7-A3F6-14C565B2E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F1536-1DB5-4193-B4C4-3B5058315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E45C-0FE0-41AF-9448-B320BE49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BBF2D-B75D-45F9-9679-452173947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6FE92F-FB42-4145-A6B6-30B1F64AD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E6011-39D5-4F97-A779-182C0C77C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23CBA-E104-459B-89C9-D624F1E88E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5A2F7-8919-4562-88EB-010BE67FB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A9CD69-14CA-423D-9500-F4B4108B6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1E0A5-43E8-419E-A1E4-CB1B59A30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08D5C-1E4B-42A1-93EF-5B11A639F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4E7E3-3368-4ACB-996B-40D25270B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09BFB-08C2-4C34-B6C2-B48C617FE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835D-2030-458C-8B5A-AEF7AF6F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74ED5-3869-4B3C-A386-529013FD1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8A621-F2B6-4578-95EA-43437FFD3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EC8DF-B52C-4B6A-8386-2727F192E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782E74-778D-4827-B218-24B15D28B5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92B8AB-126A-4345-8129-5A42E0E063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F55919A-A2A3-4351-9BB5-8D0AABDF3F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C6932D83-F1C8-4DE1-811C-35BBC299DF6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C76B55FA-F2B5-489A-8095-84F46E30F6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4715B33F-01F0-4D20-8EC4-D94F0EC348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F72D1EAF-E8E6-4EAD-8660-92FFDCC34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6032-199B-47E6-BE59-2BAB19C6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8B0BCBA2-03DC-407D-B47C-AA343E0243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FA8D7DD2-8DDD-4A54-B7AB-255CD2985A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6C01E047-24F1-46AB-A105-56E6F38688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0CF4646E-ECD7-42E9-A18B-FC9FB70228A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E2A4B319-FCB1-449A-9722-44DC22DC08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9027CFA7-79AA-4756-8969-9F8785039C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8566E52A-7B97-465B-875E-794C123602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B2BD12C-ACBB-4DD7-A7F3-B3696AC5D2C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AA453D8-91CC-4D0E-BF50-9DD50C8E36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0A04FB-52D1-4DDD-AED3-A1361616C8EE}"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DC14-2CF2-483B-9388-80D83555B2B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9557-00FB-4300-A77D-D9026CF34E0C}"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962A-0220-4AC5-B8CE-CBBB659AF6E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8F0A-C813-468B-8A4D-CDA27391A9DC}"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29FC-F172-4D38-ADB2-8F06D767E75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7F1E-35BD-4333-AB4D-5A619FC008DC}"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D3CB-2A95-45EB-A6D0-464CDFE58E9D}"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B3E6-B706-4A23-80A5-A234BCCC826C}"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B99A-AC0A-4E94-A2EE-CA272341B74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0BE6-D5DE-4D6F-B5AA-50C317F7ABB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4ECC-9CF3-4BC1-95D0-F41DF9C0E9B5}"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6169-D850-4E60-A50A-0568BD30573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C34C-79B5-451A-9F3D-24038E73208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4F8E-53BC-4E85-A6BF-EC8F49AC3436}"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9DD2-5848-477F-A033-E9E653D238D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7E3B-C37A-486A-8926-8E3CFBC40536}"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DBC3-0FA3-432D-93B5-2B93FC96B6C2}"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51E2-D692-4E5C-BB8E-1BF1859E2040}"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0A76-5BF0-40EC-A9A2-92E4E29B4EC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4999-B9CD-4965-AB15-F6C3D9A645B1}"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3D56-80CB-41BE-BC48-84A55EB51DE5}"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7798-2083-4110-AFD8-948E31E83ED6}"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FB2B-8A65-4F26-85D3-67055AC0CC62}" type="datetime">
              <a:rPr b="0" lang="fr-FR" sz="900" spc="-1" strike="noStrike">
                <a:solidFill>
                  <a:srgbClr val="898989"/>
                </a:solidFill>
                <a:latin typeface="Times New Roman"/>
              </a:rPr>
              <a:t>31/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100C-4199-4E40-A89C-90ADD9B8714D}"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A7EC-3FE1-4632-B689-5093F31EAA0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DC9E-4623-474C-A364-E5008E16900A}"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7DBF-6457-4D9F-9A8F-BE067A9B14F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326D-4B9A-4BE7-BAA4-6CC8A80EF214}"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6258-5A34-4059-97D0-6E2070E5B50A}"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AE7B-8842-44F0-887A-1CF8FA83AEA6}"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8283-E08D-491F-91D3-FB33BDE25DF8}"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9D9C-411F-43F8-A423-F52E739E7B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EAEE-4C46-4CE4-A845-782146A6670E}"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F286-BECE-4CFA-B059-1A2002CC7FDA}"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F7CA-82B4-4369-81D2-BC0155BC4316}"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