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9C866-9FF5-4B9C-A8DB-C1E6645BE5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FA8F7-718F-411C-9A82-1F0EA5168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B2EE5-440A-4DAB-8579-BBFD9381C8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9FCB0-8D30-4F6B-B512-5B3ED2A570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F92E5-22BF-491A-8F6E-B326113633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3E929-A84A-42B9-BE92-4F95CB774A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953A2-5B19-4B71-A3C7-CFCB69ADC25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A1897-FED2-45CC-8645-3DFB1CAC93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C: CLOSE COOP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TERNAL PARTNERS /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es of accountability are more complex in decentralized or decentralizing political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As a separate sphere of the state, LG adds to the system of checks and balances and has an important role to play in enhancing accountability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But effectiveness of accountability arrangements contingent on many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There can be diverse and competing claims to authority and power at local level: those based on constitutional or administrative law and others based on customs and traditions  - both a help and hindrance to domestic accountab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2ACC0-8866-4492-9A09-9C8F2626D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A7A-AE9D-4F8B-B547-CB5DF113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8CB-CC3B-4D5C-894C-1630E7C5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A1E-C836-4345-8A1E-F7A276E7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522E-4107-4276-AA94-E2EE6F07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D67-2334-4DEF-8FA0-8EB7FF40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D65-46A9-40E9-B783-C5B6AE18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2BB-43C2-42C9-A1AA-60CDE6F0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1C08-9769-42F0-8251-86BAB229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8B94-6638-43A2-A9B5-D21FE395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0E4-9E6C-4845-93A0-D563713C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092E-4DCF-45F4-88E8-7C7DA66D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83A0-3CAE-4B5E-BFF4-EA2FC96F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794B6-2FE8-45A6-9B26-83DC928DEF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B6F20-CF92-43E9-999C-D66E16A46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cent thinking and experiences around domestic accoun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Introduction se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EC Governance semin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(4-8</a:t>
            </a:r>
            <a:r>
              <a:rPr b="0" lang="en-US" sz="3200" spc="-1" strike="noStrike" baseline="30000">
                <a:solidFill>
                  <a:srgbClr val="008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July 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By Jean Bossuyt (ECDP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Calibri"/>
              </a:rPr>
              <a:t>Decentralisation changes accountability ch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5"/>
          <p:cNvGrpSpPr/>
          <p:nvPr/>
        </p:nvGrpSpPr>
        <p:grpSpPr>
          <a:xfrm>
            <a:off x="1447920" y="2209680"/>
            <a:ext cx="5976720" cy="3808440"/>
            <a:chOff x="1447920" y="2209680"/>
            <a:chExt cx="5976720" cy="3808440"/>
          </a:xfrm>
        </p:grpSpPr>
        <p:sp>
          <p:nvSpPr>
            <p:cNvPr id="77" name="AutoShape 6"/>
            <p:cNvSpPr/>
            <p:nvPr/>
          </p:nvSpPr>
          <p:spPr>
            <a:xfrm>
              <a:off x="1447920" y="2209680"/>
              <a:ext cx="5976720" cy="38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7"/>
            <p:cNvSpPr/>
            <p:nvPr/>
          </p:nvSpPr>
          <p:spPr>
            <a:xfrm>
              <a:off x="2332440" y="2342880"/>
              <a:ext cx="4857840" cy="419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4061520" y="2400120"/>
              <a:ext cx="146196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entral Govern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9"/>
            <p:cNvSpPr/>
            <p:nvPr/>
          </p:nvSpPr>
          <p:spPr>
            <a:xfrm>
              <a:off x="2332440" y="3428640"/>
              <a:ext cx="1067760" cy="743400"/>
            </a:xfrm>
            <a:prstGeom prst="hexagon">
              <a:avLst>
                <a:gd name="adj" fmla="val 35908"/>
                <a:gd name="vf" fmla="val 11547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0"/>
            <p:cNvSpPr/>
            <p:nvPr/>
          </p:nvSpPr>
          <p:spPr>
            <a:xfrm>
              <a:off x="2415600" y="3504960"/>
              <a:ext cx="83736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Elec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unc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1"/>
            <p:cNvSpPr/>
            <p:nvPr/>
          </p:nvSpPr>
          <p:spPr>
            <a:xfrm>
              <a:off x="2332440" y="5304960"/>
              <a:ext cx="4857840" cy="45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4061520" y="3963240"/>
              <a:ext cx="110232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5679720" y="3963240"/>
              <a:ext cx="151056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061520" y="3963240"/>
              <a:ext cx="110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wn 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5679720" y="3963240"/>
              <a:ext cx="151056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ocal Sector Department 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3018240" y="5378040"/>
              <a:ext cx="34956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itizens, voters, taxpayers &amp; users of ser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7"/>
            <p:cNvSpPr/>
            <p:nvPr/>
          </p:nvSpPr>
          <p:spPr>
            <a:xfrm>
              <a:off x="2646720" y="2761920"/>
              <a:ext cx="0" cy="666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3018240" y="2761920"/>
              <a:ext cx="0" cy="66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9"/>
            <p:cNvSpPr/>
            <p:nvPr/>
          </p:nvSpPr>
          <p:spPr>
            <a:xfrm>
              <a:off x="2694240" y="4220640"/>
              <a:ext cx="1800" cy="1084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0"/>
            <p:cNvSpPr/>
            <p:nvPr/>
          </p:nvSpPr>
          <p:spPr>
            <a:xfrm>
              <a:off x="3018240" y="4240800"/>
              <a:ext cx="1080" cy="10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1"/>
            <p:cNvSpPr/>
            <p:nvPr/>
          </p:nvSpPr>
          <p:spPr>
            <a:xfrm>
              <a:off x="1532160" y="2838600"/>
              <a:ext cx="990000" cy="66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pward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2"/>
            <p:cNvSpPr/>
            <p:nvPr/>
          </p:nvSpPr>
          <p:spPr>
            <a:xfrm>
              <a:off x="1447920" y="4325400"/>
              <a:ext cx="1121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pward political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3"/>
            <p:cNvSpPr/>
            <p:nvPr/>
          </p:nvSpPr>
          <p:spPr>
            <a:xfrm>
              <a:off x="3253320" y="2923920"/>
              <a:ext cx="18378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policy &amp; legal compliance &amp; fiscal eff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4"/>
            <p:cNvSpPr/>
            <p:nvPr/>
          </p:nvSpPr>
          <p:spPr>
            <a:xfrm flipH="1">
              <a:off x="3066480" y="3133440"/>
              <a:ext cx="18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5"/>
            <p:cNvSpPr/>
            <p:nvPr/>
          </p:nvSpPr>
          <p:spPr>
            <a:xfrm>
              <a:off x="4128120" y="3342960"/>
              <a:ext cx="29570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orizontal managerial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6"/>
            <p:cNvSpPr/>
            <p:nvPr/>
          </p:nvSpPr>
          <p:spPr>
            <a:xfrm>
              <a:off x="3400560" y="3800160"/>
              <a:ext cx="260856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7"/>
            <p:cNvSpPr/>
            <p:nvPr/>
          </p:nvSpPr>
          <p:spPr>
            <a:xfrm>
              <a:off x="4599360" y="3800160"/>
              <a:ext cx="0" cy="1630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8"/>
            <p:cNvSpPr/>
            <p:nvPr/>
          </p:nvSpPr>
          <p:spPr>
            <a:xfrm>
              <a:off x="6009120" y="3800160"/>
              <a:ext cx="0" cy="1630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9"/>
            <p:cNvSpPr/>
            <p:nvPr/>
          </p:nvSpPr>
          <p:spPr>
            <a:xfrm>
              <a:off x="3253320" y="4233240"/>
              <a:ext cx="11995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policy &amp; planning decisions, management &amp; overall gover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0"/>
            <p:cNvSpPr/>
            <p:nvPr/>
          </p:nvSpPr>
          <p:spPr>
            <a:xfrm flipH="1">
              <a:off x="3066480" y="4779360"/>
              <a:ext cx="186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1"/>
            <p:cNvSpPr/>
            <p:nvPr/>
          </p:nvSpPr>
          <p:spPr>
            <a:xfrm>
              <a:off x="4875840" y="4240800"/>
              <a:ext cx="1080" cy="96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2"/>
            <p:cNvSpPr/>
            <p:nvPr/>
          </p:nvSpPr>
          <p:spPr>
            <a:xfrm>
              <a:off x="5037480" y="4423680"/>
              <a:ext cx="1285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general administ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3"/>
            <p:cNvSpPr/>
            <p:nvPr/>
          </p:nvSpPr>
          <p:spPr>
            <a:xfrm flipH="1">
              <a:off x="4876920" y="463716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4"/>
            <p:cNvSpPr/>
            <p:nvPr/>
          </p:nvSpPr>
          <p:spPr>
            <a:xfrm>
              <a:off x="6856920" y="4423680"/>
              <a:ext cx="1080" cy="88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35"/>
            <p:cNvSpPr/>
            <p:nvPr/>
          </p:nvSpPr>
          <p:spPr>
            <a:xfrm>
              <a:off x="5447160" y="4854960"/>
              <a:ext cx="1238040" cy="4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service deli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6"/>
            <p:cNvSpPr/>
            <p:nvPr/>
          </p:nvSpPr>
          <p:spPr>
            <a:xfrm>
              <a:off x="6685560" y="50752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37"/>
          <p:cNvSpPr/>
          <p:nvPr/>
        </p:nvSpPr>
        <p:spPr>
          <a:xfrm>
            <a:off x="2962080" y="167580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ocal Government Accountability 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ssons of experience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as a highly political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dogenous proce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imits external intervention, risk of doing h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importance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litical economy analys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aseline, incentives, reform capa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 as a “system”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a chain of actors and potential agents of accountability (=choosing smart “entry points” yet addressing the syst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c0504d"/>
                </a:solidFill>
                <a:latin typeface="Calibri"/>
              </a:rPr>
              <a:t>LET’s LOOK THROUGH the W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Hole_in_wall_eyes_hg_wht_20683_3"/>
          <p:cNvPicPr/>
          <p:nvPr/>
        </p:nvPicPr>
        <p:blipFill>
          <a:blip r:embed="rId1"/>
          <a:stretch/>
        </p:blipFill>
        <p:spPr>
          <a:xfrm>
            <a:off x="1547640" y="1844640"/>
            <a:ext cx="6264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too much"/>
          <p:cNvPicPr/>
          <p:nvPr/>
        </p:nvPicPr>
        <p:blipFill>
          <a:blip r:embed="rId1"/>
          <a:stretch/>
        </p:blipFill>
        <p:spPr>
          <a:xfrm>
            <a:off x="450720" y="343080"/>
            <a:ext cx="8242560" cy="6172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441360" y="6093000"/>
            <a:ext cx="87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ware of external drivers moving too quickly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ssons of experienc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bine supply and demand driven appro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sure information/transpare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linkages between DA at local level and at macro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gage with actors “beyond the comfort zone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ve beyond “DA and aid” and rather invest in societal processes of 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equately consider role and limitations as don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cus on intermediate resul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road to nowhere"/>
          <p:cNvPicPr/>
          <p:nvPr/>
        </p:nvPicPr>
        <p:blipFill>
          <a:blip r:embed="rId1"/>
          <a:stretch/>
        </p:blipFill>
        <p:spPr>
          <a:xfrm>
            <a:off x="971640" y="1268280"/>
            <a:ext cx="7134120" cy="5100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611280" y="3366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…  </a:t>
            </a: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supporting domestic accountability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not a quick fix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2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3492360" y="278136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Promoting dome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account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from the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132000" y="1413000"/>
            <a:ext cx="3024360" cy="792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grating PE-analysis into the actual design of support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68360" y="2781360"/>
            <a:ext cx="2521080" cy="2362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suring institutional change on the donor side to deliver effective support in domestic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sting in concrete processes and mechanisms for accessing, reconciling and enforcing rights and obl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6300720" y="1844640"/>
            <a:ext cx="2592360" cy="172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using on incremental change through realistic, cumulative and combined suppor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 rot="10800000">
            <a:off x="4500720" y="234936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 rot="7228200">
            <a:off x="3003480" y="38545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24000" y="404640"/>
            <a:ext cx="831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Calibri"/>
              </a:rPr>
              <a:t>Main challenges for greater effectiveness in promoting domestic account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300720" y="4191120"/>
            <a:ext cx="2521080" cy="1253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ilding coalitions of reform-minded actors (social mobilis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c0504d"/>
                </a:solidFill>
                <a:latin typeface="Calibri"/>
              </a:rPr>
              <a:t>Four major limitations faced by donor a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39640" y="3141720"/>
            <a:ext cx="1800360" cy="2065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EGITI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627280" y="3141720"/>
            <a:ext cx="1728720" cy="20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4788000" y="3141720"/>
            <a:ext cx="1728720" cy="20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NOV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6732720" y="3141720"/>
            <a:ext cx="2016000" cy="19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STITU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CEN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268360" y="3808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6443640" y="386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4420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MESTIC ACCOUNTABILITY IS MOVING TO THE FOREFRONT OF THE DEVELOPMENT AGEN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…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offers a great window of opportunities for donor agencies willing to support chang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 is not primarily an aid effectiveness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 all about societal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“social contract” between state and soci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citizens claiming their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PUSH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nd aid effectiveness (Busan 201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going work on DA in se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 DA in budget support oper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s a key governance challenge (GOVNE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s a tool to ensure democratic deepe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ntry points into DA such as “citizen action” or “taxation/domestic resource mobilisation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wing research and community of pract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932040"/>
            <a:ext cx="82296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Calibri"/>
              </a:rPr>
              <a:t>Three underpinning principle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ransparenc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access to information about commitments the state has made and the extent to which these commitments have been honoured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nswerabilit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obligation of the government, its agencies and public officials to provide information about their decisions and actions and to justify them to the public and institutions tasked with providing oversight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Enforceme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willingness and power of citizens or the institutions that are responsible for accountability to sanction the offending party or remedy the contravening behaviour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Voice and accountability are essential ingredients</a:t>
            </a:r>
            <a:br>
              <a:rPr sz="2800"/>
            </a:b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of the </a:t>
            </a:r>
            <a:r>
              <a:rPr b="1" i="1" lang="fr-FR" sz="2800" spc="-1" strike="noStrike">
                <a:solidFill>
                  <a:srgbClr val="00007d"/>
                </a:solidFill>
                <a:latin typeface="Arial"/>
              </a:rPr>
              <a:t>domestic </a:t>
            </a: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democracy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11280" y="1673280"/>
            <a:ext cx="3343320" cy="806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5d5dd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indent="-32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310360" y="1670040"/>
            <a:ext cx="3431880" cy="812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5d5dd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indent="-32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11280" y="2593800"/>
            <a:ext cx="3330360" cy="3821400"/>
          </a:xfrm>
          <a:prstGeom prst="rect">
            <a:avLst/>
          </a:prstGeom>
          <a:gradFill rotWithShape="0">
            <a:gsLst>
              <a:gs pos="0">
                <a:srgbClr val="33b115"/>
              </a:gs>
              <a:gs pos="100000">
                <a:srgbClr val="1c600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fers to capacity to EXPRESS VIEWS and to EXERCISE this CAPACITY in policy and governance processes (INFLU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ked to active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sential building block of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is expressed through variety of  formal and informal channels/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48160" y="2593800"/>
            <a:ext cx="3419640" cy="3807000"/>
          </a:xfrm>
          <a:prstGeom prst="rect">
            <a:avLst/>
          </a:prstGeom>
          <a:gradFill rotWithShape="0">
            <a:gsLst>
              <a:gs pos="0">
                <a:srgbClr val="33b115"/>
              </a:gs>
              <a:gs pos="100000">
                <a:srgbClr val="1c600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cerns the relationship between rulers and ru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(domestic politics and p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Justification of decisions and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bility of citizens to hold state ANSWERABLE for its actions and impose sanctions (ENFORCE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ccountability is sought through variety of channels and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098960" y="646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3851280" y="4076640"/>
            <a:ext cx="1584360" cy="647640"/>
          </a:xfrm>
          <a:prstGeom prst="leftRightArrow">
            <a:avLst>
              <a:gd name="adj1" fmla="val 50000"/>
              <a:gd name="adj2" fmla="val 487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The various dimensions of 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O is being held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state, politicians, public officia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O is holding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accountability institutions such as parliament, opposition parties, the media, civil society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AT are they holding them to account f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? (i.e. policies implemented or not by the Sta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ERE are they holding them in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(i.e. within the country concern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OW are they holding them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through various formal/informal mechanisms beyond elec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1C46E-EE1A-4FE9-9A1D-A1E50BB1F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7792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57200" y="1027080"/>
            <a:ext cx="8229600" cy="5040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457200" y="606744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apted from: Morazán and Koch 2010: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nitoring Budget support in Developing countries, A comparative analysis of national control mechanisms over budget support in developing countri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. Sűdwind, p.5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E NEED TO LOOK MORE CLOSE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T TRANSFORMATIONAL CAPACITY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LITICAL SOCIETY                 CIVIL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Down Arrow 3"/>
          <p:cNvSpPr/>
          <p:nvPr/>
        </p:nvSpPr>
        <p:spPr>
          <a:xfrm rot="1287000">
            <a:off x="2323800" y="338256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41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wn Arrow 4"/>
          <p:cNvSpPr/>
          <p:nvPr/>
        </p:nvSpPr>
        <p:spPr>
          <a:xfrm rot="20176800">
            <a:off x="5422680" y="33843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682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20:45:34Z</dcterms:created>
  <dc:creator>Jean Bossuyt</dc:creator>
  <dc:description/>
  <dc:language>en-US</dc:language>
  <cp:lastModifiedBy>Alisa Herrero Cangas</cp:lastModifiedBy>
  <dcterms:modified xsi:type="dcterms:W3CDTF">2011-07-07T05:29:54Z</dcterms:modified>
  <cp:revision>18</cp:revision>
  <dc:subject/>
  <dc:title>Recent thinking and experiences around domestic accountability</dc:title>
</cp:coreProperties>
</file>