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E5E906-681C-47D8-9B50-954BC53AB30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group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3 main function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: forum for discussions. It allows attach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lendar / Events (I’m not going to show n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Here : document 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ocuments can be defined with categories, tags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lso full text search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Blo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eally intu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Can put a new post or respond to an existing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Into a blog post of a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F03851-93E7-4B87-8C4E-0EF25433274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position from our cooleague Hassane ( Del Morocco) : link Devel and European Policy (Framework Directive on Water) : examine the Framework Directive on Water through the perspective of the  coop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866856-8AAB-418B-80AB-C8C46C0271E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C/ MoU : ce que c’est, ce que ce n’est pas, exemples pays, caneva (pas des modè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7E78D1-077E-4768-8F00-A870F0D8B87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C01B9B-BA56-451C-AEEB-AA18934004B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 : general (public) access to a specific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Group : public or retricted pop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for dedicated discussions or exchange of docu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Must sign on to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contribute to a blog or post a document even if public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- See the groups you’re member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OPICS : 26 are defined and that will be it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A document can refer to several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ithin a topic : several areas in the Topic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. Message/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Main documents and/or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.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2 ways to access to my group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through the « Groups » menu : view of all the groups I can access to (as demonstrated he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Directly through « YOUR GROUPS » me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BD7-90E3-4402-BE1B-9A9AAB56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2DB-F8E5-41E6-8269-4B28B73B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238-051F-4C3C-AE66-D44F03C7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FA9-A86F-43D4-878B-D9FE7A5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1B98-3A65-4402-B71A-D36DFF84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405F-6943-4ECB-A093-FBFCCC6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B72D-B129-47A1-BDF3-DA6BF25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2D9A-1CA9-4835-B5ED-80AF8440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B3F8-1BBA-4E7D-832E-8B99DFCB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F2D-6992-49EB-B3F9-A289036B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493-84E7-4AAB-9D1D-479C038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031-C8B6-4030-A668-280A35FF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BEFF-E78E-4F65-B54E-CF961FF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F8C5-A507-40F5-AA10-BB2C972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23F-8B29-495C-A018-970272D7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81C4-A4EC-46AC-B17E-3799A9F7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5BC8-E568-4F19-8978-438B44E3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CB6-2856-4A01-8B37-7C1A9B28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DE8-9D8F-402F-B456-EB96E66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3A8-8388-405F-9E26-4F96566A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FF0-5F50-428A-A9A8-4BE0597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1B4-3D06-413E-A796-3C7728F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766-0BAA-4CD4-BC5C-A81E9DE9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86C-1FA7-45CE-931E-FD88DA9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CBEB-F03F-49EC-B786-A0143B92A07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EE8-CA03-4CE1-9F2C-0235D8E95B8A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Internal E.C. Session 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flection on </a:t>
            </a: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  AIDCO E/7 – DELEGATIONS RELATIONS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René BOSMAN (E7)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7280" y="560880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ter seminar Nairobi - October 20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: orientations proposed for our Water sector   </a:t>
            </a:r>
            <a:br>
              <a:rPr sz="24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2 groups : 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open to external members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(free consultation but membership required to contribute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one restricted to internal staff (Del + HQ) 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ocus on :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library : recover and improve the current WaterNet content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- discussions / forum (to avoid multiples exchanges and chat under Outlook as today)</a:t>
            </a:r>
            <a:br>
              <a:rPr sz="1800"/>
            </a:b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97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ollaboration between HQ (E7) / Delegations</a:t>
            </a:r>
            <a:br>
              <a:rPr sz="24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ntinue with W&amp;S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regional seminar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: Fr/EN separately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Frequency ? Which thematics ?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(importance of the countries contributions)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Thematic studies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?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How to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network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you ? Headquarter role ?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do you need ? </a:t>
            </a:r>
            <a:br>
              <a:rPr sz="2400"/>
            </a:b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Verdana"/>
              </a:rPr>
              <a:t>What are you ready to pay ?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Points mentioned in discussion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Why so many water web sites – what is the comparative advantage – incomplete (aquaknow / euwinet/cap4 dev)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it can easily remain unused – can it become a working tool? But how? Is easily outdat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We are meant to upload project information in CRIS (only internal) with the project number we can look at more detailed information on CR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How to find best practice in CRIS? Perhaps C4D is the tool for best practice? Newsflash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y each have a different ro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there must be an incentive e.g. information will only be available on the capcity4 dev 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model TOR are potentially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2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time is limited – will be get a message when documents are there (like WSP) – just a short mes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that feature will be there, you can define what mails you get or don’t get – we will check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ttend such seminars to hear about success stories that we can learn from – can you have frequently made mistakes or stories of success? – that would be useful e.g. in Burundi we are rehabilitating/reforming after the war, we want to avoid the classic mistakes. How to filter ? To get what you are interested in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we have to avoid too much information – we can organise sub-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3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are project focussed – ex post independent evaluations are talked about but rarely done or accessible. We need more such analysis – it helps to learn. Tendency to always declare projects successfu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s Brussels thinking of a thematic evaluation of water and sanitation sector (beyond the projec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could ex-post ROM be used as a source of information for such deeper analy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the thematic studies could focus on evaluation of succes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sharing of good practice will reduce the mistakes and costs of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there is a thematic ROM evaluation already done 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4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t is people that initiate processes – appreciate the seminars like this one – it is motivating and avoids the overload of information problem. It increases ou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innovative approaches can be used to exchange information between delegations e.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find a way to wake us up – makes us belong to the water group (and not just the seminars, build on them) – a picture and person is worth a 1000 word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should publish more, like the example of Chad – we need to make links with universities and ot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Seminars are good – but HQ based seminar allows connection with HQs, that is very useful (might lose the field trip but other advantag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- we already do that, we have seminars in Brussels each year – june/july. We invite others e.g. OECD, EIB, AFD etc  This year we had a 3 days Finance (EIB)/ Sanitation (aidco) / x cutting topics e.g. human rights (DGDev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The regional ones have the value of the field trip and practionaires from the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oth are good, we should not replace one with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In the domain of </a:t>
            </a:r>
            <a:r>
              <a:rPr b="1" lang="fr-BE" sz="2000" spc="-1" strike="noStrike">
                <a:solidFill>
                  <a:srgbClr val="ffff00"/>
                </a:solidFill>
                <a:latin typeface="Verdana"/>
              </a:rPr>
              <a:t>Operational Guidance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, past and current support from E7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concept note « Complementarities and  synergies between SWAP and IWRM»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support to program formulation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regional seminars on SWAP/IWRM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national seminars on demand 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   (initializing SWAP process – national dialog) </a:t>
            </a:r>
            <a:br>
              <a:rPr sz="2000"/>
            </a:br>
            <a:br>
              <a:rPr sz="1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- horizontal studies ongoing :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CoC/MoU Water : best practices</a:t>
            </a:r>
            <a:br>
              <a:rPr sz="2000"/>
            </a:b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WAP experiences capitalization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- We get huge text reports, we cannot absorb the material / we need to do like Benin did with Google Earth – why do we not have the capacity to do this in delegations? E.g. we cannot print A3 in colour. Our (IT) tools are pathet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good communication can help – remote assistance is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ater facility project template does not have an executive summary – ask them for this + readable graphs and summary. Lets be more specific on the template and encourage quality rather than volu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report dumping from Brussels …. Please give us a summary not 100+ pag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a600"/>
                </a:solidFill>
                <a:latin typeface="Verdana"/>
              </a:rPr>
              <a:t>More points: </a:t>
            </a:r>
            <a:br>
              <a:rPr sz="2000"/>
            </a:b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Q say it in one page – lets campaign for th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 seminars should be supported by the HQ not just delegations, in case they do not have enough budget – this year we had cancellations due to budg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is seminar  in Kenya was very use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rganise more joint seminars at delegation level – we are bombarded by slogans on alignment, harmonisation, gender etc it is lip service… we need to get in touch with real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there is also a yearly regional infrastructure seminar (only delegation) good but a bit road focussed. Should we keep the water and wider infrastructure separ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e organised a joint water and infrastructure in Liberville – it did no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big value in having external participants – we cannot have that in a joint seminar with infrastruct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our water programs are very policy and institutional development related – water is also related to rural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in Namibia we found keeping roads and water separate was be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for small delegations, the separtion of water and roads is not an issue, it is for larger deleg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could organise one after the o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one after the other has me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– hoD&lt; HOA, all have conference – perhaps we need an operations conferenc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,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do we an francophone example of successful reform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 – yes at a recent seminar in Burkina Faso, a series of reforms was outlin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e had two sub-sectors here: water and sanitation. We discussed SBS and pooled and projects. For me the modalities as well as the sector was important – aid effectiveness was an important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 – why are the road people boring? They are not they are very nic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More points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/R -What thematic studi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echnologies in san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formation management by water ministries, role of information in the sector (data management, indicato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novative projects and initiatives (WSTF, CLTS, Ecota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frequency for this type of semi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Each year (we already agreed this in Pretori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– what topic would you suggest for next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Low cost – urban sanitation…innov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 - Water framework directive of EU – compare with water policy… W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Mobile to web application for water syst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Q - One day on dry sanitation (vs water borne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3581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Verdana"/>
              </a:rPr>
              <a:t>Capacity4Dev Platform : (AIDCO E)  </a:t>
            </a:r>
            <a:br>
              <a:rPr sz="2400"/>
            </a:b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irst step - trial : starts with the T.C. reform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also used by the Public Finance Management experts,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pen to outside public (worldwide or restricted groups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00 users but not many active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oo complex !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Has been fully redesigned and simplified </a:t>
            </a:r>
            <a:br>
              <a:rPr sz="1800"/>
            </a:br>
            <a:br>
              <a:rPr sz="10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NEW VERSION LAUNCHED on 15 October 2010 !</a:t>
            </a:r>
            <a:br>
              <a:rPr sz="1800"/>
            </a:br>
            <a:br>
              <a:rPr sz="10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Functionalities (within groups) : 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document library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(doc management)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blog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 for discussions and info exchanges </a:t>
            </a:r>
            <a:br>
              <a:rPr sz="1800"/>
            </a:b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1" lang="fr-BE" sz="1800" spc="-1" strike="noStrike">
                <a:solidFill>
                  <a:srgbClr val="ffff00"/>
                </a:solidFill>
                <a:latin typeface="Verdana"/>
              </a:rPr>
              <a:t>event</a:t>
            </a: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/news announcement</a:t>
            </a:r>
            <a:endParaRPr b="1" lang="en-US" sz="18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Introduction to </a:t>
            </a:r>
            <a:br>
              <a:rPr sz="4400"/>
            </a:br>
            <a:r>
              <a:rPr b="1" lang="fr-BE" sz="4400" spc="-1" strike="noStrike">
                <a:solidFill>
                  <a:srgbClr val="e2a600"/>
                </a:solidFill>
                <a:latin typeface="Verdana"/>
              </a:rPr>
              <a:t>the new </a:t>
            </a:r>
            <a:r>
              <a:rPr b="0" i="1" lang="fr-BE" sz="4400" spc="-1" strike="noStrike" u="sng">
                <a:solidFill>
                  <a:srgbClr val="e2a600"/>
                </a:solidFill>
                <a:uFillTx/>
                <a:latin typeface="Verdana"/>
              </a:rPr>
              <a:t>Capacity4dev</a:t>
            </a:r>
            <a:endParaRPr b="1" lang="en-US" sz="4400" spc="-1" strike="noStrike">
              <a:solidFill>
                <a:srgbClr val="e2a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446120"/>
            <a:ext cx="12193560" cy="97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3120" y="-103320"/>
            <a:ext cx="975204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idco-sd-tech2</cp:lastModifiedBy>
  <dcterms:modified xsi:type="dcterms:W3CDTF">2010-10-28T11:12:00Z</dcterms:modified>
  <cp:revision>124</cp:revision>
  <dc:subject/>
  <dc:title>Slide 1</dc:title>
</cp:coreProperties>
</file>