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221AD-311E-424B-B98B-9401BFD49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7180-7561-48D2-9F44-3254B4263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D35E0-F1E8-4C25-8F56-428FFA058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BC753-526D-4AF9-91B4-287D1CB93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174914-A4B0-477C-869D-CD90AE02566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E9F464-3553-40D0-99DA-581ECF4010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F31F0-8D1A-4C17-AA86-2B1B572F73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5C4E8-F0C4-4979-9984-186A7879EA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5A749A-DFBD-455E-95FF-98F6A95405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6F0D8B-86AB-4A6B-898A-D85D585AA5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787590-BBD2-45A3-ACEA-5964F977F3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993C-8B5A-4408-8E69-9748FF4A6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A2A5D-8CAE-43E9-90CD-C2754BC4BB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4E31B-E300-4C33-9725-ED979D6D98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F5B44-672A-440E-BAB0-3F0D7259E6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A03C1F-5DAA-4EF9-9530-FB4BF3382C7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8BB22D-5C24-4D77-80FF-2B331374D74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C619E-C951-4BAA-96E1-C540A6594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2D412-2DB5-4767-A94F-B365BB913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B52CD-6176-4091-8745-1F9ABF38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34F50-2892-42B7-858C-73040FA55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66499-6CDB-41DB-AB9F-E4B400E79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1E59E-CF53-425F-9E8A-FF1B09078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5C6D-80CD-4026-A894-5E63CA832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370EB029-AACB-4FE1-B117-83ABC70A293F}" type="datetime11">
              <a:rPr b="0" lang="en-US" sz="1400" spc="-1" strike="noStrike">
                <a:solidFill>
                  <a:srgbClr val="ffffff"/>
                </a:solidFill>
                <a:latin typeface="Times New Roman"/>
              </a:rPr>
              <a:t>17:49:1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DE3E-4377-4F0C-896A-9179A03787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CC68-15AC-4253-B9B2-32DDA88A43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AA2DA951-C755-4860-89A3-B018E82E4143}" type="datetime11">
              <a:rPr b="0" lang="en-US" sz="1400" spc="-1" strike="noStrike">
                <a:solidFill>
                  <a:srgbClr val="ffffff"/>
                </a:solidFill>
                <a:latin typeface="Times New Roman"/>
              </a:rPr>
              <a:t>17:49:10</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26C089E-B431-449E-8DB7-3295CEAB46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EEE676A-F68F-4776-91BD-D3698C14E5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637AD93-66E9-41B9-92BF-1F32F89727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449A3CC-FD4D-4314-B074-3C9CCCE4C6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C337C4C1-5606-47AA-B076-7FD9FC63D6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46B822D-6F64-4B02-B89A-976CE9B17A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B265C6D-224A-409B-B562-1461DC844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070BE2E-5898-4E3C-8250-D44664B3B3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6E3AA47A-BE9D-45A0-ACC2-C330C2EE76BE}"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DAB15C3-5B92-4A12-ACFE-5E947356D0A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6BEF0D7-A363-4735-9C68-8F1C1F5E49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2703B73-43E1-4843-8A94-A57D1A48CE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313CD1F-CBDE-4F11-B8DF-6B6AE25190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F5C15B8-6920-465D-87F3-C778A87003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7E674C8-AF78-4B93-A3B0-5BFE52D11B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4A0912F-EE7E-4610-AB7A-33B6AC1784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8C859BF-B8F3-4FA7-BA71-4D9BF4B6AA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