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58D-351C-46D5-95B7-086FEDDA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ECE-726E-4BEE-AE3C-B27C61A4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B78-F54E-451D-A054-5997AB6D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F31-FB0C-4448-9DE8-BE676DF7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853-44C6-4551-8BFC-6D34AE20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142-5665-4474-9A07-E1E9E864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A37-1669-43F8-9859-60833001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127-A7EA-49FE-BD26-588530A7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AC6-9C7E-4699-9038-A09263CE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4CB-9C34-46D9-B585-0D131802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E22-699B-4497-BCED-94034FC7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FED-C63C-4A8A-B969-A8255035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5F30-DE0C-4E1F-BEA8-687A8C162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or Re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and key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       the need for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or gover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improve policy framework incl. regulation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gov. capacity to carry  out all tasks at hand (+ brain dr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roles and 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fina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PFM – cor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w service prov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Höger 3"/>
          <p:cNvSpPr/>
          <p:nvPr/>
        </p:nvSpPr>
        <p:spPr>
          <a:xfrm>
            <a:off x="2771640" y="765000"/>
            <a:ext cx="576360" cy="2876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Höger 4"/>
          <p:cNvSpPr/>
          <p:nvPr/>
        </p:nvSpPr>
        <p:spPr>
          <a:xfrm>
            <a:off x="755640" y="558972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- role of Gov + D.P.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tical will + government ownership is cru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f it is not there from star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. Partners  need to promote change through policy dialogue and be flexible and patie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into sector support  and use of Gov systems gradually as ownership/capacity  increases but also leave funds outside for quick wins and innovations (80/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e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-</a:t>
            </a: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 reform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rst step in reform is to put right policies in place – clarify roles and responsibilities (one entry point as in Keny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finance mechanisms  (i.e. Kenya trust fund as a good examp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entralisation of responsibilities  need to be followed by money and skil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th WUA and PS can play a role and their comparative advantage depends on the context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need to focus to be profess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ulation and monitoring of service providers crucial, but too many small providers is challenging to contro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lessons – policy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too little focus on water resources management  and protection of water resources to ensure water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stronger link between water supply with san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 incentives to promote innovative technology  (i.e. solar panels in C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29:14Z</dcterms:created>
  <dc:creator>Ditt användarnamn</dc:creator>
  <dc:description/>
  <dc:language>en-US</dc:language>
  <cp:lastModifiedBy>Ditt användarnamn</cp:lastModifiedBy>
  <dcterms:modified xsi:type="dcterms:W3CDTF">2010-10-20T20:02:41Z</dcterms:modified>
  <cp:revision>6</cp:revision>
  <dc:subject/>
  <dc:title>Sector Reforms </dc:title>
</cp:coreProperties>
</file>