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5FBE-FF20-4B29-AF56-B4648E437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E537-4308-491E-AF90-909788D02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BF42-AD49-44FB-B5D7-3CADE448F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C1F4-4BE5-4608-BADB-35F15603D7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5C7A-0E5F-460B-AA35-CFEC5FA93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7712-D3EC-47D7-9BEE-BEDFD7E901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A69-7827-463C-BB7A-7D1408AD0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0D4A-B719-4986-A613-E15EE0E5B7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2F00-E2C6-41F9-B761-76D9265849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E596-35A8-4C2D-8D6C-62DACCBD0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A4DC-CA6C-4BC6-B0F3-7BCAD87867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DC64-0E76-4571-9FEA-FCE71107F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2752-634A-43AF-9859-EB107B066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7FDC-40BF-4390-A4C9-A45C2B52A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0A69-F335-4D49-820A-24493A2BA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0ECB-644A-469B-874A-FC139D369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A9E0-7F19-46FE-8937-FE7D4AFF9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7582-3A3D-460E-ABDD-2F5D8DECA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1D12-E654-4852-B2F6-721CCECD1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127E-42CD-417B-95DD-6CF634D589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FA6D-207C-43FC-9DDB-4D82C9B1C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204-D124-4F26-BAA1-40EB8913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4A2-22F2-4D3A-8C98-9C4CF794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7CF-8D59-4A22-B6DA-F0EC07EF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55E-37CD-4CEC-AA59-89AFD31C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772-21B8-48E9-8F1A-4FEEE63C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5FD-5BF1-4E0F-8FA3-7FB31948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49C-30B0-4CF7-B90B-95FF4E23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7A6-FFCB-42F0-AA8D-72DD7C20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762-082C-4935-BC8F-9EA635E4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A78-99C7-410F-8D11-1DDDFE8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A5A-588E-484E-9A79-E1F8A21C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8E4-C4E1-4AF9-869E-1B47E8B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A779-9AEA-4BDA-BBE6-E207BB368D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A792-9D5F-4E95-BCC1-818171275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642960" y="3571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Water Services Trust Fu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Urban Projects Concept (UP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Fast-tracking &amp; up scaling provision of water and sanitation services to the urban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42960" y="2071800"/>
            <a:ext cx="78166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ng. Jacqueline Musyo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EO of the W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4714920" y="2924280"/>
            <a:ext cx="3844800" cy="3097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620C-FEEA-42B4-B6E5-570B4709D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E9F4-9048-4126-8842-32AE9C852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214200"/>
            <a:ext cx="47862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000080"/>
            <a:ext cx="7900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and awarding of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mplementation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P and the W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Field Monitors of the WSTF provide support and are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-Stakeholder Project Task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5. Proposal Awarding by WSTF.jpg"/>
          <p:cNvPicPr/>
          <p:nvPr/>
        </p:nvPicPr>
        <p:blipFill>
          <a:blip r:embed="rId2"/>
          <a:stretch/>
        </p:blipFill>
        <p:spPr>
          <a:xfrm>
            <a:off x="5286240" y="214200"/>
            <a:ext cx="32306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7" name="Picture 8" descr="6b.Project Implementaton (Community Sensitisation).jpg"/>
          <p:cNvPicPr/>
          <p:nvPr/>
        </p:nvPicPr>
        <p:blipFill>
          <a:blip r:embed="rId3"/>
          <a:stretch/>
        </p:blipFill>
        <p:spPr>
          <a:xfrm>
            <a:off x="5214960" y="2786040"/>
            <a:ext cx="3286080" cy="2428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FEFB-CE49-4011-A571-FEA705764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2920" y="142920"/>
            <a:ext cx="4572000" cy="706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7. Commissioning and Operation.jpg"/>
          <p:cNvPicPr/>
          <p:nvPr/>
        </p:nvPicPr>
        <p:blipFill>
          <a:blip r:embed="rId2"/>
          <a:stretch/>
        </p:blipFill>
        <p:spPr>
          <a:xfrm>
            <a:off x="5286240" y="571680"/>
            <a:ext cx="3356280" cy="2571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5" name="Picture 8" descr="8. Project Evaluation.jpg"/>
          <p:cNvPicPr/>
          <p:nvPr/>
        </p:nvPicPr>
        <p:blipFill>
          <a:blip r:embed="rId3"/>
          <a:stretch/>
        </p:blipFill>
        <p:spPr>
          <a:xfrm>
            <a:off x="5283360" y="3500280"/>
            <a:ext cx="334944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36" name="Rectangle 3"/>
          <p:cNvSpPr/>
          <p:nvPr/>
        </p:nvSpPr>
        <p:spPr>
          <a:xfrm>
            <a:off x="142920" y="92880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 of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   Evaluation of the project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STF or by external evalu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valuation should be particip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volve the residents 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4A23-DABB-4C52-88D8-69EA98FDC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214200"/>
            <a:ext cx="800100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071720"/>
            <a:ext cx="7900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WSTF has developed a number support produ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PC Brochure &amp; UPC 8-Step Ch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Water Supply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Public Sanitation Projects (on  DVD-R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ource -  the water and sanitation literature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quaPix  -    the urban pictures DV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In-situ Water Kiosk Construction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olkit for Urban Sanitatio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number of urban community sensitisation posters. Focus, fetching at the kiosk, on water storage &amp; use, hand washing and HIV/AIDS (laminated, size A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5B4-CE24-4711-8EB4-EE1428906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85840" y="1285920"/>
            <a:ext cx="8532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a project to mainstream HIV/AIDS and to address gender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rganis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easy accessible mod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ainly be used by the Field monitors and by WSP and WSB staf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s developed with three  WSPs (Oloolaiser Water and Sewerage Company, Mavoko WSC and Naivasha Water, Sewerage and Sanitation Company) during the implementation of th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Kiosk Pilot Projec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funded by GT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l lessons learned resulted in numerous improvements an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 pilot project currently supplies more than 2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0D44-5938-4F23-BD61-B2AF17180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00040" y="285840"/>
            <a:ext cx="800100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provided to the WSBs and WSPs: The Toolki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Water Supply Pro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ll tools needed to plan, implement &amp; operate an urban water suppl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ers all phases of the project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STF Application Fo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data collection and project evaluation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ll necess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raw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ills of quantit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companying 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 water supply project (community mobilisation, sensitisation and participation, training of staff and kiosk operator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6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0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6614-D2C6-4A0A-A213-29D6A6CA5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5840" y="214200"/>
            <a:ext cx="81439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: Field Monitor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85840" y="1071720"/>
            <a:ext cx="7900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project receives the support from a (1) Engineering-, (2) Social- and an (3) Financial Field Mon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Field Moni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pecialists contracted by the WST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ttached to WSTF-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st, facilitate, advice &amp; build capacity at WSP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monitor progress and quality on behalf of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closely together with the WSP and WSB and are part of the Project Task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ject Task Team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nsists of: WSP and WSB staff, Council staff, the Public Health Officer (PHO),  the Chief, residents and the Field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53C-E3F4-4D98-90DB-500EA6DE3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1280" y="71280"/>
            <a:ext cx="864396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28592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 number of technical options (drawings, BoQs, etc.)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closed water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closed kiosk (2 siz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bamboo eco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kiosk (covered and not cov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tu yard t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abricated yard 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id  public tap (being develo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r chambers (for up to 25 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SP can also choose to implement a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ixed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kiosks and yard taps or kiosk and domestic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DSC02807.JPG"/>
          <p:cNvPicPr/>
          <p:nvPr/>
        </p:nvPicPr>
        <p:blipFill>
          <a:blip r:embed="rId2"/>
          <a:stretch/>
        </p:blipFill>
        <p:spPr>
          <a:xfrm>
            <a:off x="4809960" y="2928960"/>
            <a:ext cx="419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05E2-E152-4AFD-9945-DCFA4384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280" y="142920"/>
            <a:ext cx="8715600" cy="128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provided to the WSBs and W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Option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42920" y="1428840"/>
            <a:ext cx="79009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versio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kit for Urban Sanitation Proj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will contain a number of technical options a WSP can op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ublic sanitation facility (lin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wer or to a bio-dige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lot-level (shared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ousehold level sanitation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creasing number of residents of low income areas are renting their accommodation. They live on a plot together with other tenants and share the available toil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image 01.jpg"/>
          <p:cNvPicPr/>
          <p:nvPr/>
        </p:nvPicPr>
        <p:blipFill>
          <a:blip r:embed="rId2"/>
          <a:stretch/>
        </p:blipFill>
        <p:spPr>
          <a:xfrm>
            <a:off x="4429080" y="2567160"/>
            <a:ext cx="4286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060D-328A-45E8-A876-1DB37F1E9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285840" y="21420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but not least: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85840" y="1160640"/>
            <a:ext cx="79009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STF, at the request of the Ministry of Water and irrigation, is conducting a pro-poor mapping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data is collected in an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ncome urban areas of Ke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n population, current water supply &amp; sanitation (WSS) situation, housing, solid waste, socio-economic activities &amp; infrastructure, land ownership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PS readings are taken of area boundaries, existing WSS infrastructure and of the “area characterisation pictures”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data will be used to create a database: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Maji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jiData  is supported and implemented together with Google.org, Un-Habitat and Kf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9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40AC-C7B3-4BFF-95BC-526B87789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2876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 of Maji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57120" y="1357200"/>
            <a:ext cx="79009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ing water supply &amp; sanitation (WSS) in urban low income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able Water Services Providers (WSPs) to prepare realistic project proposals for the WS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WSTF to evaluate and prioritise proposals (value for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the capacity of WSPs to manage WSS sche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Kenyan water sector to assess the current WSS situation and monitor the impact of programmes and their contribution to the achievement of MDGs &amp; Vision 2030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eam has completed data collection in 6 Water Services Boards regions. Data collection will be complete in November. The Team has collected data on more than 1,100  low income urban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8F32-6313-4E93-BD35-27A11F1B7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85840"/>
            <a:ext cx="80010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040" y="1357200"/>
            <a:ext cx="792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large proportion of the urban population in Kenya does not have acces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fe wat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adequate 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10648.JPG"/>
          <p:cNvPicPr/>
          <p:nvPr/>
        </p:nvPicPr>
        <p:blipFill>
          <a:blip r:embed="rId2"/>
          <a:stretch/>
        </p:blipFill>
        <p:spPr>
          <a:xfrm>
            <a:off x="857160" y="2874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1010664.JPG"/>
          <p:cNvPicPr/>
          <p:nvPr/>
        </p:nvPicPr>
        <p:blipFill>
          <a:blip r:embed="rId3"/>
          <a:stretch/>
        </p:blipFill>
        <p:spPr>
          <a:xfrm>
            <a:off x="4786200" y="287496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76D1-D451-42D0-A763-B185D415D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4200" y="214200"/>
            <a:ext cx="4500720" cy="107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076720" y="216000"/>
            <a:ext cx="3346560" cy="251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P1020493.JPG"/>
          <p:cNvPicPr/>
          <p:nvPr/>
        </p:nvPicPr>
        <p:blipFill>
          <a:blip r:embed="rId3"/>
          <a:stretch/>
        </p:blipFill>
        <p:spPr>
          <a:xfrm>
            <a:off x="5072040" y="3071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P1020484.JPG"/>
          <p:cNvPicPr/>
          <p:nvPr/>
        </p:nvPicPr>
        <p:blipFill>
          <a:blip r:embed="rId4"/>
          <a:stretch/>
        </p:blipFill>
        <p:spPr>
          <a:xfrm>
            <a:off x="214200" y="2286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E7E-E4EB-45F0-89E5-176974989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142920"/>
            <a:ext cx="785808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000080"/>
            <a:ext cx="82184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respond to this challenge, the Water Services Trust Fund (WSTF) established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Window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to finance sustainable urban water supply and sanitation projects in low income urba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Window is supported by the European Union (EU) and by the German Development Bank (Kf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vailable funds :  € 15.5 million (approx KSh 1.5 B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fW will continue supporting the UPC after the current phase          (€ 5.5. million) with an additional € 12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echnical support is provided by the German Technical Cooperation (GTZ) and by K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WSTF has developed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Urban Projects Concep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UPC) to provide support and opportunities to the Water Service Providers (WSPs) &amp; Water Services Boards (WS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B14F-2343-4B35-B5D5-1E07E9B9E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143000"/>
            <a:ext cx="79725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oes the WSTF intend to achie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ing sustainable safe water and adequate sanitation accessible to a large number of urban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ing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ibuting to the improvement of urban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 capacity at provid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</a:rPr>
              <a:t>Objective of the WSTF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:  reaching the poor…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ater supply:    1.4 million residents (500,000 in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anitation: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400,000 resid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etween January 2009 and December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98B1-B481-4BA5-95CC-4C24A1946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214200"/>
            <a:ext cx="8001000" cy="642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00008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Water supp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 Euro 5 – Euro 17 (depending on the required technical works and social constraints) of urba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ing unaccounted for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1010655.JPG"/>
          <p:cNvPicPr/>
          <p:nvPr/>
        </p:nvPicPr>
        <p:blipFill>
          <a:blip r:embed="rId2"/>
          <a:stretch/>
        </p:blipFill>
        <p:spPr>
          <a:xfrm>
            <a:off x="4238640" y="3498840"/>
            <a:ext cx="3905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12A-07E4-4A37-9A39-B70FB3E33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00040" y="214200"/>
            <a:ext cx="8001000" cy="714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ive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928800"/>
            <a:ext cx="797256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cost per beneficiary: KSh 500 (funded by WST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TF will offer innovati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ubli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plot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household-leve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anitation solutions: KSh 8,000 for a single household facility and KSh 40,000 – 70,000; for a shared facility (4 – 20 households living on the same p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anitation, in most cases, the outcome of a household decision... or a decision made by the land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1010737.JPG"/>
          <p:cNvPicPr/>
          <p:nvPr/>
        </p:nvPicPr>
        <p:blipFill>
          <a:blip r:embed="rId2"/>
          <a:stretch/>
        </p:blipFill>
        <p:spPr>
          <a:xfrm>
            <a:off x="571680" y="4071960"/>
            <a:ext cx="352404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 01.jpg"/>
          <p:cNvPicPr/>
          <p:nvPr/>
        </p:nvPicPr>
        <p:blipFill>
          <a:blip r:embed="rId3"/>
          <a:stretch/>
        </p:blipFill>
        <p:spPr>
          <a:xfrm>
            <a:off x="4500720" y="4071960"/>
            <a:ext cx="407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7EFF-EFC9-472C-9D19-FD4EA1B9E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00040" y="214200"/>
            <a:ext cx="792972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1473120" y="3481560"/>
            <a:ext cx="352764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funds of the WSTF can only be accessed by licensed Water Service Providers (W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WSPs are responsible for the management of project funds as well as for the successful implementation and sustainable operation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9406-8783-4D31-99BF-7BF35E193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14200" y="214200"/>
            <a:ext cx="835848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rojects Concept has eight (8)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4200" y="1214280"/>
            <a:ext cx="81439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nch of the Call for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WS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on of data by the W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pulation demand for wat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. Announcing the Call for Proposals .jpg"/>
          <p:cNvPicPr/>
          <p:nvPr/>
        </p:nvPicPr>
        <p:blipFill>
          <a:blip r:embed="rId2"/>
          <a:stretch/>
        </p:blipFill>
        <p:spPr>
          <a:xfrm>
            <a:off x="5357880" y="1143000"/>
            <a:ext cx="321480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8" descr="2. Data Collection.jpg"/>
          <p:cNvPicPr/>
          <p:nvPr/>
        </p:nvPicPr>
        <p:blipFill>
          <a:blip r:embed="rId3"/>
          <a:stretch/>
        </p:blipFill>
        <p:spPr>
          <a:xfrm>
            <a:off x="5357880" y="3643200"/>
            <a:ext cx="3286080" cy="233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Picture 3" descr="WSTF-stripes-A4-landscape+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E782-3495-4A49-868C-8FCCC119A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3572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28760" y="214200"/>
            <a:ext cx="8143920" cy="857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C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of project propos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SPs and WS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Appraisal of project 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WS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3. Proposal Preparation.jpg"/>
          <p:cNvPicPr/>
          <p:nvPr/>
        </p:nvPicPr>
        <p:blipFill>
          <a:blip r:embed="rId2"/>
          <a:stretch/>
        </p:blipFill>
        <p:spPr>
          <a:xfrm>
            <a:off x="5286240" y="1071720"/>
            <a:ext cx="3286440" cy="23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8" name="Picture 8" descr="4. Proposal Evaluation by WSTF.jpg"/>
          <p:cNvPicPr/>
          <p:nvPr/>
        </p:nvPicPr>
        <p:blipFill>
          <a:blip r:embed="rId3"/>
          <a:stretch/>
        </p:blipFill>
        <p:spPr>
          <a:xfrm>
            <a:off x="5286240" y="3643200"/>
            <a:ext cx="3321360" cy="23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02:34Z</dcterms:created>
  <dc:creator>dell client</dc:creator>
  <dc:description/>
  <dc:language>en-US</dc:language>
  <cp:lastModifiedBy>rolendo</cp:lastModifiedBy>
  <dcterms:modified xsi:type="dcterms:W3CDTF">2010-10-18T04:54:57Z</dcterms:modified>
  <cp:revision>123</cp:revision>
  <dc:subject/>
  <dc:title>Slide 1</dc:title>
</cp:coreProperties>
</file>