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6B6EC-E894-41CB-BF07-1883F9109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5CB6-F0DF-44C6-9788-D7DAC2E58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E93B-9C72-42AC-B813-A33EEEE8C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44F7-C690-4727-AAD3-6878FB90A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ED72-73EE-483F-B2B2-68EFE453C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628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76400" y="153972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652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628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76400" y="3689280"/>
            <a:ext cx="23709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B74A-5CE8-40E2-B822-F7314673E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0147-7AEE-4FA7-AE7E-76CA5D98F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0CAB-6445-4434-844F-154F891B9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6520" y="736200"/>
            <a:ext cx="736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919D-44A6-47E5-A6D3-9FF9F5A13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BFC3-3C13-4200-8DEA-258043F41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0400" y="368928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B620-031B-45D0-B4C8-8B977268F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0400" y="1539720"/>
            <a:ext cx="35938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6520" y="3689280"/>
            <a:ext cx="73645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47A0-DFAA-421F-B975-ADC5AA645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478480"/>
            <a:ext cx="698400" cy="95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Click to edit the title text format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3" marL="160668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4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5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6" marL="2057400" indent="-228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l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Pl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041E-796B-4B49-BBCC-FEE3430E8805}" type="slidenum">
              <a:rPr b="0" lang="en-GB" sz="1400" spc="-1" strike="noStrike">
                <a:solidFill>
                  <a:srgbClr val="000000"/>
                </a:solidFill>
                <a:latin typeface="Pl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66cc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3366cc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3366cc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Plan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600200"/>
            <a:ext cx="901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97480"/>
            <a:ext cx="101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Plan"/>
              </a:rPr>
              <a:t>©</a:t>
            </a:r>
            <a:r>
              <a:rPr b="0" lang="en-GB" sz="800" spc="-1" strike="noStrike">
                <a:solidFill>
                  <a:srgbClr val="ffffff"/>
                </a:solidFill>
                <a:latin typeface="AdobeSanMM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Plan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lan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lvl="1" marL="192240" indent="0"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2" marL="914400" indent="44280" algn="ctr">
              <a:spcBef>
                <a:spcPts val="601"/>
              </a:spcBef>
              <a:buClr>
                <a:srgbClr val="000000"/>
              </a:buClr>
              <a:buFont typeface="Pl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Pl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l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muel.Musyoki@Plan-International.org" TargetMode="External"/><Relationship Id="rId3" Type="http://schemas.openxmlformats.org/officeDocument/2006/relationships/hyperlink" Target="http://www.communityledtotalsanitation.org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100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Community-Led Total Sanitation (CLTS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lan"/>
              </a:rPr>
              <a:t>&amp; Challenges</a:t>
            </a:r>
            <a:endParaRPr b="1" lang="en-US" sz="4000" spc="-1" strike="noStrike">
              <a:solidFill>
                <a:srgbClr val="ffffff"/>
              </a:solidFill>
              <a:latin typeface="Pl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Kenya Experiences, Achievements, Challenges </a:t>
            </a: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Water &amp; Sanitation Workshop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irview Hotel – Nairobi</a:t>
            </a:r>
            <a:endParaRPr b="0" lang="en-US" sz="3200" spc="-1" strike="noStrike">
              <a:solidFill>
                <a:srgbClr val="ffffff"/>
              </a:solidFill>
              <a:latin typeface="Pl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(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l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lan"/>
              </a:rPr>
              <a:t> – 21st Oct. 2010)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2"/>
              </a:rPr>
              <a:t>Samuel.Musyoki@Plan-International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66"/>
                </a:solidFill>
                <a:uFillTx/>
                <a:latin typeface="Plan"/>
                <a:hlinkClick r:id="rId3"/>
              </a:rPr>
              <a:t>www.communityledtotalsanitation.org</a:t>
            </a:r>
            <a:endParaRPr b="0" lang="en-US" sz="20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6520" y="30456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: Sequence of Key Step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re-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buy-in, selection of sites, training, introduction and building rappo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riggering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Sanitation profile –mapping-calculation of quantities-transect walk- flow-channels-effects-costs-ignition moment-action plann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Post-triggering: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mplementation of Action plans, follow-up, monitoring and documentation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6760" indent="-1767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caling up:</a:t>
            </a:r>
            <a:r>
              <a:rPr b="1" lang="en-US" sz="3200" spc="-1" strike="noStrike">
                <a:solidFill>
                  <a:srgbClr val="ff33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Going beyond CLTS…what next?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Some Photos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6880" y="2244600"/>
            <a:ext cx="3605400" cy="270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36960" y="1539720"/>
            <a:ext cx="2935440" cy="219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91120" y="39625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Triggering Respons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862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chbox in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952880"/>
            <a:ext cx="1752480" cy="1371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572000"/>
            <a:ext cx="22860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cattered s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8108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mp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676520"/>
            <a:ext cx="3200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676520"/>
            <a:ext cx="190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ing produces differ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86000" y="31240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62160" y="327672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200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Background to CLTS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With previous pace and approaches, it would take &gt;100 years and &gt;$30 billion (@$100/HH) to achieve total sanitation in RESA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RESA ins searched of  cost effective,  fast  and sustainable approaches for accelerating sanitation work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Came across CLTS-Origins in Bangladesh  and tried with documented positive  results in South East Asia seemed promising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Plan decided to adopt CLTS as the major approach for sanitation promotion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6520" y="228240"/>
            <a:ext cx="736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in Kenya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RESA training for 38 participants in Tz-3 participants from Kenya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2007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lan Kenya Management decides to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pilot CLTS in Nyanza, Coast and Eastern region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CLTS training and triggering in (Arujo village Homa Bay and Jaribuni village Kilifi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Sept/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Tharaka Machakos and Kisumu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First village (Jaribuni) attains ODF stat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-1731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2007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Training and triggering of CLTS in Bondo and Siaya PU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31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</a:rPr>
              <a:t>CLTS Timeline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Feb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KNO/DFID CLTS grant (50,000US$ for Kenya)start-u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lan/IDS AfricaSan CLTS pre-conference workshop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pr.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Sharing UNICEF regional workshop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MOH/PH CLTS training and triggering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ne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Program conference parallel start-up workshop and the plenary session with Rober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July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RESA CLTS training in Kilifi; 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6520" y="304920"/>
            <a:ext cx="7364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cc"/>
                </a:solidFill>
                <a:latin typeface="Plan"/>
              </a:rPr>
              <a:t>CLTS Timeline continued</a:t>
            </a:r>
            <a:endParaRPr b="1" lang="en-US" sz="40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39360"/>
            <a:ext cx="84582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Aug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ODF verification exercise of 20 villages of  Siaya district (near Kogelo)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Oct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UNICEF/MoPH&amp;S Training in Kisumu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Nov. 08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World Toilet Week events including the training in Kwal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Dec. 08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 AfricaSan Durban IDS/Plan pre- conference CLTS session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</a:rPr>
              <a:t>Mar. 09:</a:t>
            </a:r>
            <a:r>
              <a:rPr b="1" lang="en-GB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</a:rPr>
              <a:t>CLTS Africa sharing event in Kilifi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736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rained over 600 practitioners (MoPH&amp;S, UNICEF, NGOs, CBOs, local leaders and youth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Kilifi became the  learning centre early ODF statu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Over 860 villages in various parts of the country have been triggered &amp; are at different stages towards ODF 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To date 146 villages have been declared ODF, in Coast (Kilifi) and Nyanza (Homabay)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Adoption of CLTS for Rural sanitation by MoPHS- annual targets/CLTS coordination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creased Interest and demand for CLTS-training and support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Achievemen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ange in mindsets &amp; leading to collective action =Increased coverage &amp; use: Kilifi from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30% to 48%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between May 2008-June 2010, Homa Bay-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66 triggered 29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ODF and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Busia- 380</a:t>
            </a: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Plan"/>
              </a:rPr>
              <a:t>triggered 56 ODF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World Toilet Day celebrated to mark ODF for the past 3 year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Media buy-in and coverage e.g. partnership with KBC series of “Vitimbi”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Networks and partnerships on CLTS have emerged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hildren and youth participation in CLTS-School-Led Total Sanitation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Funding for CLTS, scaling-up, capacity building, advocacy  research &amp; documentation (e.g. DGIS/Plan Netherlands 8.5 million Euro in 8 African Countri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CLTS moving from Rural to Urban  and to School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Establishment of a CLTS unit within Plan Kenya- responding demands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-16560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lan"/>
              </a:rPr>
              <a:t>Systematic documentation of CLTS experiences – PLA CLTS Issue,  “Tales of Shit in Africa”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6560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914400"/>
          <a:ext cx="8229600" cy="540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229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610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 International: Who we are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 is an international humanitarian, child centered, development organization, without religious, political or governmental affiliation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Plan’s vision is of a world in which all children realize their full potential in societies that respect people’s rights and dignity;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75 Years of Existence; 48 Program Countries (13 in ESA Region)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In since Kenya 1982 (28yrs)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Plan"/>
                <a:ea typeface="Times New Roman"/>
              </a:rPr>
              <a:t>Challenge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Uptake slow/not the same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in the different regions Plan Kenya works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Conflicting approaches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by different agencies  in the sanitation sector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The allowance culture: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Some are in it for the out of pocket-not passionate or committ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Doubt and scepticism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among sanitation professional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Plan"/>
                <a:ea typeface="Times New Roman"/>
              </a:rPr>
              <a:t>Lack of willingness to let go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our professionalism-wanting the communities to start at the top of the ladder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-1749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Plan"/>
                <a:ea typeface="Times New Roman"/>
              </a:rPr>
              <a:t>Weak M&amp;E and reporting</a:t>
            </a:r>
            <a:r>
              <a:rPr b="0" lang="en-GB" sz="3200" spc="-1" strike="noStrike">
                <a:solidFill>
                  <a:srgbClr val="000000"/>
                </a:solidFill>
                <a:latin typeface="Plan"/>
                <a:ea typeface="Times New Roman"/>
              </a:rPr>
              <a:t>  within the mandated institutions;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749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hallenges – cont’d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Dependency syndrome 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in some areas emanating from previous approach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Finding good facilitators: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Not all trained find it easy and/or develop the passion to take up the CLTS challenge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Triggering without adequate mechanisms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for follow-up and support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adequate support and mentoring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natural leaders;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Private sector inability to come-up with affordable technological </a:t>
            </a: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innovations-dependency!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marL="188280" indent="-188280">
              <a:lnSpc>
                <a:spcPts val="3197"/>
              </a:lnSpc>
              <a:spcBef>
                <a:spcPts val="799"/>
              </a:spcBef>
              <a:buClr>
                <a:srgbClr val="ff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lan"/>
              </a:rPr>
              <a:t>CLTS health outcomes/Impact research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of CLTS intervention on diarrhea control and reduction in child mortality?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Future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736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Citizen Led Total Sanitation –Urban CLT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Politics and governance of urban sanitation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Land tenure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City planning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lvl="1" marL="380880" indent="-188640">
              <a:lnSpc>
                <a:spcPts val="2398"/>
              </a:lnSpc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n"/>
              </a:rPr>
              <a:t>Tenancy standards</a:t>
            </a:r>
            <a:endParaRPr b="0" lang="en-US" sz="18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Harnessing ICT4D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Mobile/GIS mapping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Partnership with Map Kibera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Pl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n"/>
              </a:rPr>
              <a:t>Next Map Mathare</a:t>
            </a:r>
            <a:endParaRPr b="0" lang="en-US" sz="14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Sanitation Marketing/Sanitation Financing-what options for urban informal settlements and small towns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lvl="2" marL="11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Many Design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46440" cy="244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46600">
            <a:off x="4749480" y="98712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959400">
            <a:off x="298440" y="33955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Achievements-Triggered plus spill over in Kilifi District (May -2008-June 2010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1371600"/>
          <a:ext cx="8686800" cy="5405400"/>
        </p:xfrm>
        <a:graphic>
          <a:graphicData uri="http://schemas.openxmlformats.org/drawingml/2006/table">
            <a:tbl>
              <a:tblPr/>
              <a:tblGrid>
                <a:gridCol w="1981080"/>
                <a:gridCol w="1066680"/>
                <a:gridCol w="1219320"/>
                <a:gridCol w="1066680"/>
                <a:gridCol w="1067040"/>
                <a:gridCol w="1066680"/>
                <a:gridCol w="121932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trigger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DF villag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below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ges above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219320"/>
          <a:ext cx="7966080" cy="4860720"/>
        </p:xfrm>
        <a:graphic>
          <a:graphicData uri="http://schemas.openxmlformats.org/drawingml/2006/table">
            <a:tbl>
              <a:tblPr/>
              <a:tblGrid>
                <a:gridCol w="1036800"/>
                <a:gridCol w="941400"/>
                <a:gridCol w="753840"/>
                <a:gridCol w="1319400"/>
                <a:gridCol w="1137960"/>
                <a:gridCol w="927360"/>
                <a:gridCol w="925560"/>
                <a:gridCol w="923760"/>
              </a:tblGrid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latrines as at 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July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rine coverage (1 st July 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new latr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 with  latrines at 3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…20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ov. ForAug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ny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87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h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7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kamb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07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3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6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m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3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tenge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ribu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24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5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73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3197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8064a2"/>
                          </a:solidFill>
                          <a:latin typeface="Arial"/>
                          <a:ea typeface="Arial"/>
                        </a:rPr>
                        <a:t>4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Plan"/>
              </a:rPr>
              <a:t>Kilifi District Latrine Coverage By Division</a:t>
            </a:r>
            <a:endParaRPr b="1" lang="en-US" sz="1700" spc="-1" strike="noStrike">
              <a:solidFill>
                <a:srgbClr val="3366cc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: Where we Work 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88" name="Kenya_400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858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63160"/>
            <a:ext cx="736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Country Goal &amp; Programs</a:t>
            </a:r>
            <a:endParaRPr b="1" lang="en-US" sz="32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Plan"/>
              </a:rPr>
              <a:t>Country Goal:</a:t>
            </a:r>
            <a:r>
              <a:rPr b="1" lang="en-GB" sz="2400" spc="-1" strike="noStrike">
                <a:solidFill>
                  <a:srgbClr val="000000"/>
                </a:solidFill>
                <a:latin typeface="Plan"/>
              </a:rPr>
              <a:t> Transformed Institutions &amp; Societies That Respect and Fulfil Rights of All Children in Kenya.</a:t>
            </a:r>
            <a:r>
              <a:rPr b="0" lang="en-US" sz="2400" spc="-1" strike="noStrike">
                <a:solidFill>
                  <a:srgbClr val="000000"/>
                </a:solidFill>
                <a:latin typeface="Pl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lan"/>
              </a:rPr>
              <a:t>Country Programs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: Right to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99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lan"/>
              </a:rPr>
              <a:t>Health [includes Water &amp; Sanitation]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Quality Basic Educa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Inclusion &amp; Protection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Sustainable and Dignified Livelihoods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0" algn="ctr">
              <a:lnSpc>
                <a:spcPts val="2398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lvl="1" marL="319680" indent="-158400" algn="ctr">
              <a:lnSpc>
                <a:spcPts val="2398"/>
              </a:lnSpc>
              <a:spcBef>
                <a:spcPts val="400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Just and Democratic Governance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362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Plan Kenya &amp; Others: Long History of Latrine Subsidie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71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1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Plan"/>
              </a:rPr>
              <a:t>Let’s Talk About?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What is CLTS? Community-Led Total Sanitation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lan"/>
            </a:endParaRPr>
          </a:p>
          <a:p>
            <a:pPr marL="19044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l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A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“Participatory and Learning Action”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pproach based on stimulating a collective sense of </a:t>
            </a: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disgust, shame and fear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among community members as they confront the crude reality about mass open defecation </a:t>
            </a:r>
            <a:r>
              <a:rPr b="0" i="1" lang="en-US" sz="3200" spc="-1" strike="noStrike">
                <a:solidFill>
                  <a:srgbClr val="000000"/>
                </a:solidFill>
                <a:latin typeface="Plan"/>
              </a:rPr>
              <a:t>[environmental contamination] and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its negative effects on the entire community. 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20" y="736200"/>
            <a:ext cx="7364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lan"/>
              </a:rPr>
              <a:t>Underlying Assumptions of CLTS</a:t>
            </a:r>
            <a:endParaRPr b="1" lang="en-US" sz="2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6520" y="1539720"/>
            <a:ext cx="360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No one  can stay unmoved once they discover they are ingesting other people’s or their own faeces;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-17136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lan"/>
              </a:rPr>
              <a:t>High sense of shame and disgust hold the power to ignite people to take action and use their resources (not subsidy) to stop open defecation and be totally sanitised; </a:t>
            </a:r>
            <a:endParaRPr b="0" lang="en-US" sz="2000" spc="-1" strike="noStrike">
              <a:solidFill>
                <a:srgbClr val="000000"/>
              </a:solidFill>
              <a:latin typeface="Plan"/>
            </a:endParaRPr>
          </a:p>
          <a:p>
            <a:pPr marL="171360" indent="0">
              <a:lnSpc>
                <a:spcPts val="3197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l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724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Plan"/>
              </a:rPr>
              <a:t>CLTS is</a:t>
            </a:r>
            <a:endParaRPr b="1" lang="en-US" sz="3600" spc="-1" strike="noStrike">
              <a:solidFill>
                <a:srgbClr val="3366cc"/>
              </a:solidFill>
              <a:latin typeface="Pl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mmunity-led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They lead and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everyone in the community is involved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Total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Plan"/>
              </a:rPr>
              <a:t>100%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 elimination of open defecation &amp; practice of good hygiene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Sanitation:</a:t>
            </a:r>
            <a:r>
              <a:rPr b="1" lang="en-US" sz="3200" spc="-1" strike="noStrike">
                <a:solidFill>
                  <a:srgbClr val="000000"/>
                </a:solidFill>
                <a:latin typeface="Pl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Beyond construction of toilet;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  <a:p>
            <a:pPr marL="190440" indent="-190440">
              <a:lnSpc>
                <a:spcPts val="3197"/>
              </a:lnSpc>
              <a:spcBef>
                <a:spcPts val="799"/>
              </a:spcBef>
              <a:buClr>
                <a:srgbClr val="ff3300"/>
              </a:buClr>
              <a:buFont typeface="Pl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lan"/>
              </a:rPr>
              <a:t>Collective action:</a:t>
            </a:r>
            <a:r>
              <a:rPr b="0" lang="en-US" sz="3200" spc="-1" strike="noStrike">
                <a:solidFill>
                  <a:srgbClr val="000000"/>
                </a:solidFill>
                <a:latin typeface="Plan"/>
              </a:rPr>
              <a:t> Often locally decided and not dependent on external subsidies and prescriptions of solutions.</a:t>
            </a:r>
            <a:endParaRPr b="0" lang="en-US" sz="3200" spc="-1" strike="noStrike">
              <a:solidFill>
                <a:srgbClr val="000000"/>
              </a:solidFill>
              <a:latin typeface="Pl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5:02:51Z</dcterms:created>
  <dc:creator>cmcc</dc:creator>
  <dc:description/>
  <dc:language>en-US</dc:language>
  <cp:lastModifiedBy>smusyoki</cp:lastModifiedBy>
  <dcterms:modified xsi:type="dcterms:W3CDTF">2010-10-19T07:31:49Z</dcterms:modified>
  <cp:revision>151</cp:revision>
  <dc:subject/>
  <dc:title>Ethics in Human Development; Do the poor really Matter?</dc:title>
</cp:coreProperties>
</file>