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483-3826-45B8-8D28-E036BF59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CE4-BFFD-4461-B9E7-2EE06AAE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EF16-3256-45A4-B5F5-582DBC6A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87A4-2511-46CC-B1C6-C4CC3664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2E5E-2676-4E36-B0F3-E5A48F7C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096E-F9A6-4C60-8316-15BD37F9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AC10-C6C1-45D0-83CE-A93F1D20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E797-FC04-4DCD-989E-EFDAFB40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19AD-D39B-416A-985C-3675CF02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CECB-67D1-465F-B344-2939409E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3F4D-E139-477E-B834-8C6F9A2D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F0C-2F02-42CA-8A0D-A11037C6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032B-C54C-4204-B500-D7564D42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6031-0718-4211-B040-C5C277DB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DA30-649C-4CFB-93C9-983E78A0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4B4E-0458-4838-AAA0-52E90CF4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80DB-89DF-45F8-9676-32B0BB5F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8BA-BC23-4C8A-9477-BA08FF81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515-553B-4443-8870-BC445BB2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436-8173-44DE-B9F0-059F8587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863D-8E2F-4E85-A516-5405B4F7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5795-45B3-4338-8FC0-27A391DD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931-544B-4D8F-973C-157EC419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E95-DC9C-4D55-8D17-7E66C07E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ED0E-C3DE-4B18-9914-145973E0A8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F73A-7416-4209-B515-A97762603C8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3534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Field visit to Banks Breweri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See, learn, apply?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6520" y="5661000"/>
            <a:ext cx="8532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Jannik VAA, EU Delegation, Barbados and OEC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U Energy and Water Seminar, 18-22 May 2015, Barbado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5ec1"/>
              </a:solidFill>
              <a:latin typeface="Verdana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801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Electrical KPI 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4 Kwh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8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3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Thermal energy KPI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114Kg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2.8 Kg/h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28.8 Kg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560" y="2060280"/>
            <a:ext cx="8713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Water consumption KPI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16 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9.6Hl/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8. 7hl/h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nclu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77336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Example of the “green economy” concept being embraced at private sector leve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E actions and undertakings save money and resources – good for business. Generates / secures job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iven the “right” framework (enabling environment) private sector can and wil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annik</cp:lastModifiedBy>
  <cp:lastPrinted>2015-02-23T13:54:39Z</cp:lastPrinted>
  <dcterms:modified xsi:type="dcterms:W3CDTF">2015-05-20T10:33:20Z</dcterms:modified>
  <cp:revision>241</cp:revision>
  <dc:subject/>
  <dc:title>Slide 1</dc:title>
</cp:coreProperties>
</file>