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C988-CFD3-4BE2-AAAA-4EC57FB34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4DD7-DCE1-4EAA-869A-ED33CB5A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A6B6-4520-4139-9B99-F5FBDBA7A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F508-66BA-4C20-A5B5-854200F9A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832F-981D-4739-9001-34DFA589F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3C20-819D-48EE-A7D2-B7C9F9FC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2D0B-9FC1-4C25-A10E-940F37A3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A503-EDD1-4B3B-9824-E081B0CD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4705-382E-4657-AA43-7B14F822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5848-951B-4508-9901-74A30904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DE05-CD22-4444-8264-CB98C029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EDCC-C0DB-4DC4-A962-A93F1F97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E1B7-3A58-49FA-B69D-4B762FB2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88D1-BA02-4829-969C-173307A3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60FC-2551-410C-B240-0383E3D3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5569-4A1C-4103-87E7-303BB0476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6684-D00A-4106-99ED-09AF0E61A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79EC-6545-4C86-B927-3E0A707D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30DD-4EBB-4134-A6D3-17BBBB4D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2025-B47E-4D3A-8C46-D92B9835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02DB-4208-48B4-8755-92A5689C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809A-948F-44CF-AF43-38367BE5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EE82-0DA1-4898-BD31-0B995707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C9A7-F086-4EA2-B663-EE2E078E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D7D2-54E0-4B33-AD50-EE5C591E936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Line 19"/>
          <p:cNvSpPr/>
          <p:nvPr/>
        </p:nvSpPr>
        <p:spPr>
          <a:xfrm>
            <a:off x="4253040" y="123660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22" descr="Picture2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3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1128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6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7" name="Line 22"/>
          <p:cNvSpPr/>
          <p:nvPr/>
        </p:nvSpPr>
        <p:spPr>
          <a:xfrm>
            <a:off x="4253040" y="123336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8" name="Picture 26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48000" cy="26856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211F-EBED-4A62-91B0-0F9FB0B08E3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35344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624"/>
                </a:solidFill>
                <a:latin typeface="Verdana"/>
              </a:rPr>
              <a:t>Field visit to Banks Brewerie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d624"/>
                </a:solidFill>
                <a:latin typeface="Verdana"/>
              </a:rPr>
              <a:t>See, learn, apply?</a:t>
            </a: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6520" y="5661000"/>
            <a:ext cx="853272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ffffff"/>
                </a:solidFill>
                <a:latin typeface="Verdana"/>
              </a:rPr>
              <a:t>Jannik VAA, EU Delegation, Barbados and OEC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EU Energy and Water Seminar, 18-22 May 2015, Barbado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d5ec1"/>
              </a:solidFill>
              <a:latin typeface="Verdana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08012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Results”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964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Electrical KPI  reduction from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Wildey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 34 Kwh/hl to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011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 28.3 kwh/h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015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 23.3 kwh/h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Thermal energy KPI reduction from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Wildey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114Kg/Hl to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011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 32.8 Kg/hl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015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28.8 Kg/h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Results”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50560" y="2060280"/>
            <a:ext cx="87138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Water consumption KPI from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Wildey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: 16 Hl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2011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: 9.6Hl/hl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2015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: 8. 7hl/hl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C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onclus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77336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Example of the “green economy” concept being embraced at private sector level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GE actions and undertakings save money and resources – good for business. Generates / secures job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Given the “right” framework (enabling environment) private sector can and will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annik</cp:lastModifiedBy>
  <cp:lastPrinted>2015-02-23T13:54:39Z</cp:lastPrinted>
  <dcterms:modified xsi:type="dcterms:W3CDTF">2015-05-20T10:33:20Z</dcterms:modified>
  <cp:revision>241</cp:revision>
  <dc:subject/>
  <dc:title>Slide 1</dc:title>
</cp:coreProperties>
</file>