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92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5622480" y="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325260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6515280"/>
            <a:ext cx="430200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562248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FB2F1B7-60F7-4D60-B8D6-A74C84BB5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A0FFE39-28DB-4EF5-97FE-04FF124851C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29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766C193-EF53-4D4F-84D1-87EFBBF1A6E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440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29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8CA39E8-ED3C-4A1F-B565-5CC294F15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7925440-A83F-4B91-9140-C79F5170B2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440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E957D9A-A167-4ECE-864F-7CC70732F3F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440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4AE60F-A4D8-4CE2-8856-0A8C75E793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440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29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FA40A36-0586-4B7A-A9AD-37DB4C4CB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0F4E542-1C08-4F3D-8E95-0726475CB04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바탕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440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99"/>
                </a:solidFill>
                <a:latin typeface="Calibri"/>
              </a:rPr>
              <a:t>EU Institu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99"/>
                </a:solidFill>
                <a:uFillTx/>
                <a:latin typeface="Calibri"/>
              </a:rPr>
              <a:t>EU Council (Consilium)</a:t>
            </a:r>
            <a:r>
              <a:rPr b="0" lang="en-GB" sz="800" spc="-1" strike="noStrike">
                <a:solidFill>
                  <a:srgbClr val="ffff99"/>
                </a:solidFill>
                <a:latin typeface="Calibri"/>
              </a:rPr>
              <a:t>: 28 Heads of the EU Member States + </a:t>
            </a:r>
            <a:r>
              <a:rPr b="0" lang="en-GB" sz="800" spc="-1" strike="noStrike">
                <a:solidFill>
                  <a:srgbClr val="ffff99"/>
                </a:solidFill>
                <a:latin typeface="Calibri"/>
              </a:rPr>
              <a:t>EU Council President + President of the EC who define the EU's overall political direction and priorit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99"/>
                </a:solidFill>
                <a:uFillTx/>
                <a:latin typeface="Calibri"/>
              </a:rPr>
              <a:t>European Parliament</a:t>
            </a:r>
            <a:r>
              <a:rPr b="0" lang="en-GB" sz="800" spc="-1" strike="noStrike">
                <a:solidFill>
                  <a:srgbClr val="ffff99"/>
                </a:solidFill>
                <a:latin typeface="Calibri"/>
              </a:rPr>
              <a:t>: 751 members directly elected by the EU voters who exercise the legislative function of the EU and have control over the EU budget and the 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99"/>
                </a:solidFill>
                <a:uFillTx/>
                <a:latin typeface="Calibri"/>
              </a:rPr>
              <a:t>European Court of Auditors (ECA)</a:t>
            </a:r>
            <a:r>
              <a:rPr b="0" lang="en-GB" sz="800" spc="-1" strike="noStrike">
                <a:solidFill>
                  <a:srgbClr val="ffff99"/>
                </a:solidFill>
                <a:latin typeface="Calibri"/>
              </a:rPr>
              <a:t>: The EU’s independent external auditor who checks that EU funds are correctly accounted for, are raised and  spent in accordance with the rules and have achieved value for mon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Calibri"/>
              </a:rPr>
              <a:t>EU inter-institutional bo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</a:rPr>
              <a:t>European External Action Service (EEAS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</a:rPr>
              <a:t>): The EU's diplomatic service. It helps the EU's foreign affairs chief to carry out the Union's Common Foreign and Security Polic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</a:rPr>
              <a:t>European Investment Bank Group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</a:rPr>
              <a:t>: The EU's bank which finances and provides expertise for sustainable investment projects as part of the EU policy objec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Other EU ent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</a:rPr>
              <a:t>EC Departments and Services: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</a:rPr>
              <a:t>The Departments are the Directorate-Generals (DGs) which deal with a specific policy. The Services deal with more general administrative issu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 u="sng">
                <a:solidFill>
                  <a:srgbClr val="ffffff"/>
                </a:solidFill>
                <a:uFillTx/>
                <a:latin typeface="Calibri"/>
              </a:rPr>
              <a:t>EU Agencies: </a:t>
            </a:r>
            <a:r>
              <a:rPr b="0" lang="en-GB" sz="800" spc="-1" strike="noStrike">
                <a:solidFill>
                  <a:srgbClr val="ffffff"/>
                </a:solidFill>
                <a:latin typeface="Calibri"/>
              </a:rPr>
              <a:t>40 Legal entities set up to perform specific tasks under EU law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296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622840" y="6515280"/>
            <a:ext cx="4302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3E94837-86A4-41B1-9D75-A99BAA81A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1280" y="6408720"/>
            <a:ext cx="907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ctr" pos="4305240"/>
                <a:tab algn="r" pos="878832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ROM CMTP Team, p.</a:t>
            </a:r>
            <a:fld id="{F9E2FC43-9693-4D46-9794-0A84868FCF9B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1"/>
          <p:cNvSpPr/>
          <p:nvPr/>
        </p:nvSpPr>
        <p:spPr>
          <a:xfrm>
            <a:off x="71280" y="6408720"/>
            <a:ext cx="907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ctr" pos="4305240"/>
                <a:tab algn="r" pos="878832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ROM CMTP Team, p.</a:t>
            </a:r>
            <a:fld id="{7E33CEF9-7A68-43E3-A905-4B04D7ABA48A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2085840"/>
            <a:ext cx="606096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Results-Oriented Monitoring (ROM)</a:t>
            </a:r>
            <a:endParaRPr b="1" lang="en-US" sz="30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Calibri"/>
                <a:ea typeface="Times New Roman"/>
              </a:rPr>
              <a:t>EU DEAR Programme - Inception Seminar</a:t>
            </a:r>
            <a:br>
              <a:rPr sz="2500"/>
            </a:br>
            <a:r>
              <a:rPr b="1" lang="en-GB" sz="2500" spc="-1" strike="noStrike">
                <a:solidFill>
                  <a:srgbClr val="ffff99"/>
                </a:solidFill>
                <a:latin typeface="Calibri"/>
                <a:ea typeface="Times New Roman"/>
              </a:rPr>
              <a:t>Brussels, 29 April 2015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Calibri"/>
                <a:ea typeface="Times New Roman"/>
              </a:rPr>
              <a:t> </a:t>
            </a: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31840" y="716040"/>
            <a:ext cx="13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This project is funded by the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European Union</a:t>
            </a:r>
            <a:endParaRPr b="1" lang="en-US" sz="7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948360" y="763560"/>
            <a:ext cx="21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ffffff"/>
                </a:solidFill>
                <a:latin typeface="Calibri"/>
              </a:rPr>
              <a:t>A project implemented by an</a:t>
            </a:r>
            <a:endParaRPr b="1" lang="en-US" sz="7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ICCS</a:t>
            </a:r>
            <a:r>
              <a:rPr b="0" lang="en-GB" sz="700" spc="-1" strike="noStrike">
                <a:solidFill>
                  <a:srgbClr val="ffffff"/>
                </a:solidFill>
                <a:latin typeface="Calibri"/>
              </a:rPr>
              <a:t>-NTUA Consortium</a:t>
            </a:r>
            <a:endParaRPr b="1" lang="en-US" sz="7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1825560"/>
            <a:ext cx="9144000" cy="259920"/>
          </a:xfrm>
          <a:prstGeom prst="rect">
            <a:avLst/>
          </a:prstGeom>
          <a:solidFill>
            <a:srgbClr val="ffd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바탕"/>
              </a:rPr>
              <a:t>A European Union’s Project</a:t>
            </a:r>
            <a:endParaRPr b="1" lang="en-US" sz="11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5" name="Picture 11" descr="Drapeau-europeen"/>
          <p:cNvPicPr/>
          <p:nvPr/>
        </p:nvPicPr>
        <p:blipFill>
          <a:blip r:embed="rId1"/>
          <a:stretch/>
        </p:blipFill>
        <p:spPr>
          <a:xfrm>
            <a:off x="539640" y="284040"/>
            <a:ext cx="669960" cy="45252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6" name="Text Box 12"/>
          <p:cNvSpPr/>
          <p:nvPr/>
        </p:nvSpPr>
        <p:spPr>
          <a:xfrm>
            <a:off x="0" y="13352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Service Contract for a “Review of implementation of centrally managed projects and programmes financed by the EU under the thematic programmes (CMTPs)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 EVA/2014/353-590</a:t>
            </a:r>
            <a:endParaRPr b="1" lang="en-US" sz="1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7790040" y="272880"/>
            <a:ext cx="485640" cy="48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Picture 14" descr="pyrforos (blue)"/>
          <p:cNvPicPr/>
          <p:nvPr/>
        </p:nvPicPr>
        <p:blipFill>
          <a:blip r:embed="rId2"/>
          <a:stretch/>
        </p:blipFill>
        <p:spPr>
          <a:xfrm>
            <a:off x="7775640" y="260280"/>
            <a:ext cx="511200" cy="511200"/>
          </a:xfrm>
          <a:prstGeom prst="rect">
            <a:avLst/>
          </a:prstGeom>
          <a:ln w="0">
            <a:noFill/>
          </a:ln>
        </p:spPr>
      </p:pic>
      <p:sp>
        <p:nvSpPr>
          <p:cNvPr id="89" name="Oval 16"/>
          <p:cNvSpPr/>
          <p:nvPr/>
        </p:nvSpPr>
        <p:spPr>
          <a:xfrm>
            <a:off x="7780320" y="263520"/>
            <a:ext cx="503280" cy="503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1.4.3 Annual Consolidated Reports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0360" y="1787400"/>
            <a:ext cx="83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ROM review Analysi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Per country and geographic region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Per sector with specific focus on gender and climate change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Per thematic programme and for each component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Results Reporting Support Analysi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Quality of Results Indicators, completeness of project reporting by the implementing partners, quality of the Logframe.  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87280" y="2095560"/>
            <a:ext cx="63928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ST – ROM CMTP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reas for collaboration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2.1 DST potential focus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036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ROM CMTP recommendation of May/2013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Calibri"/>
              </a:rPr>
              <a:t>“…</a:t>
            </a:r>
            <a:r>
              <a:rPr b="1" i="1" lang="en-GB" sz="2200" spc="-1" strike="noStrike">
                <a:solidFill>
                  <a:srgbClr val="ffffff"/>
                </a:solidFill>
                <a:latin typeface="Calibri"/>
              </a:rPr>
              <a:t>It is advisable that future CfP are accompanied by a service contract which could be launched early in the implementation of the grants in order to establish the necessary activity-based monitoring tools (guidelines, reporting templates, web-based repository document system etc…”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“…</a:t>
            </a:r>
            <a:r>
              <a:rPr b="1" i="1" lang="en-GB" sz="2200" spc="-1" strike="noStrike">
                <a:solidFill>
                  <a:srgbClr val="ffffff"/>
                </a:solidFill>
                <a:latin typeface="Calibri"/>
              </a:rPr>
              <a:t>At the &lt;service contract&gt; kick-off meeting, a workshop could be organised, bringing together the EC services and relevant stakeholders in order to decide on the requirements, strategy and expectations…</a:t>
            </a: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2.2 Complementarity ROM - DST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036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Calibri"/>
              </a:rPr>
              <a:t>Precondition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Exchange of information (planned visits, templates)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Complementarity in the assessment of the effectiveness of grant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Appropriateness of the selected reporting indicator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60000" y="1800360"/>
            <a:ext cx="7999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Calibri"/>
              </a:rPr>
              <a:t>ROM Review criterion No 3: Effectivenes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Has the expected </a:t>
            </a:r>
            <a:r>
              <a:rPr b="1" lang="en-GB" sz="2200" spc="-1" strike="noStrike">
                <a:solidFill>
                  <a:srgbClr val="ff9900"/>
                </a:solidFill>
                <a:latin typeface="Calibri"/>
              </a:rPr>
              <a:t>progress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 in terms of outputs been properly achieved?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Is the </a:t>
            </a:r>
            <a:r>
              <a:rPr b="1" lang="en-GB" sz="2200" spc="-1" strike="noStrike">
                <a:solidFill>
                  <a:srgbClr val="ff9900"/>
                </a:solidFill>
                <a:latin typeface="Calibri"/>
              </a:rPr>
              <a:t>quality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 of outputs (including those of CD support) satisfactory?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Are the outputs (including CD) still likely to lead to the expected </a:t>
            </a:r>
            <a:r>
              <a:rPr b="1" lang="en-GB" sz="2200" spc="-1" strike="noStrike">
                <a:solidFill>
                  <a:srgbClr val="ff9900"/>
                </a:solidFill>
                <a:latin typeface="Calibri"/>
              </a:rPr>
              <a:t>outcomes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Is there evidence that the action supports the implementation or the development (or change) of the targeted country‘s </a:t>
            </a:r>
            <a:r>
              <a:rPr b="1" lang="en-GB" sz="2200" spc="-1" strike="noStrike">
                <a:solidFill>
                  <a:srgbClr val="ff9900"/>
                </a:solidFill>
                <a:latin typeface="Calibri"/>
              </a:rPr>
              <a:t>policy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/actions?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2.2.1 Complementarity Example No 1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2.2.2 Complementarity Example No 2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60360" y="1800000"/>
            <a:ext cx="40989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Calibri"/>
              </a:rPr>
              <a:t>DST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Establish reporting framework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Annual collection of data, including values of results indicators of ongoing grant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4500720" y="1800360"/>
            <a:ext cx="410040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ROM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Assess framework in practice through field visits to the grant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- Consolidation of results indicators of ended grants in the context of the EU RF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1776240" y="4859280"/>
            <a:ext cx="51595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which can initiate a discussion on the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appropriateness of the selected reporting indicators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79480" y="1573200"/>
            <a:ext cx="27939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russels</a:t>
            </a:r>
            <a:endParaRPr b="1" lang="en-US" sz="16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-mail: Brussels@ROMCMTP.eu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9" name="Picture 5" descr="Office_Photo"/>
          <p:cNvPicPr/>
          <p:nvPr/>
        </p:nvPicPr>
        <p:blipFill>
          <a:blip r:embed="rId1">
            <a:lum bright="12000"/>
          </a:blip>
          <a:srcRect l="0" t="0" r="0" b="9205"/>
          <a:stretch/>
        </p:blipFill>
        <p:spPr>
          <a:xfrm>
            <a:off x="1743120" y="2201760"/>
            <a:ext cx="2835360" cy="3662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4608360" y="2222640"/>
            <a:ext cx="29322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66"/>
                </a:solidFill>
                <a:uFillTx/>
                <a:latin typeface="Tahoma"/>
                <a:ea typeface="Times New Roman"/>
              </a:rPr>
              <a:t>Team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stas MISSIRLIS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Team Leader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Michel LECOMTE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Deputy Team Leader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Justyna BIELAT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Cooperation Coordinator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Elea NOVA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Junior Expert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Dimosthenis TSIORIS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Financial/Administrative Assistant</a:t>
            </a: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120" y="766800"/>
            <a:ext cx="82029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6699ff"/>
                </a:solidFill>
                <a:latin typeface="Tahoma"/>
              </a:rPr>
              <a:t>Thank you</a:t>
            </a:r>
            <a:endParaRPr b="0" lang="en-US" sz="2400" spc="-1" strike="noStrike">
              <a:solidFill>
                <a:srgbClr val="ffffff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79280" y="684360"/>
            <a:ext cx="765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Calibri"/>
              </a:rPr>
              <a:t>CONTENTS</a:t>
            </a:r>
            <a:endParaRPr b="1" lang="en-US" sz="3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60360" y="1800360"/>
            <a:ext cx="840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1.  ROM System and ROM CMTP Project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.  DST – ROM CMTP / Areas for Collaboration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7280" y="2095560"/>
            <a:ext cx="63928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OM System and ROM CMTP Projec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79280" y="684360"/>
            <a:ext cx="765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Calibri"/>
              </a:rPr>
              <a:t>1.1 ROM Definition (what)</a:t>
            </a:r>
            <a:endParaRPr b="1" lang="en-US" sz="3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60360" y="1630440"/>
            <a:ext cx="8402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OM is a system designed to assist the EC services in</a:t>
            </a:r>
            <a:br>
              <a:rPr sz="2200"/>
            </a:b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monitoring of</a:t>
            </a:r>
            <a:br>
              <a:rPr sz="2200"/>
            </a:b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and</a:t>
            </a:r>
            <a:br>
              <a:rPr sz="2200"/>
            </a:b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eporting on</a:t>
            </a:r>
            <a:br>
              <a:rPr sz="2200"/>
            </a:b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EU funded development and cooperation projects and programmes by 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mobilising external consultants </a:t>
            </a:r>
            <a:endParaRPr b="1" lang="en-US" sz="2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1.2 ROM general objectives (why)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6036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200" spc="-1" strike="noStrike">
                <a:solidFill>
                  <a:srgbClr val="ffffff"/>
                </a:solidFill>
                <a:latin typeface="Calibri"/>
              </a:rPr>
              <a:t>- To increase transparency and accountability in the use of public funds.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200" spc="-1" strike="noStrike">
                <a:solidFill>
                  <a:srgbClr val="ffffff"/>
                </a:solidFill>
                <a:latin typeface="Calibri"/>
              </a:rPr>
              <a:t>- To shift to a results based assessment of aid rather than one based mostly on commitments and disbursements.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200" spc="-1" strike="noStrike">
                <a:solidFill>
                  <a:srgbClr val="ffffff"/>
                </a:solidFill>
                <a:latin typeface="Calibri"/>
              </a:rPr>
              <a:t>- To improve the quality of cooperation with projects and programmes through the provision of timely, relevant, and well-focussed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conclusions and recommendations.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79280" y="684360"/>
            <a:ext cx="765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Calibri"/>
              </a:rPr>
              <a:t>1.3 ROM Stakeholders (who)</a:t>
            </a:r>
            <a:endParaRPr b="1" lang="en-US" sz="3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69720" y="1535040"/>
            <a:ext cx="8009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1.4 ROM implementation (how, where, when)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603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1) Plan, organise, implement, report on, and follow up on a yearly basis: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ROM Reviews (worldwide)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by assessing relevance, efficiency, effectiveness, and sustainability of ongoing projects 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Results Reporting Support (at Brussels HQ)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by recording values of achieved indicators of closed project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2) Produce Annual Consolidated Reports based on the analysis of ROM Reviews and Results Reporting Support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1.4.1 ROM Reviews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036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Calibri"/>
              </a:rPr>
              <a:t>Objectives 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To provide an external opinion on project implementation in order to support project management by the EC HQ service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To provide support to implementing organisations in project management through advice during the field visits and recommendation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Number of CMTP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135/year (with circa 39 ongoing DEAR projects for the 1</a:t>
            </a:r>
            <a:r>
              <a:rPr b="1" lang="en-GB" sz="2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</a:rPr>
              <a:t> year)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843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ff"/>
                </a:solidFill>
                <a:latin typeface="Calibri"/>
              </a:rPr>
              <a:t>1.4.2 Results Reporting</a:t>
            </a:r>
            <a:endParaRPr b="0" lang="en-US" sz="3000" spc="-1" strike="noStrike">
              <a:solidFill>
                <a:srgbClr val="ffffff"/>
              </a:solidFill>
              <a:latin typeface="바탕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360" y="180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Calibri"/>
              </a:rPr>
              <a:t>Objectives 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To assist the Units in the reporting on results data, available in project reports and document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- To facilitate quality control of data included in the report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Calibri"/>
              </a:rPr>
              <a:t>Number of CMTPs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95/year (with 16 closed DEAR projects in the 1</a:t>
            </a:r>
            <a:r>
              <a:rPr b="1" lang="en-US" sz="2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year)</a:t>
            </a:r>
            <a:endParaRPr b="0" lang="en-US" sz="2200" spc="-1" strike="noStrike">
              <a:solidFill>
                <a:srgbClr val="dddddd"/>
              </a:solidFill>
              <a:latin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4:15:37Z</dcterms:created>
  <dc:creator>Komis</dc:creator>
  <dc:description/>
  <dc:language>en-US</dc:language>
  <cp:lastModifiedBy>KM</cp:lastModifiedBy>
  <dcterms:modified xsi:type="dcterms:W3CDTF">2015-04-28T10:49:55Z</dcterms:modified>
  <cp:revision>406</cp:revision>
  <dc:subject/>
  <dc:title>Presentation</dc:title>
</cp:coreProperties>
</file>