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28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29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 type="sldNum" idx="30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3056-3BEB-41D4-A9C8-4927949A8EB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942F-15F9-4D42-86FA-37F5273183B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unication and Visibility Manual is THE reference when considering establishing a communication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wnload it from the EuropeAid website in PDF format in both English, French and Span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35F4-74B3-43B1-A36D-E0FFFAEF81E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full set of visibility tools are available online, including templates ready to be adapted to your specific requ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C88C-95C6-4D72-A268-8C625602B1F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2 describes the key elements to take in account when conceiving a communication pl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DCO/04 - Philippe Loop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90974-D7AE-43CE-9F01-DE4E257F1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024A-F85D-4717-A0D3-D266718FC3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6B07-D251-4239-8321-E637BB5C80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13 Special Eurobarometer figures (published on 26/11/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urobarometer is a series of public opinion surveys conducted regularly on behalf of the European Commission since 1973. These surveys address a wide variety of topical issues relating to the European Union throughout the EU Member States. The Eurobarometer results are published by the European Commission's Directorate-General Communication. Its database since 1973 is one of the largest in the wor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1D79-091A-41E6-91AA-D7127B8D5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4ABF-42BD-45F0-8990-82BF902B3C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94C8-8414-4638-9CAD-5F2E461DBDD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going to explore the Manual chapter by chap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AD8A-2BDD-4630-A754-200D46BDE01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going to explore the Manual chapter by chap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5458-AF97-4A17-99D5-9E6126F6EA4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elf-explan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676E-BDFE-4D1C-BA50-5B49F760920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2 describes the key elements to take in account when conceiving a communication pl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B890-0030-455F-976E-A3F713F21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DBA6-3AD4-407A-B5D7-31593BF900E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explan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D0E-DF04-4695-A4AC-C9B337D8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389-43B7-453C-9152-0A259D0B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96CA3-61DD-47D3-B6E5-67A6E3AD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91912-1EB0-483B-B9B1-02682360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BFE3E-F6B7-4EE7-B89A-15AF85A4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63670-2BFD-4792-B89D-F1FFBA73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F9E3F-340A-453A-A948-04BFF3BB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99FDB-ABD1-4026-81B2-8A983777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2E090-6238-4FF9-856B-190479D1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ABECD-DC38-459D-BFD2-D1C37C80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22E9E-A2C5-423D-ACBB-1545A7EA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2A1-0EF7-43DE-B74C-538950D4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C6D-7108-444E-99CD-E6F0AC34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04CC-772E-4D37-AF6F-68D46200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E839-E4FB-42DD-8778-DD69AD22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3C37-EABF-4717-89D0-F1F5E615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1DD1-DE47-4238-8ACE-5F7CABAF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FFBE-354C-471E-A765-00BBAFDB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878D-5014-4CE9-889F-D16F0AED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A4F8-943F-46EB-A9AB-38E56CA8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684-3CAD-4CDA-B787-8CD65ECC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163C-AF8E-4D39-A1BE-17D59697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BAEC-A5CC-4219-AACB-40FB91E0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5FD0-F5EE-4946-8063-518BBA01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3579-5479-4D18-AEF9-D387157B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4C14-956E-42AB-95CC-161473FF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9A4F-77FB-461F-8E48-807B0265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842C-1F75-4BB7-9022-67053A6B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377A6-5225-4481-BB6B-1F8108B7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7C4E0-1542-454A-95F2-F2651050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8356-7C35-413E-9EF1-60FAC4B6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EAD-4372-4FDC-B180-41E8D2A3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EECC-3A53-4593-AFA0-226FA4D3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C76C-9EAD-4F62-ACB2-9509C2F1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9E13-0C28-425E-86DF-A5DAA76E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7A6C-B924-4A4F-A49B-D7D67380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49DF-3248-4738-8D90-C8210644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0CC4-4ABB-436C-9E34-D233FE28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B516-2366-4EDA-B055-34707A66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7199A-F024-41F6-9D53-B217260A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E55B3-5A9D-4268-A112-A8B344BD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56B1E-35C4-44C5-A57B-E49F4186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F3C-7975-42A2-85C0-747DA1EA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CE396-887F-4D6A-8758-E68F26E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8120-A697-48C9-84FB-4E0F4946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B1DD-1786-48C9-97C6-1213847A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1475E-CA1E-46C0-BE83-99D2F8B0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FD792-C92E-4A73-A366-F52BAF71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7939-D5C3-45EC-80DB-178C6D83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4B602-8194-4211-94AC-B82C6DE0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AD0B-A947-4A98-A609-4CEDBF48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1F0F3-44CA-4515-A6E7-49970609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68E2E-1EBB-44D1-AE9E-F4A48D19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3FC-1D90-4615-A287-582C3C52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A564D-078B-49F0-A909-44F36B49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1CF5C-E870-4E45-96B3-AB1D1B30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8DCD9-3CEF-444E-B5BE-21F89F93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4532-C17D-4F9D-A59D-DB37B0C3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DB7CB-66FC-415E-B9CD-865ACC2D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1EDC-0898-47BB-BFD6-286549CD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1AC5E-B47A-40AA-BEBF-197BBE1F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68843-6873-43DE-9BF0-21AB0026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C9C06-5D55-466F-A654-5BEEE6C3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3CAE-62E1-411A-AD64-0196775D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03A-2113-4AB4-AC06-E7FBA7CB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77D76-2407-4D5C-AC14-80A70979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60E2E-87AB-4335-AE05-79AACB94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05201-79D5-4E0A-9BC4-DD8AE7DA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E0A97-46D1-4E3E-B039-12D111F0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1D384-778F-449C-B6C1-0D6AB0FD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07B0D-8F96-4D71-8542-905A629A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751F4-BB4F-4C0A-9C6C-0412F75C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C094D-A9FA-4027-A4FF-8A2CFE82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42655-5AE8-4966-8B70-B957C8E8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5766B-C290-4CBC-8E79-C755D6E8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189-DAC7-4295-B3D4-83B10EBE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C1580-DF51-4395-9A7B-0908377E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92066-3355-4D8B-AFC3-6E6398DB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04758-C78B-4022-BB5B-A0005637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93262-6140-4066-B02B-8596DEA0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FF454-9454-46E1-981B-57FBD035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6322E-CA32-4825-8876-BBD76F4F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667D8-B847-4827-AC8E-CDE3F260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67AAF-2FC9-43FF-A098-613F20AA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797BE-E8EE-42B9-8632-F1744512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37267-A297-45D8-98B0-9366ABD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66E-017B-4BCB-B162-DD1DEBB0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89C4F-A013-46EC-B830-79701862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0B2AD-1550-478C-B2EF-51742080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610C-C389-449E-B59E-72A1DA79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D2AE-4BAF-4B56-9E72-8B06E8EB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93DC5-62D8-45C4-989C-17BE3F2A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40382-538F-4716-B8B5-2277A0BD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2D379-E385-45B5-B392-B373CDF1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C6BF7-4903-4B6F-85A2-DB842990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C2EBD-4678-446B-910E-7AAFB247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93CA7-D7C2-455F-B994-F7C848C7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6CF-06D0-4660-B6C4-5D170469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49B93-AFD8-442F-A55F-508F5E0A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1F71D-7871-4F53-94C4-163A302C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DC3C4-9A01-45D3-9AA6-E2AD40D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75109-3FEE-4ECB-BF72-4F530FBA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0E9C0-43EA-40E9-BEF3-658AC259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1C6D3-091E-4E72-AFE0-4E61D689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18BEA-052C-4A03-BA3C-E5AB7301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67203-E3E0-4B96-A8AD-D6DCB9E1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F313F-39A5-42FF-9C46-66BF5138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EAE97-64E1-424A-A10F-E2632F88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0E74-B5C2-40C7-B01A-F7E3D2885D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DEB1-D42D-40D5-BEFC-580BB59FA4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52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3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797E-BC27-4601-900E-52E487F7A0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9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4147-8E82-4DB4-9E35-AAE0D281D8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2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1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82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3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4797-7070-4752-BA92-ABB3A91C0FB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22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2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B945-B4C3-4595-83DD-D1529DC2D17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71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272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73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75" name="Picture 5" descr="LOGO CE-EN-NEG-quadri.ai"/>
          <p:cNvPicPr/>
          <p:nvPr/>
        </p:nvPicPr>
        <p:blipFill>
          <a:blip r:embed="rId4"/>
          <a:stretch/>
        </p:blipFill>
        <p:spPr>
          <a:xfrm>
            <a:off x="39211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2"/>
          <p:cNvSpPr/>
          <p:nvPr/>
        </p:nvSpPr>
        <p:spPr>
          <a:xfrm>
            <a:off x="4262400" y="6686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0236-03B2-4F0A-968F-E762866834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19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320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21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BBAD-D22B-4BF6-962D-8B83E2E04D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64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365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66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156B-9D50-4A21-9DAA-649CE7DB265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library/index_en.htm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user/EUintheWorld" TargetMode="External"/><Relationship Id="rId2" Type="http://schemas.openxmlformats.org/officeDocument/2006/relationships/hyperlink" Target="http://www.dailymotion.com/EUintheWorld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1523880"/>
            <a:ext cx="84582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COMMUNICATION AND VISIBILITY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87631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Presentation for DEAR beneficiari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ostas Berdos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EuropeAid, Unit 05 – Communication and Visibility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rcRect l="21319" t="48098" r="26173" b="35237"/>
          <a:stretch/>
        </p:blipFill>
        <p:spPr>
          <a:xfrm>
            <a:off x="533520" y="5029200"/>
            <a:ext cx="5638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Appropriate visibil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Activities need to be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timel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Information used must be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accurat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Activities should be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coordinated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closely with the Commiss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The right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audience(s)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should be target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Messages should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interest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the target audience(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Activities should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be appropriate in terms of resources spent, timing and    expected impac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7588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annexes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 2</a:t>
            </a: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 and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 3</a:t>
            </a:r>
            <a:br>
              <a:rPr sz="2000"/>
            </a:b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EU Visual identity and templat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1212840" y="2103480"/>
            <a:ext cx="671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d2d8a"/>
                </a:solidFill>
                <a:latin typeface="Verdana"/>
                <a:ea typeface="MS PGothic"/>
              </a:rPr>
              <a:t>A full set of elements to make the EU visibl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rcRect l="18997" t="34464" r="22688" b="23655"/>
          <a:stretch/>
        </p:blipFill>
        <p:spPr>
          <a:xfrm>
            <a:off x="1452600" y="2637000"/>
            <a:ext cx="6238800" cy="3360600"/>
          </a:xfrm>
          <a:prstGeom prst="rect">
            <a:avLst/>
          </a:prstGeom>
          <a:ln w="22320">
            <a:solidFill>
              <a:srgbClr val="2d2d8a"/>
            </a:solidFill>
            <a:miter/>
          </a:ln>
        </p:spPr>
      </p:pic>
      <p:pic>
        <p:nvPicPr>
          <p:cNvPr id="443" name="Picture 8" descr="EuropeFlag.jpg"/>
          <p:cNvPicPr/>
          <p:nvPr/>
        </p:nvPicPr>
        <p:blipFill>
          <a:blip r:embed="rId2"/>
          <a:stretch/>
        </p:blipFill>
        <p:spPr>
          <a:xfrm>
            <a:off x="7010280" y="3276720"/>
            <a:ext cx="1936800" cy="1295280"/>
          </a:xfrm>
          <a:prstGeom prst="rect">
            <a:avLst/>
          </a:prstGeom>
          <a:ln w="50760">
            <a:solidFill>
              <a:srgbClr val="ffffff"/>
            </a:solidFill>
            <a:round/>
          </a:ln>
        </p:spPr>
      </p:pic>
      <p:sp>
        <p:nvSpPr>
          <p:cNvPr id="444" name="Rectangle 2"/>
          <p:cNvSpPr/>
          <p:nvPr/>
        </p:nvSpPr>
        <p:spPr>
          <a:xfrm>
            <a:off x="609480" y="5867280"/>
            <a:ext cx="7239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d2d8a"/>
                </a:solidFill>
                <a:latin typeface="Verdana"/>
                <a:ea typeface="MS PGothic"/>
              </a:rPr>
              <a:t>One guiding principle:  Clear identity = European flag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Using the EU &amp; the EYD2015 visual identity together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-  </a:t>
            </a: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the EYD2015 motto and emblem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(together)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hould be used on materials during the European Year for Development 2015 </a:t>
            </a: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alongside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</a:t>
            </a: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 EU flag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nd</a:t>
            </a: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 disclaim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1332000" y="4149720"/>
            <a:ext cx="598176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786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Reporting on communication and visibil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78595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Two different exercises you are kindly requested to participate in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reporting on communication and visibility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asper contractual oblig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supporting the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monitoring and evaluation efforts in relation to the EYD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360" y="98064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000"/>
                </a:solidFill>
                <a:latin typeface="Verdana"/>
              </a:rPr>
              <a:t>Photo Library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24000" y="18399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Verdana"/>
              </a:rPr>
              <a:t>Possibility to upload pictures via the Intrane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Verdana"/>
              </a:rPr>
              <a:t>They are then available via the </a:t>
            </a:r>
            <a:r>
              <a:rPr b="0" i="1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EuropeAid websit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Verdana"/>
              </a:rPr>
              <a:t>Can be used for presentations and public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2" name="Picture 5" descr=""/>
          <p:cNvPicPr/>
          <p:nvPr/>
        </p:nvPicPr>
        <p:blipFill>
          <a:blip r:embed="rId2"/>
          <a:stretch/>
        </p:blipFill>
        <p:spPr>
          <a:xfrm>
            <a:off x="611280" y="3549600"/>
            <a:ext cx="37447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c000"/>
                </a:solidFill>
                <a:latin typeface="Verdana"/>
              </a:rPr>
              <a:t>Joint EEAS / DEVCO video accou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68360" y="217476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You Tube – The EU in the world: </a:t>
            </a: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youtube.com/user/EUintheWorl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Dailymotion – The EU in the world: </a:t>
            </a: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dailymotion.com/EUintheWorl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5" name="Picture 1" descr=""/>
          <p:cNvPicPr/>
          <p:nvPr/>
        </p:nvPicPr>
        <p:blipFill>
          <a:blip r:embed="rId3"/>
          <a:stretch/>
        </p:blipFill>
        <p:spPr>
          <a:xfrm>
            <a:off x="3851280" y="2060640"/>
            <a:ext cx="50785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Verdana"/>
              </a:rPr>
              <a:t>Don't be afraid to innovate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Verdana"/>
              </a:rPr>
              <a:t>Be creative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Verdana"/>
              </a:rPr>
              <a:t>Dare &amp; ask</a:t>
            </a:r>
            <a:br>
              <a:rPr sz="3200"/>
            </a:br>
            <a:br>
              <a:rPr sz="3200"/>
            </a:br>
            <a:r>
              <a:rPr b="1" lang="en-GB" sz="4400" spc="-1" strike="noStrike">
                <a:solidFill>
                  <a:srgbClr val="72bfc5"/>
                </a:solidFill>
                <a:latin typeface="Verdana"/>
              </a:rPr>
              <a:t>Thank you </a:t>
            </a:r>
            <a:br>
              <a:rPr sz="4400"/>
            </a:br>
            <a:r>
              <a:rPr b="1" lang="en-GB" sz="4400" spc="-1" strike="noStrike">
                <a:solidFill>
                  <a:srgbClr val="72bfc5"/>
                </a:solidFill>
                <a:latin typeface="Verdana"/>
              </a:rPr>
              <a:t>for your attention!</a:t>
            </a:r>
            <a:br>
              <a:rPr sz="4000"/>
            </a:br>
            <a:br>
              <a:rPr sz="4000"/>
            </a:br>
            <a:r>
              <a:rPr b="1" lang="fr-BE" sz="4000" spc="-1" strike="noStrike">
                <a:solidFill>
                  <a:srgbClr val="0f5494"/>
                </a:solidFill>
                <a:latin typeface="Verdana"/>
              </a:rPr>
              <a:t>Questions ? 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000"/>
                </a:solidFill>
                <a:latin typeface="Verdana"/>
              </a:rPr>
              <a:t>Public opinion in the EU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9280" y="1916280"/>
            <a:ext cx="8363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2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Verdana"/>
              </a:rPr>
              <a:t>83% of Europeans </a:t>
            </a:r>
            <a:r>
              <a:rPr b="0" i="1" lang="en-GB" sz="2400" spc="-1" strike="noStrike">
                <a:solidFill>
                  <a:srgbClr val="003399"/>
                </a:solidFill>
                <a:latin typeface="Verdana"/>
              </a:rPr>
              <a:t>think it is </a:t>
            </a:r>
            <a:r>
              <a:rPr b="1" i="1" lang="en-GB" sz="2400" spc="-1" strike="noStrike">
                <a:solidFill>
                  <a:srgbClr val="003399"/>
                </a:solidFill>
                <a:latin typeface="Verdana"/>
              </a:rPr>
              <a:t>important to help people in developing countries</a:t>
            </a:r>
            <a:r>
              <a:rPr b="0" i="1" lang="en-GB" sz="24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Verdana"/>
              </a:rPr>
              <a:t>Two thirds </a:t>
            </a:r>
            <a:r>
              <a:rPr b="0" i="1" lang="en-GB" sz="2400" spc="-1" strike="noStrike">
                <a:solidFill>
                  <a:srgbClr val="003399"/>
                </a:solidFill>
                <a:latin typeface="Verdana"/>
              </a:rPr>
              <a:t>think that </a:t>
            </a:r>
            <a:r>
              <a:rPr b="1" i="1" lang="en-GB" sz="2400" spc="-1" strike="noStrike">
                <a:solidFill>
                  <a:srgbClr val="003399"/>
                </a:solidFill>
                <a:latin typeface="Verdana"/>
              </a:rPr>
              <a:t>tackling poverty in developing countries </a:t>
            </a:r>
            <a:r>
              <a:rPr b="0" i="1" lang="en-GB" sz="2400" spc="-1" strike="noStrike">
                <a:solidFill>
                  <a:srgbClr val="003399"/>
                </a:solidFill>
                <a:latin typeface="Verdana"/>
              </a:rPr>
              <a:t>should be one of the </a:t>
            </a:r>
            <a:r>
              <a:rPr b="1" i="1" lang="en-GB" sz="2400" spc="-1" strike="noStrike">
                <a:solidFill>
                  <a:srgbClr val="003399"/>
                </a:solidFill>
                <a:latin typeface="Verdana"/>
              </a:rPr>
              <a:t>main priorities of the EU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99"/>
                </a:solidFill>
                <a:latin typeface="Verdana"/>
              </a:rPr>
              <a:t>More than </a:t>
            </a:r>
            <a:r>
              <a:rPr b="1" i="1" lang="en-GB" sz="2400" spc="-1" strike="noStrike">
                <a:solidFill>
                  <a:srgbClr val="003399"/>
                </a:solidFill>
                <a:latin typeface="Verdana"/>
              </a:rPr>
              <a:t>six out of ten </a:t>
            </a:r>
            <a:r>
              <a:rPr b="0" i="1" lang="en-GB" sz="2400" spc="-1" strike="noStrike">
                <a:solidFill>
                  <a:srgbClr val="003399"/>
                </a:solidFill>
                <a:latin typeface="Verdana"/>
              </a:rPr>
              <a:t>think </a:t>
            </a:r>
            <a:r>
              <a:rPr b="1" i="1" lang="en-GB" sz="2400" spc="-1" strike="noStrike">
                <a:solidFill>
                  <a:srgbClr val="003399"/>
                </a:solidFill>
                <a:latin typeface="Verdana"/>
              </a:rPr>
              <a:t>aid should be increased</a:t>
            </a:r>
            <a:r>
              <a:rPr b="0" i="1" lang="en-GB" sz="2400" spc="-1" strike="noStrike">
                <a:solidFill>
                  <a:srgbClr val="003399"/>
                </a:solidFill>
                <a:latin typeface="Verdana"/>
              </a:rPr>
              <a:t>, despite the EU’s economic probl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c000"/>
                </a:solidFill>
                <a:latin typeface="Verdana"/>
              </a:rPr>
              <a:t>International developmen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3964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Aft>
                <a:spcPts val="1500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The EU </a:t>
            </a:r>
            <a:r>
              <a:rPr b="0" lang="en-GB" sz="1400" spc="-1" strike="noStrike">
                <a:solidFill>
                  <a:srgbClr val="003399"/>
                </a:solidFill>
                <a:latin typeface="Verdana"/>
              </a:rPr>
              <a:t>(Commission + MS)  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is the largest donor in the world, </a:t>
            </a: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responsible for 60% of all development aid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60360" indent="-360360">
              <a:spcAft>
                <a:spcPts val="1500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The 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European Commission</a:t>
            </a: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 is the 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third largest aid donor</a:t>
            </a: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 in the world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60360" indent="-360360">
              <a:spcAft>
                <a:spcPts val="1500"/>
              </a:spcAft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Need for 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transparency and accountability </a:t>
            </a: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in the way we spend EU taxpayers’ money.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This means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making sure people are aware of what we do, and of the impact of our work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60360" indent="-36036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Contractual obligations for DEAR beneficiar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1280" y="2349000"/>
            <a:ext cx="785160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take steps to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ublicise the fact that the European Union has financed or co-financed the ac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submit a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mmunication plan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 the approval of the European Commission and report on its implement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make correct use of th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ritten and visual identity of the EU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- where possibl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seek synergies with and  help promote the European Year for Development 2015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Communication and Visibility </a:t>
            </a:r>
            <a:br>
              <a:rPr sz="3000"/>
            </a:b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Manual for EU External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09480" y="1941120"/>
            <a:ext cx="4106880" cy="40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ts val="3197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lnSpc>
                <a:spcPts val="3197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The Communication Manual i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  <a:ea typeface="SimSun"/>
              </a:rPr>
              <a:t>designed to ensure that actions, wholly or partially funded by the EU, incorporate communication activities to raise awareness of the EU support, its results and its impac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26" name="Picture 7" descr="AidCo-visibility-ENcover.jpg"/>
          <p:cNvPicPr/>
          <p:nvPr/>
        </p:nvPicPr>
        <p:blipFill>
          <a:blip r:embed="rId1"/>
          <a:stretch/>
        </p:blipFill>
        <p:spPr>
          <a:xfrm>
            <a:off x="5518080" y="2565360"/>
            <a:ext cx="2851200" cy="4029120"/>
          </a:xfrm>
          <a:prstGeom prst="rect">
            <a:avLst/>
          </a:prstGeom>
          <a:ln w="31680">
            <a:solidFill>
              <a:srgbClr val="2d2d8a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786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The manua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1517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includes a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template for a communication and visibility plan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highlighting EU suppor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covers the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writte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and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visual identity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of the EU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sets out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requirements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and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guidelines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for written material, press conferences, presentations, invitations, signs, commemorative plaques and all other tools used to highlight EU participation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- contains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compulsory requirements for all contractors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and implementing partne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786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Communication and visibilit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78598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Appropriate visibility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 (Body)"/>
              </a:rPr>
              <a:t>     communication planned properly focusing on ac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Key audiences and target groups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0" i="1" lang="en-GB" sz="2000" spc="-1" strike="noStrike">
                <a:solidFill>
                  <a:srgbClr val="0f5494"/>
                </a:solidFill>
                <a:latin typeface="Verdana (Body)"/>
              </a:rPr>
              <a:t>clearly identified from local to internation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Visibility matrix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0" i="1" lang="en-GB" sz="2000" spc="-1" strike="noStrike">
                <a:solidFill>
                  <a:srgbClr val="0f5494"/>
                </a:solidFill>
                <a:latin typeface="Verdana (Body)"/>
              </a:rPr>
              <a:t>elements and stages of the communication pla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Plans and templates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   </a:t>
            </a:r>
            <a:r>
              <a:rPr b="0" i="1" lang="en-GB" sz="2000" spc="-1" strike="noStrike">
                <a:solidFill>
                  <a:srgbClr val="0f5494"/>
                </a:solidFill>
                <a:latin typeface="Verdana (Body)"/>
              </a:rPr>
              <a:t>a plan must be drafted for each projec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Communication budget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0" i="1" lang="en-GB" sz="2000" spc="-1" strike="noStrike">
                <a:solidFill>
                  <a:srgbClr val="0f5494"/>
                </a:solidFill>
                <a:latin typeface="Verdana (Body)"/>
              </a:rPr>
              <a:t>must be set down in the Financing Agreem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Drafting and implementing the Plan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EC </a:t>
            </a:r>
            <a:r>
              <a:rPr b="0" i="1" lang="en-GB" sz="2000" spc="-1" strike="noStrike">
                <a:solidFill>
                  <a:srgbClr val="0f5494"/>
                </a:solidFill>
                <a:latin typeface="Verdana (Body)"/>
              </a:rPr>
              <a:t>involved in the approv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c000"/>
                </a:solidFill>
                <a:latin typeface="Verdana"/>
              </a:rPr>
              <a:t>How to communicate ?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2133360"/>
            <a:ext cx="8229600" cy="41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522360" indent="-343080">
              <a:spcAft>
                <a:spcPts val="1199"/>
              </a:spcAft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Be 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concrete, brief and clear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22360" indent="-343080">
              <a:spcAft>
                <a:spcPts val="1199"/>
              </a:spcAft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Verify</a:t>
            </a: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 your inform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22360" indent="-343080">
              <a:spcAft>
                <a:spcPts val="1199"/>
              </a:spcAft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Focus on 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result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22360" indent="-343080">
              <a:spcAft>
                <a:spcPts val="1199"/>
              </a:spcAft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Elaborate</a:t>
            </a:r>
            <a:r>
              <a:rPr b="0" lang="fr-BE" sz="24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appealing</a:t>
            </a:r>
            <a:r>
              <a:rPr b="0" lang="fr-BE" sz="2400" spc="-1" strike="noStrike">
                <a:solidFill>
                  <a:srgbClr val="003399"/>
                </a:solidFill>
                <a:latin typeface="Verdana"/>
              </a:rPr>
              <a:t> key </a:t>
            </a:r>
            <a:r>
              <a:rPr b="1" lang="fr-BE" sz="2400" spc="-1" strike="noStrike">
                <a:solidFill>
                  <a:srgbClr val="003399"/>
                </a:solidFill>
                <a:latin typeface="Verdana"/>
              </a:rPr>
              <a:t>messag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22360" indent="-343080">
              <a:spcAft>
                <a:spcPts val="1199"/>
              </a:spcAft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Tell 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human storie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22360" indent="-343080">
              <a:spcAft>
                <a:spcPts val="1199"/>
              </a:spcAft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Communicate 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in jargon-free languag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22360" indent="-343080">
              <a:spcAft>
                <a:spcPts val="1199"/>
              </a:spcAft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Adapt</a:t>
            </a: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 communication and channels 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to</a:t>
            </a: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 the </a:t>
            </a:r>
            <a:r>
              <a:rPr b="1" lang="en-GB" sz="2400" spc="-1" strike="noStrike">
                <a:solidFill>
                  <a:srgbClr val="003399"/>
                </a:solidFill>
                <a:latin typeface="Verdana"/>
              </a:rPr>
              <a:t>target</a:t>
            </a:r>
            <a:r>
              <a:rPr b="0" lang="en-GB" sz="2400" spc="-1" strike="noStrike">
                <a:solidFill>
                  <a:srgbClr val="003399"/>
                </a:solidFill>
                <a:latin typeface="Verdana"/>
              </a:rPr>
              <a:t> groups 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30360" y="2204640"/>
            <a:ext cx="41148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Press releas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Press conferenc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Press visi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Leaflets, brochures and newslette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Web sit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Display panel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Commemorative plaqu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4716360" y="1773360"/>
            <a:ext cx="4114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ts val="2798"/>
              </a:lnSpc>
              <a:spcAft>
                <a:spcPts val="825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4572000" y="2205000"/>
            <a:ext cx="4032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Banner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Vehicles, supplies and equipment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Promotional item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Photograph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Audio-visual production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Public events and visit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2880" indent="-272880">
              <a:lnSpc>
                <a:spcPts val="2398"/>
              </a:lnSpc>
              <a:spcAft>
                <a:spcPts val="1199"/>
              </a:spcAft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d2d8a"/>
                </a:solidFill>
                <a:latin typeface="Verdana"/>
                <a:ea typeface="SimSun"/>
              </a:rPr>
              <a:t>Campaign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487080" y="1341000"/>
            <a:ext cx="778644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Verdana"/>
              </a:rPr>
              <a:t>chapter 4</a:t>
            </a:r>
            <a:br>
              <a:rPr sz="2400"/>
            </a:br>
            <a:r>
              <a:rPr b="1" lang="en-GB" sz="3000" spc="-1" strike="noStrike">
                <a:solidFill>
                  <a:srgbClr val="ffc000"/>
                </a:solidFill>
                <a:latin typeface="Verdana"/>
              </a:rPr>
              <a:t>Tools and activ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324000" y="597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030a0"/>
                </a:solidFill>
                <a:latin typeface="Verdana"/>
                <a:ea typeface="MS PGothic"/>
              </a:rPr>
              <a:t>The Manual provides guidance on use of these tool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VERSCHUEREN Bernard (DEVCO)</cp:lastModifiedBy>
  <cp:lastPrinted>2015-04-28T13:34:07Z</cp:lastPrinted>
  <dcterms:modified xsi:type="dcterms:W3CDTF">2015-04-28T13:52:11Z</dcterms:modified>
  <cp:revision>133</cp:revision>
  <dc:subject/>
  <dc:title>Slide 1</dc:title>
</cp:coreProperties>
</file>