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47520" y="74268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861B-4DF7-424A-A142-B7CF4FB02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4788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FA96-D5D3-4742-BA7A-273C9129D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4788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37B-17DE-48E1-AA33-EF7C02855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4788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954-517A-4B4C-A080-F1A40C3E3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4788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E42-081F-4F9C-A333-69895ED87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788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518F-8198-43B5-977E-160DD2C8D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F91-70E2-41A4-9BA8-7ECFD285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AEF-AB25-4544-AE29-59AC397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960A-06AD-4E34-91FA-DE7DA5EF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BD4D-1667-4F7C-AB1B-BA3256B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7DFD4-1A0F-45B9-A60A-F0F5D447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350A4-64E7-47A0-A2EE-9F6A9FE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39386-1784-44B2-89E7-802D2B5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F5277-BBD1-4D55-A3F1-D440240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70CED-78F0-4A2B-B89B-24C101EC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F8BAE-0087-476A-B7B2-277F0EF3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D06A2-FED9-454C-B213-FFC498C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DB1A2-C294-4362-BB4F-3863A01B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01C-0CBD-4DA3-86DD-E81E9329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AD567-7412-4EBF-B701-F8F380E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67496-6E91-4C34-913A-90860CD8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8A124-46D2-4BEA-9D0F-0BA5D24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09B96-D303-4835-9B65-B7171DB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4CFC6-43AB-4B17-B9BF-31B45B3F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4EA16-FCCF-4163-BFE4-BA8F89FF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9580F-16DA-4F3D-A711-7542E0C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2343A-C6F0-4333-A62A-B9CA32A9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4D2B7-130D-4643-A8C6-1407E6D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2F14C-FFA6-4E59-9445-A0013F10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26E-8A70-4632-8B41-65D2FA90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8726D-8D72-4B47-B84C-7C6D0D1C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AE353-6F47-46A2-BE1E-CCC405A2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B9955-1971-4264-873C-FF48FB41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8505-C267-4010-92C2-8AAB6B77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31541-0502-47E0-9C0F-5EB3F89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DB0AD-9903-4A21-99E0-8DD1D49C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48A1B-E716-401E-85AF-B45809E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5E194-9630-46D5-9233-A97D0FC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AA08-3ED4-4728-B48E-99C63F1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113BB-6ED6-493B-9904-1EDF777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0220-3346-4116-A3AF-AD5ED2B1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FB230-F34F-445B-BCCA-C2C8FFB3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7B789-AAB6-4508-93C2-4167AD53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06CCC-26DA-4255-ACCE-37C97C9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88E82-ED32-400A-ACBE-9D21E7AD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ED48E-288A-4C8C-B765-4C20C4C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9E54A-BB49-4BDD-9D95-0C4D69D1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B93FA-B907-43E8-B1C0-016B4A48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2D924-AE7B-4DC9-B016-F293F15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9C4B9-3D0D-493E-B145-073C0DC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B661-A5CD-4802-B86A-D78B0EF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DB13-AB0A-4B90-9628-AE244F56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7ABFD-EA46-44B0-B437-6030A1B3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1E950-8945-46E9-8D19-3C8116C3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E536C-2EA5-4D5A-9E01-CFE7CD69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03558-9BD6-478E-A9A3-3ADBFACE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9B5D7-460D-4BA2-BACB-DCBD0170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1471-91FB-4037-902E-06E7D90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F980-6F6E-4DB5-AEFF-A46B5A6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E4FE-DBC8-4BC4-A944-394EBD31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C24F-368C-4D89-9721-D3558FB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B752-3DAE-45E8-9CF4-2C328AFA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8932-2B8E-4450-84F7-2E26679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7DD-1662-4522-8EAD-229819EC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948C-28B8-4C73-926F-E498B38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C6A3-4055-4C22-97B5-AD9DE144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2758-C7C0-4229-8753-68DBF175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48CF-015F-497C-AB4C-CE583182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2FCD-81B5-47A2-A2F5-F58565E3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F23C-C019-4004-9A8C-0289E908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788E2-BDF1-425C-A088-386DF570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8857-89A4-4CBA-BEC1-5A8C960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4206-330C-4E6F-9C1E-8E61E853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57F-5AF6-4F59-9EE0-2760F61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CE0E-ABAD-4980-AB63-816E11C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2EC6-10C7-4916-BF3A-6A41689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A009-60EA-4A26-82E5-6C5B1B1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E778-F3C0-4EF7-952E-DB821227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4B7F-79E9-4297-B814-0CA0788A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7365-CD64-41D9-8ACD-5F8B12A6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0C23-7C6E-493E-9DE4-E450F268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4839B-7093-462D-88A9-EC8A6036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EDA35-0A90-4649-8FD8-0428689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30B3-8C37-487A-ABEB-27FA2F1B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8A1-467A-4D9C-B8B5-518FB39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4A53-1CCD-4038-9F52-AA1E3922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D535-96C5-4D2B-8B1E-DC5190D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4A76-B000-4B9D-93C8-8A6A0BF5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12E28-1E3C-44FE-B670-E0E12F1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A67D-17F1-4F8B-8910-D52C153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BC1A-0B93-4576-8883-D06ED44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5668-BFA1-400D-9A99-F22511AA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54CF-0E3B-4026-A321-41A6E4A9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E7FA-6BAB-40AA-9D70-3E6BBCCD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B4C8-6467-47F7-8906-F1680E08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708-BFCE-45BC-82D5-BED9317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E84E-89DF-466D-B082-52AE891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843F-164E-470F-A4A4-89B5AC5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60E8-72B9-4945-93E7-38693B10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9FD31-2E7B-48F9-AFE8-946A67F2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2998-859A-4BB1-BEDA-039FF6C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C652-8272-485E-8A9B-EB904B5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AB8E-64F1-474B-895D-1D0F8ABF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23C76-20FD-456B-BE89-B9D3C03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55179-6151-4A7B-96FD-3EFB770B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50633-6FCA-4C42-9267-4C9249E7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EEA-4FE1-4F98-9F48-6F75EDC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5162-E6AE-42BD-B07C-9946F073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9A95-CC00-47F6-B76A-3301F9DD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4AC2-D490-4053-90FE-C10664B7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2A380-22F9-42F4-AB92-F8A79AC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DD6F-90D8-4674-9EF5-F27BAA5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83EB-2443-462F-8481-CA1B514D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92B8F-5DEB-46D6-9A69-38F9AE5A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60027-764D-4D1E-81F0-C19398A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8104-C7B1-49FC-9B49-4178306C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0B2E-6033-441F-B2FF-62270FD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D09-01C9-4AFE-A8EE-761DAC86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194E2-1BD6-4283-8360-0A90F9C2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EF7F-075C-4190-A85E-4B11495C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D9D8-D150-4978-BBDB-D784805E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77BC-E4AC-45AF-AFAF-CDE9F7E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7FAA-6AD4-4E44-A4E8-C7FA6214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217C-657A-42C1-AAE8-47886119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D938A-69F3-438F-9735-27340E5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07AA-B678-4B66-9A3C-3E1B39D7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CD27F-ABC4-40CC-90AA-D9D2F59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7BCE-2A2E-480F-9F0A-A419C8B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725-905E-4D6E-AC27-FB7EBC0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A117-BB5E-49F6-BB82-EC665F33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D36B-6FF4-4983-98B0-6152A88D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90DD-E8E7-4AA2-9F8D-76BCDA8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71914-A360-430D-8802-8501E9FA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24BE7-076C-41BF-A7A1-431E676A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307F5-D268-474B-BEC9-4B8B1E1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C2A6-CA3E-4244-97FD-D1B8469D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9F7A9-41C6-40DF-BB34-016D283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B179-FE26-4F2A-ADAC-253CBB0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C1C9-4C41-474D-A523-C7403D46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AB9-8AAC-4F9D-82FF-AE0FF15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92D0-682C-486A-8DEC-CF27D21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1EACA-D266-4D46-A601-B227D9C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D3365-558C-4D4E-9A93-EF50793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825C6-891B-420A-8ED7-10D42140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0007-5354-4979-AB47-08E3873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360E-6A80-48CA-B326-F10A76B4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63407-05D0-4277-8E3B-1708E35F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8308C-6036-43B4-8081-78754C28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8BBD-A9C3-4981-BA04-D21EBBB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C5870-CD79-4546-A559-A2898367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5A9-FD93-4586-83D9-2B8B2C1ABE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67C8-BC03-41D5-8E46-FBBD1FED7E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57A-9E7E-462E-88D5-41F095F70A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D74-DE92-4B82-A0A5-5BB8FF3051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E4CB-579C-46E1-8FF8-F681D38118D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B53-3F14-410F-A128-D7856F1C90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519-8033-483D-9482-8CB933FEC6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5899-452F-43D5-B380-357E3F96A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F6F0-EE7D-498C-8623-CFBB1C59B3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F65-DFA9-4BF5-A84E-DD249679B0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4975-EDA7-40FF-8EE2-551773FD71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2A2F-4990-49B9-A6A7-397C52EED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6840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Verdana"/>
              </a:rPr>
              <a:t>European Year for Development</a:t>
            </a:r>
            <a:br>
              <a:rPr sz="4800"/>
            </a:br>
            <a:r>
              <a:rPr b="1" lang="en-GB" sz="4800" spc="-1" strike="noStrike">
                <a:solidFill>
                  <a:srgbClr val="ffd624"/>
                </a:solidFill>
                <a:latin typeface="Verdana"/>
              </a:rPr>
              <a:t>Corporate aspects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708360" y="5013000"/>
            <a:ext cx="48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Verdana"/>
              </a:rPr>
              <a:t>Ian BARBER</a:t>
            </a:r>
            <a:br>
              <a:rPr sz="1400"/>
            </a:br>
            <a:r>
              <a:rPr b="1" lang="en-IE" sz="1400" spc="-1" strike="noStrike">
                <a:solidFill>
                  <a:srgbClr val="ffffff"/>
                </a:solidFill>
                <a:latin typeface="Verdana"/>
              </a:rPr>
              <a:t>DG Communication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Verdana"/>
              </a:rPr>
              <a:t>Strategy, Corporate Communication Actions and Eurobarometer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9 December 2014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0440" y="13287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ur challenge: rebuilding EU imag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698400" y="2060640"/>
            <a:ext cx="76536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0440" y="13287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'For': Learning from the past…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rcRect l="24033" t="9904" r="770" b="45207"/>
          <a:stretch/>
        </p:blipFill>
        <p:spPr>
          <a:xfrm>
            <a:off x="108000" y="2195640"/>
            <a:ext cx="131745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955960" y="5143680"/>
            <a:ext cx="3857760" cy="1180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5435640" y="2979720"/>
            <a:ext cx="3543120" cy="12952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0440" y="13287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'European' – what it means toda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3"/>
          <a:stretch/>
        </p:blipFill>
        <p:spPr>
          <a:xfrm>
            <a:off x="1440" y="2149560"/>
            <a:ext cx="3346560" cy="11383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"/>
          <p:cNvPicPr/>
          <p:nvPr/>
        </p:nvPicPr>
        <p:blipFill>
          <a:blip r:embed="rId4"/>
          <a:stretch/>
        </p:blipFill>
        <p:spPr>
          <a:xfrm>
            <a:off x="0" y="3343320"/>
            <a:ext cx="2946240" cy="14032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42840" y="4508640"/>
            <a:ext cx="4124520" cy="1225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" descr=""/>
          <p:cNvPicPr/>
          <p:nvPr/>
        </p:nvPicPr>
        <p:blipFill>
          <a:blip r:embed="rId6"/>
          <a:stretch/>
        </p:blipFill>
        <p:spPr>
          <a:xfrm>
            <a:off x="3132000" y="214956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7"/>
          <a:stretch/>
        </p:blipFill>
        <p:spPr>
          <a:xfrm>
            <a:off x="6953400" y="477216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"/>
          <p:cNvPicPr/>
          <p:nvPr/>
        </p:nvPicPr>
        <p:blipFill>
          <a:blip r:embed="rId8"/>
          <a:stretch/>
        </p:blipFill>
        <p:spPr>
          <a:xfrm>
            <a:off x="2700360" y="3787920"/>
            <a:ext cx="256212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0440" y="13287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'Development' for the future…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4427640" y="4508640"/>
            <a:ext cx="3657600" cy="1247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1619280" y="3495600"/>
            <a:ext cx="4981680" cy="914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205272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ARBER Ian (COMM)</cp:lastModifiedBy>
  <cp:lastPrinted>2014-12-09T08:17:19Z</cp:lastPrinted>
  <dcterms:modified xsi:type="dcterms:W3CDTF">2014-12-09T09:48:23Z</dcterms:modified>
  <cp:revision>271</cp:revision>
  <dc:subject/>
  <dc:title>Slide 1</dc:title>
</cp:coreProperties>
</file>