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dt" idx="26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body"/>
          </p:nvPr>
        </p:nvSpPr>
        <p:spPr>
          <a:xfrm>
            <a:off x="679320" y="4723920"/>
            <a:ext cx="5446800" cy="44737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ftr" idx="27"/>
          </p:nvPr>
        </p:nvSpPr>
        <p:spPr>
          <a:xfrm>
            <a:off x="-3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 type="sldNum" idx="28"/>
          </p:nvPr>
        </p:nvSpPr>
        <p:spPr>
          <a:xfrm>
            <a:off x="38541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D15A4C-DA27-4E90-BA56-DD1BDACE9F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79320" y="4723920"/>
            <a:ext cx="54468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58267F-0645-40CC-8253-D6C3B1417C5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79320" y="4723920"/>
            <a:ext cx="54468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Foliennummernplatzhalt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A95097FF-2EFD-4754-91D0-5140B368B432}" type="slidenum">
              <a:rPr b="0" lang="de-DE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79320" y="4723920"/>
            <a:ext cx="54468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Foliennummernplatzhalt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9F43BD46-B675-4824-8C45-E7FE7AFA69E7}" type="slidenum">
              <a:rPr b="0" lang="de-DE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79320" y="4723920"/>
            <a:ext cx="54468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1F5FAB-D9F4-4D05-A12C-22F0FA9C5C59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768480"/>
            <a:ext cx="822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CE4FF-195A-4C80-8552-DD94716E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8950E-8E80-4933-9E37-67011D83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7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D92A3-E522-4886-970A-0381D04A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76848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97049-A2E2-493C-9F70-C40DD7B8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76848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B4AC7-5B8D-4D55-AB78-9EADAA2E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768480"/>
            <a:ext cx="822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2DD0A-3C2D-4C7D-8F5C-A4FEA955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768480"/>
            <a:ext cx="822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95AA0-1BD1-422D-9FE6-E6F5F63D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76848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76848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FA9E6-26FF-4741-9402-D987CF043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76848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76848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76848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AA67D-182F-4B43-97FC-0E10372AC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12523-BA54-4383-8F69-E4ED91260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6848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76848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25B9A-CB5B-4E42-B349-D0F8C429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7EF18-573F-4011-AB8F-362CCD3B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36008-0FBA-4BF2-BE80-05C545E4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E6336-6174-4393-B286-A7230CF4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7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BCFC9-A0C0-4A58-8C1C-75F9BC6F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76848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5BDAC-C0D4-42EF-B09C-6160A844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76848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ED89D-195A-45AB-B5E4-A8249E7B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768480"/>
            <a:ext cx="822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2BD2C-1422-49A2-A710-928E733C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768480"/>
            <a:ext cx="822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838CF-D8AB-466F-A56E-BB7FF070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76848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76848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82146-C2EC-4FA3-9157-AD7F622D6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76848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76848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76848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76848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76848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76848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9EDEE-22B2-4354-A6A3-98E9686CB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90D79A-0548-4421-87C3-059C81A73BE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F8EE18-5EFC-4B56-8D7A-9308D0B50A3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AAD1B9-B636-4847-A100-8199D2ECBC3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B52584-F263-46CF-AB72-EE06D810FD8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21FC44-1287-48E8-AAE2-A8B92D98FB1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7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11109A-C56F-426F-BAF3-EA8C97F6DAE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76848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E5961B-6D32-4D5C-BDD3-0764C5A52B2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76848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CEB140-8FA9-4578-B18F-2DB0DDB337A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768480"/>
            <a:ext cx="822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6AF7DE-4052-4B78-B1D2-47D612E98C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768480"/>
            <a:ext cx="822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D09E31-4990-4E39-A472-E9BCE613AA5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76848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76848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B31C88-1783-4FE1-B3EC-77E21F38A59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76848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76848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76848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602B32-B90E-4CD7-96CF-8785E1065C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7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76848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76848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768480"/>
            <a:ext cx="822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768480"/>
            <a:ext cx="822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76848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76848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76848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76848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76848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4DCC-EC14-4666-97A6-77A872CDF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8955-CA98-4D60-8052-4224809F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86B2-9365-4D5F-A2CD-04CCADAE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916F-DCFF-449F-9603-BCE40FE1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4301-24AE-4C08-AA26-630EDA10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7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BE73-7A7A-4DBF-984E-5BE302FC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76848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118B-F684-4F84-982A-DE0CB746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76848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83EB-4491-4963-BA0A-458D0D39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768480"/>
            <a:ext cx="822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45AF-AC3F-435B-BC46-8D498120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768480"/>
            <a:ext cx="822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4879-D5FD-4D51-B2DD-B43B681E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76848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76848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B037-F057-4241-AAC2-007EE5AE4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76848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76848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76848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ADAD-D740-4259-BDB6-25C04C367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62A0-D09D-48DB-A16F-5D4652D77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4B07-97BB-485A-B8F0-6CA783F2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0150-21B5-48EC-9076-B95889A9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6FB3-DC20-4442-B341-8567E568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4E5E-4625-42CD-9464-AC133B1B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7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4184-22C8-46B2-B89E-97CC8389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76848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3C2D-9C0A-498F-A09D-64A91B99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76848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8651-3F2E-4C8B-AD3B-3BB28CFC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768480"/>
            <a:ext cx="822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9FE4-615B-47FE-843E-7545664E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768480"/>
            <a:ext cx="822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853E-C3C6-4203-AF80-E34DB477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76848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76848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6CBC-1E21-4AD2-ADA2-7EA920143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76848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76848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76848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8C9E-8F50-459F-8DC5-E9DBE80A1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072E8-DECD-4807-92FC-8132AF0D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EAE31-57E0-4901-A5B2-1F98E608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C50E8-5910-4BCA-828E-CF31B6C4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28F5E-186D-44EE-A88D-B7432B75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8FC00-9A45-44A0-B0A8-6A353024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7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4810A-0B74-4C99-8E28-FE07A281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76848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3C765-0828-4107-9497-19A862AF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76848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793BD-37E3-4A6D-8A52-AE162FAD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768480"/>
            <a:ext cx="822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E29EC-FE70-4F3C-9E05-AF51ECAD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768480"/>
            <a:ext cx="822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B1DEC-7FF1-4BA7-82A3-464BDE3B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6848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76848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7DC0A-98EE-4074-B120-32B7875C3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7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76848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76848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76848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5AA51-232C-4830-A38E-F3E54A3A0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61992-D11E-4620-9733-85EDE8DCF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93485-90BC-4058-8F7B-0815EF42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1E52C-70C2-414D-9EC8-042BFCCE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08BBC-3CED-4348-9D1F-6BE0C3AE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43226-E810-4CF7-AAEF-F7F52E66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7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4E395-65F7-45D9-A139-AA2CDB02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76848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AFB88-1D81-4B94-A539-81DCE989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76848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A9CEB-A8D1-49EF-8E19-176FE2AC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768480"/>
            <a:ext cx="822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01F6B-DE1A-4962-B116-590D3726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76848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768480"/>
            <a:ext cx="822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4B1C8-D69D-4AD1-9985-49FE9CFD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76848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76848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3D86F-85D6-4DD1-B3C6-B324A14CD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76848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76848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76848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44BC2-87C0-4CA3-AECC-4D8A86005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7CBAD-35F0-46F0-9C47-C03934A85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09662-16C2-403C-94C4-0575D926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3F598-1EFF-44B6-B4C7-35E47F24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3C162-BF3C-4CD4-AFD4-688DDF7F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07FA3-1020-4B41-9E1B-0641D805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7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70B7F-5149-4994-BECD-AE47862E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76848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CDB9B-BAEA-446D-9E9E-D8D69FE1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76848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76848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C7EC8-4E75-46F9-B3DA-1805CBC0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68480"/>
            <a:ext cx="822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CB7D5-D10D-4243-98C4-1C1B6A2D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768480"/>
            <a:ext cx="822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0C4AB-03F3-4B5B-A394-6E576E05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76848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76848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6A719-BFE3-453D-8379-EE641D98D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76848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76848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76848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99226-7AC4-4F9A-817C-9B6241D20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A2771-91E5-48E4-851B-CEBD3FD22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09425-1255-48FA-B35F-CA76D25A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CD924-728B-42CA-A661-B43F972E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FC816-880D-4F16-B873-FEF1AA1D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52254-FF3B-4DC1-9ABB-84E5B179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68480"/>
            <a:ext cx="822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7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33D8B-B616-4649-ABB3-FD1952CD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6848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FA98C-EF3B-44B1-8E8C-2FDA1234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76848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C5EEC-0EC5-477F-9089-DD707269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768480"/>
            <a:ext cx="822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50AA6-AE7E-488D-9B2C-8353BEC9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768480"/>
            <a:ext cx="822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149DF-6B5A-4CD4-9AD0-7118B1BE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76848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768480"/>
            <a:ext cx="40158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AAA11-1DB7-40B2-99AA-8DA21EA8B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76848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76848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768480"/>
            <a:ext cx="2649600" cy="19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3F30A-B557-494F-A939-CD8749F16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A3149-E2E3-485A-BD4B-61C376096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3B44D-A620-47CD-99AC-3AD5B387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7AFA9-5747-4BC5-B7D1-FB184EAF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1" descr="EYD15_PPT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26262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26262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262626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Image 1" descr="EYD15_PPT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26262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26262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262626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98C164-5F6D-4966-8DB2-0F128F761687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FC606A-680F-4FCF-A37D-0B95FEFF5A3B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Image 1" descr="EYD15_PPT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4"/>
          <p:cNvSpPr/>
          <p:nvPr/>
        </p:nvSpPr>
        <p:spPr>
          <a:xfrm>
            <a:off x="4254480" y="6458040"/>
            <a:ext cx="612720" cy="407880"/>
          </a:xfrm>
          <a:prstGeom prst="rect">
            <a:avLst/>
          </a:prstGeom>
          <a:solidFill>
            <a:srgbClr val="e95d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e751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2" descr="C:\DOCUME~1\lenain\LOCALS~1\Temp\7zEB0.tmp\LOGO-CE for Devco EN Negative.png"/>
          <p:cNvPicPr/>
          <p:nvPr/>
        </p:nvPicPr>
        <p:blipFill>
          <a:blip r:embed="rId3"/>
          <a:srcRect l="0" t="0" r="0" b="24783"/>
          <a:stretch/>
        </p:blipFill>
        <p:spPr>
          <a:xfrm>
            <a:off x="3754440" y="306360"/>
            <a:ext cx="1620720" cy="9399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2" descr="C:\DOCUME~1\lenain\LOCALS~1\Temp\7zEC0.tmp\Footer Box Devco EuropeAid Transparent.png"/>
          <p:cNvPicPr/>
          <p:nvPr/>
        </p:nvPicPr>
        <p:blipFill>
          <a:blip r:embed="rId4"/>
          <a:stretch/>
        </p:blipFill>
        <p:spPr>
          <a:xfrm>
            <a:off x="4254480" y="6458040"/>
            <a:ext cx="612720" cy="40788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8"/>
          <p:cNvSpPr/>
          <p:nvPr/>
        </p:nvSpPr>
        <p:spPr>
          <a:xfrm>
            <a:off x="4264200" y="1241280"/>
            <a:ext cx="604800" cy="36720"/>
          </a:xfrm>
          <a:prstGeom prst="rect">
            <a:avLst/>
          </a:prstGeom>
          <a:solidFill>
            <a:srgbClr val="e751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26262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26262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262626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25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400" spc="-1" strike="noStrike">
                <a:solidFill>
                  <a:srgbClr val="33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E06D2D-A803-4476-80AF-81762C55657B}" type="slidenum">
              <a:rPr b="0" lang="en-GB" sz="2400" spc="-1" strike="noStrike">
                <a:solidFill>
                  <a:srgbClr val="33663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Image 1" descr="EYD15_PPT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" name="Image 4" descr="EYD15_PPT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26262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26262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262626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Image 1" descr="EYD15_PPT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26262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26262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262626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AE326E-9B49-4268-893F-3F4E5841AE66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421E0A-FC98-4569-B488-2567404761EE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Image 1" descr="EYD15_PPT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26262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26262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262626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A95C70-B8B8-48A2-A9BA-90C0EF7952C6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83180A-AB9E-4D0F-8D27-482C1BAD4DEF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Image 1" descr="EYD15_PPT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26262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26262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262626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F5DE5E-3C9F-4D41-B0D9-99F70F63EEAB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8D29D0-59B8-42E0-86D4-6869C4B82C29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Image 1" descr="EYD15_PPT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26262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26262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262626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B77C23-3E17-44EE-8CD9-E27096E07A5F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EFA638-ECE2-4156-87C5-50C01440AE59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Image 1" descr="EYD15_PPT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26262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26262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262626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3D8ACF-561B-408F-AC67-F079377242B7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35D71D-ED72-4C5F-A323-38767A4844D5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Image 1" descr="EYD15_PPT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26262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26262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262626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817C7B-72F9-4690-A1F1-551FE02277DE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A8D084-5E04-4854-8139-EF27436BAFF4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Image 1" descr="EYD15_PPT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26262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262626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262626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003244-7F87-4514-98C1-8B1A7ED397F1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DA0019-45E2-4970-9028-ACC457195FDB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8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371600" y="2368080"/>
            <a:ext cx="743256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262626"/>
                </a:solidFill>
                <a:latin typeface="Arial"/>
              </a:rPr>
              <a:t>Stina Soewarta and Doerte Bosse</a:t>
            </a: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1371600" y="2734920"/>
            <a:ext cx="7432560" cy="29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Head of Unit, Team leader EDY2015  Communication and Transparency Unit 05, DG International Cooperation and Development, European Commission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ZoneTexte 3"/>
          <p:cNvSpPr/>
          <p:nvPr/>
        </p:nvSpPr>
        <p:spPr>
          <a:xfrm>
            <a:off x="461880" y="3529080"/>
            <a:ext cx="8342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800" spc="-1" strike="noStrike">
                <a:solidFill>
                  <a:srgbClr val="ff0000"/>
                </a:solidFill>
                <a:latin typeface="Arial Bold"/>
              </a:rPr>
              <a:t>European Year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800" spc="-1" strike="noStrike">
                <a:solidFill>
                  <a:srgbClr val="ff0000"/>
                </a:solidFill>
                <a:latin typeface="Arial Bold"/>
              </a:rPr>
              <a:t>for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800" spc="-1" strike="noStrike">
                <a:solidFill>
                  <a:srgbClr val="ff0000"/>
                </a:solidFill>
                <a:latin typeface="Arial Bold"/>
              </a:rPr>
              <a:t>Development 201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ounded Rectangle 1"/>
          <p:cNvSpPr/>
          <p:nvPr/>
        </p:nvSpPr>
        <p:spPr>
          <a:xfrm>
            <a:off x="285840" y="2209680"/>
            <a:ext cx="8609040" cy="3505320"/>
          </a:xfrm>
          <a:prstGeom prst="roundRect">
            <a:avLst>
              <a:gd name="adj" fmla="val 16667"/>
            </a:avLst>
          </a:prstGeom>
          <a:solidFill>
            <a:srgbClr val="feb706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595959"/>
                </a:solidFill>
                <a:latin typeface="Arial"/>
              </a:rPr>
              <a:t>Flagship events of the EYD2015</a:t>
            </a: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662040" y="2219400"/>
            <a:ext cx="8437680" cy="29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100000"/>
              </a:lnSpc>
              <a:spcBef>
                <a:spcPts val="1199"/>
              </a:spcBef>
              <a:buClr>
                <a:srgbClr val="ff66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Verdana"/>
                <a:ea typeface="Verdana"/>
              </a:rPr>
              <a:t>Opening event Latvia </a:t>
            </a:r>
            <a:r>
              <a:rPr b="1" lang="en-GB" sz="2000" spc="-1" strike="noStrike">
                <a:solidFill>
                  <a:srgbClr val="262626"/>
                </a:solidFill>
                <a:latin typeface="Verdana"/>
                <a:ea typeface="Verdana"/>
              </a:rPr>
              <a:t>hosted by the Presidency – 9</a:t>
            </a:r>
            <a:r>
              <a:rPr b="1" lang="en-GB" sz="2000" spc="-1" strike="noStrike" baseline="30000">
                <a:solidFill>
                  <a:srgbClr val="262626"/>
                </a:solidFill>
                <a:latin typeface="Verdana"/>
                <a:ea typeface="Verdana"/>
              </a:rPr>
              <a:t>th</a:t>
            </a:r>
            <a:r>
              <a:rPr b="1" lang="en-GB" sz="2000" spc="-1" strike="noStrike">
                <a:solidFill>
                  <a:srgbClr val="262626"/>
                </a:solidFill>
                <a:latin typeface="Verdana"/>
                <a:ea typeface="Verdana"/>
              </a:rPr>
              <a:t> January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1199"/>
              </a:spcBef>
              <a:buClr>
                <a:srgbClr val="008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Verdana"/>
                <a:ea typeface="Verdana"/>
              </a:rPr>
              <a:t>Belgium opening event Brussels </a:t>
            </a:r>
            <a:r>
              <a:rPr b="1" lang="en-GB" sz="2000" spc="-1" strike="noStrike">
                <a:solidFill>
                  <a:srgbClr val="262626"/>
                </a:solidFill>
                <a:latin typeface="Verdana"/>
                <a:ea typeface="Verdana"/>
              </a:rPr>
              <a:t>with Bozar and Africalia  – 17</a:t>
            </a:r>
            <a:r>
              <a:rPr b="1" lang="en-GB" sz="2000" spc="-1" strike="noStrike" baseline="30000">
                <a:solidFill>
                  <a:srgbClr val="262626"/>
                </a:solidFill>
                <a:latin typeface="Verdana"/>
                <a:ea typeface="Verdana"/>
              </a:rPr>
              <a:t>th</a:t>
            </a:r>
            <a:r>
              <a:rPr b="1" lang="en-GB" sz="2000" spc="-1" strike="noStrike">
                <a:solidFill>
                  <a:srgbClr val="262626"/>
                </a:solidFill>
                <a:latin typeface="Verdana"/>
                <a:ea typeface="Verdana"/>
              </a:rPr>
              <a:t> January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1199"/>
              </a:spcBef>
              <a:buClr>
                <a:srgbClr val="00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ffff"/>
                </a:solidFill>
                <a:latin typeface="Verdana"/>
                <a:ea typeface="Verdana"/>
              </a:rPr>
              <a:t>Gender event Latvia </a:t>
            </a:r>
            <a:r>
              <a:rPr b="1" lang="en-GB" sz="2000" spc="-1" strike="noStrike">
                <a:solidFill>
                  <a:srgbClr val="262626"/>
                </a:solidFill>
                <a:latin typeface="Verdana"/>
                <a:ea typeface="Verdana"/>
              </a:rPr>
              <a:t>with the Latvian presidency opening – 2</a:t>
            </a:r>
            <a:r>
              <a:rPr b="1" lang="en-GB" sz="2000" spc="-1" strike="noStrike" baseline="30000">
                <a:solidFill>
                  <a:srgbClr val="262626"/>
                </a:solidFill>
                <a:latin typeface="Verdana"/>
                <a:ea typeface="Verdana"/>
              </a:rPr>
              <a:t>nd</a:t>
            </a:r>
            <a:r>
              <a:rPr b="1" lang="en-GB" sz="2000" spc="-1" strike="noStrike">
                <a:solidFill>
                  <a:srgbClr val="262626"/>
                </a:solidFill>
                <a:latin typeface="Verdana"/>
                <a:ea typeface="Verdana"/>
              </a:rPr>
              <a:t> March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Verdana"/>
                <a:ea typeface="Verdana"/>
              </a:rPr>
              <a:t>European Dev Days </a:t>
            </a:r>
            <a:r>
              <a:rPr b="1" lang="en-GB" sz="2000" spc="-1" strike="noStrike">
                <a:solidFill>
                  <a:srgbClr val="262626"/>
                </a:solidFill>
                <a:latin typeface="Verdana"/>
                <a:ea typeface="Verdana"/>
              </a:rPr>
              <a:t>– 3</a:t>
            </a:r>
            <a:r>
              <a:rPr b="1" lang="en-GB" sz="2000" spc="-1" strike="noStrike" baseline="30000">
                <a:solidFill>
                  <a:srgbClr val="262626"/>
                </a:solidFill>
                <a:latin typeface="Verdana"/>
                <a:ea typeface="Verdana"/>
              </a:rPr>
              <a:t>rd</a:t>
            </a:r>
            <a:r>
              <a:rPr b="1" lang="en-GB" sz="2000" spc="-1" strike="noStrike">
                <a:solidFill>
                  <a:srgbClr val="262626"/>
                </a:solidFill>
                <a:latin typeface="Verdana"/>
                <a:ea typeface="Verdana"/>
              </a:rPr>
              <a:t>/4</a:t>
            </a:r>
            <a:r>
              <a:rPr b="1" lang="en-GB" sz="2000" spc="-1" strike="noStrike" baseline="30000">
                <a:solidFill>
                  <a:srgbClr val="262626"/>
                </a:solidFill>
                <a:latin typeface="Verdana"/>
                <a:ea typeface="Verdana"/>
              </a:rPr>
              <a:t>th</a:t>
            </a:r>
            <a:r>
              <a:rPr b="1" lang="en-GB" sz="2000" spc="-1" strike="noStrike">
                <a:solidFill>
                  <a:srgbClr val="262626"/>
                </a:solidFill>
                <a:latin typeface="Verdana"/>
                <a:ea typeface="Verdana"/>
              </a:rPr>
              <a:t> June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1199"/>
              </a:spcBef>
              <a:buClr>
                <a:srgbClr val="cc33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Verdana"/>
                <a:ea typeface="Verdana"/>
              </a:rPr>
              <a:t>Closing event Luxembourg</a:t>
            </a:r>
            <a:r>
              <a:rPr b="1" lang="en-GB" sz="20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1" lang="en-GB" sz="2000" spc="-1" strike="noStrike">
                <a:solidFill>
                  <a:srgbClr val="262626"/>
                </a:solidFill>
                <a:latin typeface="Verdana"/>
                <a:ea typeface="Verdana"/>
              </a:rPr>
              <a:t>by the Presidency – 8</a:t>
            </a:r>
            <a:r>
              <a:rPr b="1" lang="en-GB" sz="2000" spc="-1" strike="noStrike" baseline="30000">
                <a:solidFill>
                  <a:srgbClr val="262626"/>
                </a:solidFill>
                <a:latin typeface="Verdana"/>
                <a:ea typeface="Verdana"/>
              </a:rPr>
              <a:t>th</a:t>
            </a:r>
            <a:r>
              <a:rPr b="1" lang="en-GB" sz="2000" spc="-1" strike="noStrike">
                <a:solidFill>
                  <a:srgbClr val="262626"/>
                </a:solidFill>
                <a:latin typeface="Verdana"/>
                <a:ea typeface="Verdana"/>
              </a:rPr>
              <a:t> December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marL="361800" indent="-361800">
              <a:spcBef>
                <a:spcPts val="349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61800" indent="-36180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grpSp>
        <p:nvGrpSpPr>
          <p:cNvPr id="527" name="Group 3"/>
          <p:cNvGrpSpPr/>
          <p:nvPr/>
        </p:nvGrpSpPr>
        <p:grpSpPr>
          <a:xfrm>
            <a:off x="1501920" y="1076400"/>
            <a:ext cx="5948280" cy="1133280"/>
            <a:chOff x="1501920" y="1076400"/>
            <a:chExt cx="5948280" cy="1133280"/>
          </a:xfrm>
        </p:grpSpPr>
        <p:pic>
          <p:nvPicPr>
            <p:cNvPr id="528" name="Picture 4" descr="C:\Users\moylato\Desktop\Africalia_logo_big.jpg"/>
            <p:cNvPicPr/>
            <p:nvPr/>
          </p:nvPicPr>
          <p:blipFill>
            <a:blip r:embed="rId1"/>
            <a:stretch/>
          </p:blipFill>
          <p:spPr>
            <a:xfrm>
              <a:off x="1501920" y="1311480"/>
              <a:ext cx="1765080" cy="71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Picture 6" descr="C:\Users\moylato\Desktop\bozar.gif"/>
            <p:cNvPicPr/>
            <p:nvPr/>
          </p:nvPicPr>
          <p:blipFill>
            <a:blip r:embed="rId2"/>
            <a:stretch/>
          </p:blipFill>
          <p:spPr>
            <a:xfrm>
              <a:off x="6034680" y="1076400"/>
              <a:ext cx="1415520" cy="1133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0" name="Picture 10" descr="image002"/>
          <p:cNvPicPr/>
          <p:nvPr/>
        </p:nvPicPr>
        <p:blipFill>
          <a:blip r:embed="rId3"/>
          <a:stretch/>
        </p:blipFill>
        <p:spPr>
          <a:xfrm>
            <a:off x="3267000" y="1351080"/>
            <a:ext cx="2895840" cy="58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595959"/>
                </a:solidFill>
                <a:latin typeface="Arial"/>
              </a:rPr>
              <a:t>EU inmstitutions' activities  </a:t>
            </a: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861840"/>
            <a:ext cx="82296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Verdana"/>
                <a:ea typeface="Verdana"/>
              </a:rPr>
              <a:t>Activities run by EU institutions  - EC, EEAS, EP, Council,EESC, Co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th Assises of Decentralised Cooperation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unication Campaign Prize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Verdana"/>
                <a:ea typeface="Verdana"/>
              </a:rPr>
              <a:t>Commission in the lead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Verdana"/>
                <a:ea typeface="Verdana"/>
              </a:rPr>
              <a:t>Kapucinski Lectures in all MS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Verdana"/>
                <a:ea typeface="Verdana"/>
              </a:rPr>
              <a:t>Back to school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Verdana"/>
                <a:ea typeface="Verdana"/>
              </a:rPr>
              <a:t>Lorenzo Natali Price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Verdana"/>
                <a:ea typeface="Verdana"/>
              </a:rPr>
              <a:t>Sports: Brussels 20 km and more 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Verdana"/>
                <a:ea typeface="Verdana"/>
              </a:rPr>
              <a:t>Thematic conferences at the Info point 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Verdana"/>
                <a:ea typeface="Verdana"/>
              </a:rPr>
              <a:t>Information through the Representations, EDDCs, EU Delegations 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Verdana"/>
                <a:ea typeface="Verdana"/>
              </a:rPr>
              <a:t>……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ounded Rectangle 1"/>
          <p:cNvSpPr/>
          <p:nvPr/>
        </p:nvSpPr>
        <p:spPr>
          <a:xfrm>
            <a:off x="219240" y="920880"/>
            <a:ext cx="8051760" cy="5214960"/>
          </a:xfrm>
          <a:prstGeom prst="roundRect">
            <a:avLst>
              <a:gd name="adj" fmla="val 16667"/>
            </a:avLst>
          </a:prstGeom>
          <a:solidFill>
            <a:srgbClr val="feb706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595959"/>
                </a:solidFill>
                <a:latin typeface="Arial"/>
              </a:rPr>
              <a:t>Thematic Months</a:t>
            </a: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767880" y="1228680"/>
            <a:ext cx="750276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262626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262626"/>
                </a:solidFill>
                <a:latin typeface="Verdana"/>
                <a:ea typeface="Verdana"/>
              </a:rPr>
              <a:t>J</a:t>
            </a:r>
            <a:r>
              <a:rPr b="1" lang="en-GB" sz="1800" spc="-1" strike="noStrike">
                <a:solidFill>
                  <a:srgbClr val="262626"/>
                </a:solidFill>
                <a:latin typeface="Arial"/>
              </a:rPr>
              <a:t>anuary – 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Europe in the World 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262626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262626"/>
                </a:solidFill>
                <a:latin typeface="Arial"/>
              </a:rPr>
              <a:t>February – 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Education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262626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262626"/>
                </a:solidFill>
                <a:latin typeface="Arial"/>
              </a:rPr>
              <a:t>March – 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Women and Girl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262626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262626"/>
                </a:solidFill>
                <a:latin typeface="Arial"/>
              </a:rPr>
              <a:t>April – 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Health 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262626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262626"/>
                </a:solidFill>
                <a:latin typeface="Arial"/>
              </a:rPr>
              <a:t>May – 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eace and Security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262626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262626"/>
                </a:solidFill>
                <a:latin typeface="Arial"/>
              </a:rPr>
              <a:t>June – 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Sustainable Green Growth, Decent Jobs and Businesse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262626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262626"/>
                </a:solidFill>
                <a:latin typeface="Arial"/>
              </a:rPr>
              <a:t>July – 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Children and Youth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262626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262626"/>
                </a:solidFill>
                <a:latin typeface="Arial"/>
              </a:rPr>
              <a:t>August - 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Humanitarian Aid 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262626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262626"/>
                </a:solidFill>
                <a:latin typeface="Arial"/>
              </a:rPr>
              <a:t>September – 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Demography and Migration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262626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262626"/>
                </a:solidFill>
                <a:latin typeface="Arial"/>
              </a:rPr>
              <a:t>October – 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Food Security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262626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262626"/>
                </a:solidFill>
                <a:latin typeface="Arial"/>
              </a:rPr>
              <a:t>November – 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Sustainable Development and Climate Action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262626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262626"/>
                </a:solidFill>
                <a:latin typeface="Arial"/>
              </a:rPr>
              <a:t>December - 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Human Rights and Governance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ounded Rectangle 1"/>
          <p:cNvSpPr/>
          <p:nvPr/>
        </p:nvSpPr>
        <p:spPr>
          <a:xfrm>
            <a:off x="457200" y="1238400"/>
            <a:ext cx="8172360" cy="45050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595959"/>
                </a:solidFill>
                <a:latin typeface="Arial"/>
              </a:rPr>
              <a:t>EYD Shared Website</a:t>
            </a: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1038240" y="1609200"/>
            <a:ext cx="82296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rinciples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llaborative campaign site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pproved partners will have full editorial 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shared site, a shared year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or coordination, collaboration and 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issemination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Main elements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torie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ase Studie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oolki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539" name="Picture 2" descr="C:\Users\bossedo\AppData\Local\Microsoft\Windows\Temporary Internet Files\Content.Outlook\DP6GKN4K\eyd-homepage-screenshot.jpg"/>
          <p:cNvPicPr/>
          <p:nvPr/>
        </p:nvPicPr>
        <p:blipFill>
          <a:blip r:embed="rId1"/>
          <a:stretch/>
        </p:blipFill>
        <p:spPr>
          <a:xfrm>
            <a:off x="6504120" y="-190440"/>
            <a:ext cx="255420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ounded Rectangle 1"/>
          <p:cNvSpPr/>
          <p:nvPr/>
        </p:nvSpPr>
        <p:spPr>
          <a:xfrm>
            <a:off x="457200" y="1238400"/>
            <a:ext cx="8172360" cy="4505040"/>
          </a:xfrm>
          <a:prstGeom prst="roundRect">
            <a:avLst>
              <a:gd name="adj" fmla="val 16667"/>
            </a:avLst>
          </a:prstGeom>
          <a:solidFill>
            <a:srgbClr val="c4bd97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595959"/>
                </a:solidFill>
                <a:latin typeface="Arial"/>
              </a:rPr>
              <a:t>Social Media Strategy</a:t>
            </a: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1038240" y="1609200"/>
            <a:ext cx="82296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rinciples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irect engagement with citizen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collaborative and innovative approach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1" marL="447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Main elements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osting guideline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1" marL="44784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cial media takeover of the official Twitter/FB account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1" marL="44784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EYD2015 and #Euglobalplayer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1" marL="44784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ther event specific hashtag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1" marL="44784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apacity 4 Development Group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ounded Rectangle 3"/>
          <p:cNvSpPr/>
          <p:nvPr/>
        </p:nvSpPr>
        <p:spPr>
          <a:xfrm>
            <a:off x="457200" y="1238400"/>
            <a:ext cx="8172360" cy="392400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595959"/>
                </a:solidFill>
                <a:latin typeface="Arial"/>
              </a:rPr>
              <a:t>Media</a:t>
            </a: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57200" y="1599840"/>
            <a:ext cx="822960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Eurobarometer</a:t>
            </a: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measuring public opinion before and after the year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Media Partnerships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(2 per Member State) with key broadsheets and broadcasters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Engaging alternative medi</a:t>
            </a: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uch as diaspora, faith, youth, development specialists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Joint announcements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and </a:t>
            </a: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press events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Press seminars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and 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events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hroughout the EYD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Building a 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database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to facilitate easier access to experts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68360" y="144792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595959"/>
                </a:solidFill>
                <a:latin typeface="Arial"/>
              </a:rPr>
              <a:t>Key Next steps</a:t>
            </a:r>
            <a:endParaRPr b="1" lang="en-US" sz="3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CCB0CE-A86B-4DC4-8B1B-679F6EF20319}" type="slidenum">
              <a:rPr b="0" lang="en-GB" sz="1400" spc="-1" strike="noStrike">
                <a:solidFill>
                  <a:srgbClr val="3366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Content Placeholder 2"/>
          <p:cNvSpPr/>
          <p:nvPr/>
        </p:nvSpPr>
        <p:spPr>
          <a:xfrm>
            <a:off x="539640" y="2168640"/>
            <a:ext cx="8493120" cy="45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f5494"/>
              </a:buClr>
              <a:buSzPct val="12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200" spc="-1" strike="noStrike">
                <a:solidFill>
                  <a:srgbClr val="e75113"/>
                </a:solidFill>
                <a:latin typeface="Verdana"/>
                <a:ea typeface="Verdana"/>
              </a:rPr>
              <a:t>Finalise toolkit we can offer main stakehold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f5494"/>
              </a:buClr>
              <a:buSzPct val="12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200" spc="-1" strike="noStrike">
                <a:solidFill>
                  <a:srgbClr val="e75113"/>
                </a:solidFill>
                <a:latin typeface="Verdana"/>
                <a:ea typeface="Verdana"/>
              </a:rPr>
              <a:t>Give further guidance on web, social media, med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f5494"/>
              </a:buClr>
              <a:buSzPct val="12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200" spc="-1" strike="noStrike">
                <a:solidFill>
                  <a:srgbClr val="e75113"/>
                </a:solidFill>
                <a:latin typeface="Verdana"/>
                <a:ea typeface="Verdana"/>
              </a:rPr>
              <a:t>Agree on evaluation of the EYD2015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f5494"/>
              </a:buClr>
              <a:buSzPct val="12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200" spc="-1" strike="noStrike">
                <a:solidFill>
                  <a:srgbClr val="e75113"/>
                </a:solidFill>
                <a:latin typeface="Verdana"/>
                <a:ea typeface="Verdana"/>
              </a:rPr>
              <a:t>Exchange best practices and  detect further synergies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336699"/>
              </a:buClr>
              <a:buSzPct val="12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9" name="Content Placeholder 2" descr=""/>
          <p:cNvPicPr/>
          <p:nvPr/>
        </p:nvPicPr>
        <p:blipFill>
          <a:blip r:embed="rId1"/>
          <a:stretch/>
        </p:blipFill>
        <p:spPr>
          <a:xfrm>
            <a:off x="5533920" y="3990960"/>
            <a:ext cx="361008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4928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595959"/>
                </a:solidFill>
                <a:latin typeface="Arial"/>
              </a:rPr>
              <a:t>Thank you and let's get started !</a:t>
            </a:r>
            <a:endParaRPr b="1" lang="en-US" sz="2400" spc="-1" strike="noStrike">
              <a:solidFill>
                <a:srgbClr val="595959"/>
              </a:solidFill>
              <a:latin typeface="Arial"/>
            </a:endParaRPr>
          </a:p>
        </p:txBody>
      </p:sp>
      <p:pic>
        <p:nvPicPr>
          <p:cNvPr id="551" name="Content Placeholder 3" descr=""/>
          <p:cNvPicPr/>
          <p:nvPr/>
        </p:nvPicPr>
        <p:blipFill>
          <a:blip r:embed="rId1"/>
          <a:stretch/>
        </p:blipFill>
        <p:spPr>
          <a:xfrm>
            <a:off x="1838160" y="2590920"/>
            <a:ext cx="653436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1100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595959"/>
                </a:solidFill>
                <a:latin typeface="Arial"/>
              </a:rPr>
              <a:t>The principles of the EYD campaign</a:t>
            </a: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557280" y="1374480"/>
            <a:ext cx="822960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lp achieve the </a:t>
            </a:r>
            <a:r>
              <a:rPr b="1" lang="en-GB" sz="2000" spc="-1" strike="noStrike">
                <a:solidFill>
                  <a:srgbClr val="e75113"/>
                </a:solidFill>
                <a:latin typeface="Arial"/>
              </a:rPr>
              <a:t>objectiv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spread the </a:t>
            </a:r>
            <a:r>
              <a:rPr b="1" lang="en-GB" sz="2000" spc="-1" strike="noStrike">
                <a:solidFill>
                  <a:srgbClr val="e75113"/>
                </a:solidFill>
                <a:latin typeface="Arial"/>
              </a:rPr>
              <a:t>message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000" spc="-1" strike="noStrike">
                <a:solidFill>
                  <a:srgbClr val="e75113"/>
                </a:solidFill>
                <a:latin typeface="Arial"/>
              </a:rPr>
              <a:t>motto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1691640" indent="257400"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Arial"/>
              </a:rPr>
              <a:t>Inform on the results of EU development cooperation  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1691640" indent="257400"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Arial"/>
              </a:rPr>
              <a:t>Foster critical thinking, raise awareness of EU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1691640" indent="257400"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262626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262626"/>
                </a:solidFill>
                <a:latin typeface="Arial"/>
              </a:rPr>
              <a:t>added value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1691640" indent="257400"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Arial"/>
              </a:rPr>
              <a:t>Show the mutual interest, global approach  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1691640" indent="257400"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1691640" indent="257400"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ell the new narrative on development cooperation !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1691640" indent="257400"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1691640" indent="257400"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1691640" indent="257400"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EYD2015 as a corporate communication priority, </a:t>
            </a:r>
            <a:r>
              <a:rPr b="1" lang="en-GB" sz="2000" spc="-1" strike="noStrike">
                <a:solidFill>
                  <a:srgbClr val="e75213"/>
                </a:solidFill>
                <a:latin typeface="Arial"/>
              </a:rPr>
              <a:t>'the EU as a global player'  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4" marL="1691640" indent="257400">
              <a:buClr>
                <a:srgbClr val="e75213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472" name="Picture 2" descr=""/>
          <p:cNvPicPr/>
          <p:nvPr/>
        </p:nvPicPr>
        <p:blipFill>
          <a:blip r:embed="rId1"/>
          <a:stretch/>
        </p:blipFill>
        <p:spPr>
          <a:xfrm>
            <a:off x="666720" y="2066760"/>
            <a:ext cx="153360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595959"/>
                </a:solidFill>
                <a:latin typeface="Arial"/>
              </a:rPr>
              <a:t>EYD Stakeholders</a:t>
            </a: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74" name="Rounded Rectangle 7"/>
          <p:cNvSpPr/>
          <p:nvPr/>
        </p:nvSpPr>
        <p:spPr>
          <a:xfrm>
            <a:off x="343080" y="1628640"/>
            <a:ext cx="8172360" cy="340992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9360">
            <a:solidFill>
              <a:srgbClr val="c3d69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Calibri"/>
              </a:rPr>
              <a:t>European Parliament 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• 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Council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 • </a:t>
            </a:r>
            <a:r>
              <a:rPr b="1" lang="en-GB" sz="2800" spc="-1" strike="noStrike">
                <a:solidFill>
                  <a:srgbClr val="3a43f0"/>
                </a:solidFill>
                <a:latin typeface="Calibri"/>
              </a:rPr>
              <a:t>Member States 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• </a:t>
            </a:r>
            <a:r>
              <a:rPr b="1" lang="en-GB" sz="2800" spc="-1" strike="noStrike">
                <a:solidFill>
                  <a:srgbClr val="ff5050"/>
                </a:solidFill>
                <a:latin typeface="Calibri"/>
              </a:rPr>
              <a:t>European Commission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 • </a:t>
            </a:r>
            <a:r>
              <a:rPr b="1" lang="en-GB" sz="2800" spc="-1" strike="noStrike">
                <a:solidFill>
                  <a:srgbClr val="ff66ff"/>
                </a:solidFill>
                <a:latin typeface="Calibri"/>
              </a:rPr>
              <a:t>EEAS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 • </a:t>
            </a:r>
            <a:r>
              <a:rPr b="1" lang="en-GB" sz="2800" spc="-1" strike="noStrike">
                <a:solidFill>
                  <a:srgbClr val="008000"/>
                </a:solidFill>
                <a:latin typeface="Calibri"/>
              </a:rPr>
              <a:t>EU Delegations 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• </a:t>
            </a:r>
            <a:r>
              <a:rPr b="1" lang="en-GB" sz="2800" spc="-1" strike="noStrike">
                <a:solidFill>
                  <a:srgbClr val="00ffff"/>
                </a:solidFill>
                <a:latin typeface="Calibri"/>
              </a:rPr>
              <a:t>Economic and Social Committee 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• </a:t>
            </a: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Committee of the Regions 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• </a:t>
            </a:r>
            <a:r>
              <a:rPr b="1" lang="en-GB" sz="2800" spc="-1" strike="noStrike">
                <a:solidFill>
                  <a:srgbClr val="0000ff"/>
                </a:solidFill>
                <a:latin typeface="Calibri"/>
              </a:rPr>
              <a:t>Private Sector 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• </a:t>
            </a:r>
            <a:r>
              <a:rPr b="1" lang="en-GB" sz="2800" spc="-1" strike="noStrike">
                <a:solidFill>
                  <a:srgbClr val="ff0066"/>
                </a:solidFill>
                <a:latin typeface="Calibri"/>
              </a:rPr>
              <a:t>NGO/CSO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 • </a:t>
            </a:r>
            <a:r>
              <a:rPr b="1" lang="en-GB" sz="2800" spc="-1" strike="noStrike">
                <a:solidFill>
                  <a:srgbClr val="9900ff"/>
                </a:solidFill>
                <a:latin typeface="Calibri"/>
              </a:rPr>
              <a:t>International Organisations 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• </a:t>
            </a:r>
            <a:r>
              <a:rPr b="1" lang="en-GB" sz="2800" spc="-1" strike="noStrike">
                <a:solidFill>
                  <a:srgbClr val="ff6600"/>
                </a:solidFill>
                <a:latin typeface="Calibri"/>
              </a:rPr>
              <a:t>Universities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 • </a:t>
            </a:r>
            <a:r>
              <a:rPr b="1" lang="en-GB" sz="2800" spc="-1" strike="noStrike">
                <a:solidFill>
                  <a:srgbClr val="00cc66"/>
                </a:solidFill>
                <a:latin typeface="Calibri"/>
              </a:rPr>
              <a:t>Schools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 • </a:t>
            </a:r>
            <a:r>
              <a:rPr b="1" lang="en-GB" sz="2800" spc="-1" strike="noStrike">
                <a:solidFill>
                  <a:srgbClr val="ff7c80"/>
                </a:solidFill>
                <a:latin typeface="Calibri"/>
              </a:rPr>
              <a:t>Local and Regional authorities 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• </a:t>
            </a:r>
            <a:r>
              <a:rPr b="1" lang="en-GB" sz="2800" spc="-1" strike="noStrike">
                <a:solidFill>
                  <a:srgbClr val="cc9900"/>
                </a:solidFill>
                <a:latin typeface="Calibri"/>
              </a:rPr>
              <a:t>Found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301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800" spc="-1" strike="noStrike">
                <a:solidFill>
                  <a:srgbClr val="595959"/>
                </a:solidFill>
                <a:latin typeface="Arial"/>
              </a:rPr>
              <a:t>Target audience </a:t>
            </a: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pic>
        <p:nvPicPr>
          <p:cNvPr id="476" name="Picture 11" descr="https://law.duke.edu/sites/default/files/pages/lead-images/lead-academics.jpg"/>
          <p:cNvPicPr/>
          <p:nvPr/>
        </p:nvPicPr>
        <p:blipFill>
          <a:blip r:embed="rId1"/>
          <a:stretch/>
        </p:blipFill>
        <p:spPr>
          <a:xfrm>
            <a:off x="4726080" y="4441680"/>
            <a:ext cx="2533680" cy="188136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" descr="http://www.cpme.eu/wp-content/uploads/2014/03/EP.jpg"/>
          <p:cNvPicPr/>
          <p:nvPr/>
        </p:nvPicPr>
        <p:blipFill>
          <a:blip r:embed="rId2"/>
          <a:stretch/>
        </p:blipFill>
        <p:spPr>
          <a:xfrm>
            <a:off x="2192400" y="4441680"/>
            <a:ext cx="2533680" cy="188136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2" descr="http://ec.europa.eu/justice/citizen/media/photos/eu-citizenship.jpg"/>
          <p:cNvPicPr/>
          <p:nvPr/>
        </p:nvPicPr>
        <p:blipFill>
          <a:blip r:embed="rId3"/>
          <a:srcRect l="0" t="0" r="18167" b="0"/>
          <a:stretch/>
        </p:blipFill>
        <p:spPr>
          <a:xfrm>
            <a:off x="2192400" y="2558880"/>
            <a:ext cx="2533680" cy="188280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7"/>
          <p:cNvSpPr/>
          <p:nvPr/>
        </p:nvSpPr>
        <p:spPr>
          <a:xfrm>
            <a:off x="638280" y="5121360"/>
            <a:ext cx="2439720" cy="6397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Arial"/>
                <a:ea typeface="Arial"/>
              </a:rPr>
              <a:t>Policy mak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Rectangle 8"/>
          <p:cNvSpPr/>
          <p:nvPr/>
        </p:nvSpPr>
        <p:spPr>
          <a:xfrm>
            <a:off x="5761080" y="5121360"/>
            <a:ext cx="3125880" cy="6397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Schools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Univer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Rectangle 9"/>
          <p:cNvSpPr/>
          <p:nvPr/>
        </p:nvSpPr>
        <p:spPr>
          <a:xfrm>
            <a:off x="638280" y="2422440"/>
            <a:ext cx="2439720" cy="5749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Broader publ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Rectangle 10"/>
          <p:cNvSpPr/>
          <p:nvPr/>
        </p:nvSpPr>
        <p:spPr>
          <a:xfrm>
            <a:off x="531720" y="1414440"/>
            <a:ext cx="82137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Rectangle 11"/>
          <p:cNvSpPr/>
          <p:nvPr/>
        </p:nvSpPr>
        <p:spPr>
          <a:xfrm>
            <a:off x="619200" y="995400"/>
            <a:ext cx="2458800" cy="56844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Young peop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TextBox 44"/>
          <p:cNvSpPr/>
          <p:nvPr/>
        </p:nvSpPr>
        <p:spPr>
          <a:xfrm>
            <a:off x="1400040" y="1084320"/>
            <a:ext cx="78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                           </a:t>
            </a: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aged 15-24 show highest degree of openness to international development of all age group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5" name="Picture 5" descr="http://2.bp.blogspot.com/-grDupxHdv2w/TWt19cKb2II/AAAAAAAAARc/cWosODJHvWc/s1600/Sloga_Bratislava.jpg"/>
          <p:cNvPicPr/>
          <p:nvPr/>
        </p:nvPicPr>
        <p:blipFill>
          <a:blip r:embed="rId4"/>
          <a:stretch/>
        </p:blipFill>
        <p:spPr>
          <a:xfrm>
            <a:off x="4726080" y="2558880"/>
            <a:ext cx="2533680" cy="190044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12"/>
          <p:cNvSpPr/>
          <p:nvPr/>
        </p:nvSpPr>
        <p:spPr>
          <a:xfrm>
            <a:off x="6107040" y="2286000"/>
            <a:ext cx="2779920" cy="93024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Arial"/>
                <a:ea typeface="Arial"/>
              </a:rPr>
              <a:t>Civil society organisa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301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800" spc="-1" strike="noStrike">
                <a:solidFill>
                  <a:srgbClr val="595959"/>
                </a:solidFill>
                <a:latin typeface="Arial"/>
              </a:rPr>
              <a:t>Strategic approach </a:t>
            </a: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88" name="Rectangle 10"/>
          <p:cNvSpPr/>
          <p:nvPr/>
        </p:nvSpPr>
        <p:spPr>
          <a:xfrm>
            <a:off x="531720" y="1414440"/>
            <a:ext cx="82137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Abgerundetes Rechteck 9"/>
          <p:cNvSpPr/>
          <p:nvPr/>
        </p:nvSpPr>
        <p:spPr>
          <a:xfrm>
            <a:off x="2265480" y="2924280"/>
            <a:ext cx="1481040" cy="2871720"/>
          </a:xfrm>
          <a:custGeom>
            <a:avLst/>
            <a:gdLst>
              <a:gd name="textAreaLeft" fmla="*/ 26280 w 1481040"/>
              <a:gd name="textAreaRight" fmla="*/ 1454760 w 1481040"/>
              <a:gd name="textAreaTop" fmla="*/ 26280 h 2871720"/>
              <a:gd name="textAreaBottom" fmla="*/ 2845440 h 2871720"/>
            </a:gdLst>
            <a:ahLst/>
            <a:rect l="textAreaLeft" t="textAreaTop" r="textAreaRight" b="textAreaBottom"/>
            <a:pathLst>
              <a:path w="21600" h="41877">
                <a:moveTo>
                  <a:pt x="1314" y="0"/>
                </a:moveTo>
                <a:arcTo wR="1314" hR="1314" stAng="16200000" swAng="-5400000"/>
                <a:lnTo>
                  <a:pt x="0" y="40563"/>
                </a:lnTo>
                <a:arcTo wR="1314" hR="1314" stAng="10800000" swAng="-5400000"/>
                <a:lnTo>
                  <a:pt x="20286" y="41877"/>
                </a:lnTo>
                <a:arcTo wR="1314" hR="1314" stAng="5400000" swAng="-5400000"/>
                <a:lnTo>
                  <a:pt x="21600" y="1314"/>
                </a:lnTo>
                <a:arcTo wR="1314" hR="1314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Abgerundetes Rechteck 10"/>
          <p:cNvSpPr/>
          <p:nvPr/>
        </p:nvSpPr>
        <p:spPr>
          <a:xfrm>
            <a:off x="5524560" y="2933640"/>
            <a:ext cx="1558800" cy="2841840"/>
          </a:xfrm>
          <a:custGeom>
            <a:avLst/>
            <a:gdLst>
              <a:gd name="textAreaLeft" fmla="*/ 30960 w 1558800"/>
              <a:gd name="textAreaRight" fmla="*/ 1527840 w 1558800"/>
              <a:gd name="textAreaTop" fmla="*/ 30960 h 2841840"/>
              <a:gd name="textAreaBottom" fmla="*/ 2810880 h 2841840"/>
            </a:gdLst>
            <a:ahLst/>
            <a:rect l="textAreaLeft" t="textAreaTop" r="textAreaRight" b="textAreaBottom"/>
            <a:pathLst>
              <a:path w="21600" h="39375">
                <a:moveTo>
                  <a:pt x="1465" y="0"/>
                </a:moveTo>
                <a:arcTo wR="1465" hR="1465" stAng="16200000" swAng="-5400000"/>
                <a:lnTo>
                  <a:pt x="0" y="37910"/>
                </a:lnTo>
                <a:arcTo wR="1465" hR="1465" stAng="10800000" swAng="-5400000"/>
                <a:lnTo>
                  <a:pt x="20135" y="39375"/>
                </a:lnTo>
                <a:arcTo wR="1465" hR="1465" stAng="5400000" swAng="-5400000"/>
                <a:lnTo>
                  <a:pt x="21600" y="1465"/>
                </a:lnTo>
                <a:arcTo wR="1465" hR="1465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Abgerundetes Rechteck 12"/>
          <p:cNvSpPr/>
          <p:nvPr/>
        </p:nvSpPr>
        <p:spPr>
          <a:xfrm>
            <a:off x="3868560" y="2922480"/>
            <a:ext cx="1538640" cy="2865600"/>
          </a:xfrm>
          <a:custGeom>
            <a:avLst/>
            <a:gdLst>
              <a:gd name="textAreaLeft" fmla="*/ 31320 w 1538640"/>
              <a:gd name="textAreaRight" fmla="*/ 1507320 w 1538640"/>
              <a:gd name="textAreaTop" fmla="*/ 31320 h 2865600"/>
              <a:gd name="textAreaBottom" fmla="*/ 2834280 h 2865600"/>
            </a:gdLst>
            <a:ahLst/>
            <a:rect l="textAreaLeft" t="textAreaTop" r="textAreaRight" b="textAreaBottom"/>
            <a:pathLst>
              <a:path w="21600" h="40224">
                <a:moveTo>
                  <a:pt x="1501" y="0"/>
                </a:moveTo>
                <a:arcTo wR="1501" hR="1501" stAng="16200000" swAng="-5400000"/>
                <a:lnTo>
                  <a:pt x="0" y="38723"/>
                </a:lnTo>
                <a:arcTo wR="1501" hR="1501" stAng="10800000" swAng="-5400000"/>
                <a:lnTo>
                  <a:pt x="20099" y="40224"/>
                </a:lnTo>
                <a:arcTo wR="1501" hR="1501" stAng="5400000" swAng="-5400000"/>
                <a:lnTo>
                  <a:pt x="21600" y="1501"/>
                </a:lnTo>
                <a:arcTo wR="1501" hR="1501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TextBox 16"/>
          <p:cNvSpPr/>
          <p:nvPr/>
        </p:nvSpPr>
        <p:spPr>
          <a:xfrm>
            <a:off x="5578560" y="3206880"/>
            <a:ext cx="146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Arial"/>
              </a:rPr>
              <a:t>People as change agents/ clear call to ac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Textfeld 18"/>
          <p:cNvSpPr/>
          <p:nvPr/>
        </p:nvSpPr>
        <p:spPr>
          <a:xfrm>
            <a:off x="3868560" y="319248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4040"/>
                </a:solidFill>
                <a:latin typeface="Arial"/>
              </a:rPr>
              <a:t>Storytell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Gleichschenkliges Dreieck 8"/>
          <p:cNvSpPr/>
          <p:nvPr/>
        </p:nvSpPr>
        <p:spPr>
          <a:xfrm>
            <a:off x="638280" y="752400"/>
            <a:ext cx="8142120" cy="2019240"/>
          </a:xfrm>
          <a:prstGeom prst="triangle">
            <a:avLst>
              <a:gd name="adj" fmla="val 50639"/>
            </a:avLst>
          </a:prstGeom>
          <a:solidFill>
            <a:srgbClr val="ddddd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Abgerundetes Rechteck 9"/>
          <p:cNvSpPr/>
          <p:nvPr/>
        </p:nvSpPr>
        <p:spPr>
          <a:xfrm>
            <a:off x="652320" y="2903400"/>
            <a:ext cx="1479600" cy="2872080"/>
          </a:xfrm>
          <a:custGeom>
            <a:avLst/>
            <a:gdLst>
              <a:gd name="textAreaLeft" fmla="*/ 26280 w 1479600"/>
              <a:gd name="textAreaRight" fmla="*/ 1453320 w 1479600"/>
              <a:gd name="textAreaTop" fmla="*/ 26280 h 2872080"/>
              <a:gd name="textAreaBottom" fmla="*/ 2845800 h 2872080"/>
            </a:gdLst>
            <a:ahLst/>
            <a:rect l="textAreaLeft" t="textAreaTop" r="textAreaRight" b="textAreaBottom"/>
            <a:pathLst>
              <a:path w="21600" h="41923">
                <a:moveTo>
                  <a:pt x="1314" y="0"/>
                </a:moveTo>
                <a:arcTo wR="1314" hR="1314" stAng="16200000" swAng="-5400000"/>
                <a:lnTo>
                  <a:pt x="0" y="40609"/>
                </a:lnTo>
                <a:arcTo wR="1314" hR="1314" stAng="10800000" swAng="-5400000"/>
                <a:lnTo>
                  <a:pt x="20286" y="41923"/>
                </a:lnTo>
                <a:arcTo wR="1314" hR="1314" stAng="5400000" swAng="-5400000"/>
                <a:lnTo>
                  <a:pt x="21600" y="1314"/>
                </a:lnTo>
                <a:arcTo wR="1314" hR="1314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Textfeld 13"/>
          <p:cNvSpPr/>
          <p:nvPr/>
        </p:nvSpPr>
        <p:spPr>
          <a:xfrm>
            <a:off x="666720" y="3182760"/>
            <a:ext cx="146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404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404040"/>
                </a:solidFill>
                <a:latin typeface="Arial"/>
              </a:rPr>
              <a:t>Localised approa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Box 1"/>
          <p:cNvSpPr/>
          <p:nvPr/>
        </p:nvSpPr>
        <p:spPr>
          <a:xfrm>
            <a:off x="2629080" y="1571760"/>
            <a:ext cx="4352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46c0a"/>
                </a:solidFill>
                <a:latin typeface="Arial"/>
              </a:rPr>
              <a:t>Decentralised integrated campaign with storytelling approach and narrative building focused on partnership development and clear call to act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Textfeld 16"/>
          <p:cNvSpPr/>
          <p:nvPr/>
        </p:nvSpPr>
        <p:spPr>
          <a:xfrm>
            <a:off x="2198520" y="3176640"/>
            <a:ext cx="15465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4040"/>
                </a:solidFill>
                <a:latin typeface="Arial"/>
              </a:rPr>
              <a:t>Partnerships and synergies with public, private, civil and NGO secto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9" name="Picture 32" descr="http://awaazdaily.com/wp-content/uploads/2012/12/TEN-T-Klein-448x250.jpg"/>
          <p:cNvPicPr/>
          <p:nvPr/>
        </p:nvPicPr>
        <p:blipFill>
          <a:blip r:embed="rId1"/>
          <a:srcRect l="25825" t="0" r="0" b="0"/>
          <a:stretch/>
        </p:blipFill>
        <p:spPr>
          <a:xfrm>
            <a:off x="728640" y="4554360"/>
            <a:ext cx="1335240" cy="1032120"/>
          </a:xfrm>
          <a:prstGeom prst="rect">
            <a:avLst/>
          </a:prstGeom>
          <a:ln w="0">
            <a:noFill/>
          </a:ln>
        </p:spPr>
      </p:pic>
      <p:sp>
        <p:nvSpPr>
          <p:cNvPr id="500" name="Abgerundetes Rechteck 10"/>
          <p:cNvSpPr/>
          <p:nvPr/>
        </p:nvSpPr>
        <p:spPr>
          <a:xfrm>
            <a:off x="7221600" y="2933640"/>
            <a:ext cx="1558800" cy="2862360"/>
          </a:xfrm>
          <a:custGeom>
            <a:avLst/>
            <a:gdLst>
              <a:gd name="textAreaLeft" fmla="*/ 30960 w 1558800"/>
              <a:gd name="textAreaRight" fmla="*/ 1527840 w 1558800"/>
              <a:gd name="textAreaTop" fmla="*/ 30960 h 2862360"/>
              <a:gd name="textAreaBottom" fmla="*/ 2831400 h 2862360"/>
            </a:gdLst>
            <a:ahLst/>
            <a:rect l="textAreaLeft" t="textAreaTop" r="textAreaRight" b="textAreaBottom"/>
            <a:pathLst>
              <a:path w="21600" h="39659">
                <a:moveTo>
                  <a:pt x="1465" y="0"/>
                </a:moveTo>
                <a:arcTo wR="1465" hR="1465" stAng="16200000" swAng="-5400000"/>
                <a:lnTo>
                  <a:pt x="0" y="38194"/>
                </a:lnTo>
                <a:arcTo wR="1465" hR="1465" stAng="10800000" swAng="-5400000"/>
                <a:lnTo>
                  <a:pt x="20135" y="39659"/>
                </a:lnTo>
                <a:arcTo wR="1465" hR="1465" stAng="5400000" swAng="-5400000"/>
                <a:lnTo>
                  <a:pt x="21600" y="1465"/>
                </a:lnTo>
                <a:arcTo wR="1465" hR="1465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24"/>
          <p:cNvSpPr/>
          <p:nvPr/>
        </p:nvSpPr>
        <p:spPr>
          <a:xfrm>
            <a:off x="7275600" y="3192480"/>
            <a:ext cx="146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Arial"/>
              </a:rPr>
              <a:t>World’s Best New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2" name="Picture 19" descr="http://www.grayuk.com/wp-content/uploads/2012/05/partnerships.jpg"/>
          <p:cNvPicPr/>
          <p:nvPr/>
        </p:nvPicPr>
        <p:blipFill>
          <a:blip r:embed="rId2"/>
          <a:stretch/>
        </p:blipFill>
        <p:spPr>
          <a:xfrm>
            <a:off x="2355840" y="4554360"/>
            <a:ext cx="1320840" cy="10321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1" descr="http://ec.europa.eu/justice/citizen/media/photos/eu-citizenship.jpg"/>
          <p:cNvPicPr/>
          <p:nvPr/>
        </p:nvPicPr>
        <p:blipFill>
          <a:blip r:embed="rId3"/>
          <a:srcRect l="0" t="0" r="9262" b="0"/>
          <a:stretch/>
        </p:blipFill>
        <p:spPr>
          <a:xfrm>
            <a:off x="5621400" y="4554360"/>
            <a:ext cx="1379520" cy="10321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3" descr="http://www.digitalsherpa.com/blog/wp-content/uploads/2014/03/visual-marketing.jpg"/>
          <p:cNvPicPr/>
          <p:nvPr/>
        </p:nvPicPr>
        <p:blipFill>
          <a:blip r:embed="rId4"/>
          <a:stretch/>
        </p:blipFill>
        <p:spPr>
          <a:xfrm>
            <a:off x="3978360" y="4554360"/>
            <a:ext cx="1320840" cy="10321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24" descr=""/>
          <p:cNvPicPr/>
          <p:nvPr/>
        </p:nvPicPr>
        <p:blipFill>
          <a:blip r:embed="rId5"/>
          <a:stretch/>
        </p:blipFill>
        <p:spPr>
          <a:xfrm>
            <a:off x="7304040" y="4645080"/>
            <a:ext cx="141120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7"/>
          <p:cNvGrpSpPr/>
          <p:nvPr/>
        </p:nvGrpSpPr>
        <p:grpSpPr>
          <a:xfrm>
            <a:off x="566640" y="995400"/>
            <a:ext cx="8021880" cy="5457960"/>
            <a:chOff x="566640" y="995400"/>
            <a:chExt cx="8021880" cy="5457960"/>
          </a:xfrm>
        </p:grpSpPr>
        <p:pic>
          <p:nvPicPr>
            <p:cNvPr id="507" name="Picture 2" descr="C:\Users\moylato\Desktop\660x390image1372449572-16118-photo00-0.jpg"/>
            <p:cNvPicPr/>
            <p:nvPr/>
          </p:nvPicPr>
          <p:blipFill>
            <a:blip r:embed="rId1"/>
            <a:stretch/>
          </p:blipFill>
          <p:spPr>
            <a:xfrm>
              <a:off x="5681520" y="2698560"/>
              <a:ext cx="2907000" cy="172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Picture 3" descr="C:\Users\moylato\Desktop\img1416[1].jpg"/>
            <p:cNvPicPr/>
            <p:nvPr/>
          </p:nvPicPr>
          <p:blipFill>
            <a:blip r:embed="rId2"/>
            <a:stretch/>
          </p:blipFill>
          <p:spPr>
            <a:xfrm>
              <a:off x="3126240" y="995400"/>
              <a:ext cx="2559960" cy="170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Picture 4" descr="C:\Users\moylato\Desktop\img2472[1].jpg"/>
            <p:cNvPicPr/>
            <p:nvPr/>
          </p:nvPicPr>
          <p:blipFill>
            <a:blip r:embed="rId3"/>
            <a:stretch/>
          </p:blipFill>
          <p:spPr>
            <a:xfrm>
              <a:off x="566640" y="2698560"/>
              <a:ext cx="2559600" cy="172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Picture 6" descr="http://ec.europa.eu/europeaid/sites/devco/files/styles/preview/public/img4125.jpg?itok=OV2erfM1"/>
            <p:cNvPicPr/>
            <p:nvPr/>
          </p:nvPicPr>
          <p:blipFill>
            <a:blip r:embed="rId4"/>
            <a:stretch/>
          </p:blipFill>
          <p:spPr>
            <a:xfrm>
              <a:off x="3124080" y="4406400"/>
              <a:ext cx="2562480" cy="204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Rectangle 6"/>
            <p:cNvSpPr/>
            <p:nvPr/>
          </p:nvSpPr>
          <p:spPr>
            <a:xfrm>
              <a:off x="3124080" y="2698920"/>
              <a:ext cx="2562120" cy="1725480"/>
            </a:xfrm>
            <a:prstGeom prst="rect">
              <a:avLst/>
            </a:prstGeom>
            <a:solidFill>
              <a:srgbClr val="feb706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Our red thread: storytelling</a:t>
            </a: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2128680" y="3084480"/>
            <a:ext cx="457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What are our storie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nd what do they say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bout E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evelopment cooperation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595959"/>
                </a:solidFill>
                <a:latin typeface="Arial"/>
              </a:rPr>
              <a:t>Special focus Member States </a:t>
            </a: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658080" y="954720"/>
            <a:ext cx="4668120" cy="172332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Events 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Opening and closing events 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Awareness rising events for the general public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Specific stakeholder events 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Focus young people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Rounded Rectangle 4"/>
          <p:cNvSpPr/>
          <p:nvPr/>
        </p:nvSpPr>
        <p:spPr>
          <a:xfrm>
            <a:off x="3905280" y="2428920"/>
            <a:ext cx="4781520" cy="1923840"/>
          </a:xfrm>
          <a:prstGeom prst="roundRect">
            <a:avLst>
              <a:gd name="adj" fmla="val 16667"/>
            </a:avLst>
          </a:prstGeom>
          <a:solidFill>
            <a:srgbClr val="7ba82b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Pr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Media train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Press trip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Joint campaig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Development magazi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ounded Rectangle 5"/>
          <p:cNvSpPr/>
          <p:nvPr/>
        </p:nvSpPr>
        <p:spPr>
          <a:xfrm>
            <a:off x="695160" y="4238640"/>
            <a:ext cx="6210360" cy="1952640"/>
          </a:xfrm>
          <a:prstGeom prst="roundRect">
            <a:avLst>
              <a:gd name="adj" fmla="val 16667"/>
            </a:avLst>
          </a:prstGeom>
          <a:solidFill>
            <a:srgbClr val="ffcc33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Online communic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Subsections in existing websites planned in most of the M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Some MS plan their own webs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595959"/>
                </a:solidFill>
                <a:latin typeface="Arial"/>
              </a:rPr>
              <a:t>Special focus Member States </a:t>
            </a: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19" name="Rounded Rectangle 6"/>
          <p:cNvSpPr/>
          <p:nvPr/>
        </p:nvSpPr>
        <p:spPr>
          <a:xfrm>
            <a:off x="684360" y="4657680"/>
            <a:ext cx="7632720" cy="1435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Sustaina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Some MS plan actions to make sure that the Year  has an effect beyond 201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Reaching new stakeholders, policy initia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ounded Rectangle 8"/>
          <p:cNvSpPr/>
          <p:nvPr/>
        </p:nvSpPr>
        <p:spPr>
          <a:xfrm>
            <a:off x="457200" y="771480"/>
            <a:ext cx="3371760" cy="321012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Social med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mpaigns,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volving young peopl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elebrity ambassador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petition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ducation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osting debate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urvey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237120" y="2675520"/>
            <a:ext cx="5726520" cy="209736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 fontScale="94000"/>
          </a:bodyPr>
          <a:p>
            <a:pPr marL="322200" indent="-322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Evaluation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Some MS plan evaluations at national level  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  <a:ea typeface="Verdana"/>
              </a:rPr>
              <a:t>Some provide measurable objectives, expected results and/or indicators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  <a:ea typeface="Verdana"/>
              </a:rPr>
              <a:t>Few mention reporting templates they will use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595959"/>
                </a:solidFill>
                <a:latin typeface="Arial"/>
              </a:rPr>
              <a:t>Stakeholders' initiatives</a:t>
            </a:r>
            <a:endParaRPr b="1" lang="en-US" sz="2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7200" y="1171440"/>
            <a:ext cx="8229600" cy="36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Verdana"/>
              </a:rPr>
              <a:t>CONCORD</a:t>
            </a:r>
            <a:r>
              <a:rPr b="1" lang="en-GB" sz="2000" spc="-1" strike="noStrike">
                <a:solidFill>
                  <a:srgbClr val="e75113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itiative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Verdana"/>
              </a:rPr>
              <a:t>DEAR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Verdana"/>
              </a:rPr>
              <a:t>Marathons</a:t>
            </a:r>
            <a:r>
              <a:rPr b="0" lang="en-GB" sz="20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262626"/>
                </a:solidFill>
                <a:latin typeface="Verdana"/>
              </a:rPr>
              <a:t>and sport for development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Verdana"/>
              </a:rPr>
              <a:t>Co-branded events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ith international organisations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Verdana"/>
              </a:rPr>
              <a:t>Think tanks </a:t>
            </a:r>
            <a:r>
              <a:rPr b="0" lang="en-GB" sz="2000" spc="-1" strike="noStrike">
                <a:solidFill>
                  <a:srgbClr val="262626"/>
                </a:solidFill>
                <a:latin typeface="Verdana"/>
              </a:rPr>
              <a:t>launch discussions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2000" spc="-1" strike="noStrike">
                <a:solidFill>
                  <a:srgbClr val="262626"/>
                </a:solidFill>
                <a:latin typeface="Verdana"/>
              </a:rPr>
              <a:t>Awards with </a:t>
            </a:r>
            <a:r>
              <a:rPr b="1" lang="fr-BE" sz="2000" spc="-1" strike="noStrike">
                <a:solidFill>
                  <a:srgbClr val="cc3300"/>
                </a:solidFill>
                <a:latin typeface="Verdana"/>
              </a:rPr>
              <a:t>private sector </a:t>
            </a:r>
            <a:r>
              <a:rPr b="0" lang="fr-BE" sz="2000" spc="-1" strike="noStrike">
                <a:solidFill>
                  <a:srgbClr val="262626"/>
                </a:solidFill>
                <a:latin typeface="Verdana"/>
              </a:rPr>
              <a:t>organisations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Verdana"/>
              </a:rPr>
              <a:t>Fair Trade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anging Behaviour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Verdana"/>
              </a:rPr>
              <a:t>European Citizens' Alliance </a:t>
            </a:r>
            <a:r>
              <a:rPr b="0" lang="en-GB" sz="2000" spc="-1" strike="noStrike">
                <a:solidFill>
                  <a:srgbClr val="cc3300"/>
                </a:solidFill>
                <a:latin typeface="Verdana"/>
              </a:rPr>
              <a:t>-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bilising and Developing the Potential for Leadership/Influence </a:t>
            </a:r>
            <a:r>
              <a:rPr b="0" lang="en-GB" sz="2000" spc="-1" strike="noStrike">
                <a:solidFill>
                  <a:srgbClr val="262626"/>
                </a:solidFill>
                <a:latin typeface="Verdana"/>
              </a:rPr>
              <a:t>in partnership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Verdana"/>
              </a:rPr>
              <a:t>....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4T13:49:28Z</dcterms:created>
  <dc:creator>Utilisateur de la version d'évaluation de Office 2004</dc:creator>
  <dc:description/>
  <dc:language>en-US</dc:language>
  <cp:lastModifiedBy>Avitor</cp:lastModifiedBy>
  <cp:lastPrinted>2014-12-08T17:32:19Z</cp:lastPrinted>
  <dcterms:modified xsi:type="dcterms:W3CDTF">2014-12-09T13:43:24Z</dcterms:modified>
  <cp:revision>50</cp:revision>
  <dc:subject/>
  <dc:title>Présentation PowerPoint</dc:title>
</cp:coreProperties>
</file>