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957F-165A-4030-95E5-2F76574C8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77b2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77b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5FEE-FE78-420E-9162-95B47E0F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77b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77b2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77b2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77b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9F18-FF94-412B-9538-D0F219C8E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77b2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77b2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77b2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77b2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77b2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77b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7AFF-8DFA-4D3A-8FD6-94F639F76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77b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F5F2-1AC2-4455-AA14-F0DB0273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77b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94DD-48C2-422B-8169-715AC542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77b2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77b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1D00-5AD6-48CF-86E6-5A9CB1A0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0A4E-A01B-4D66-ACB1-74AA9C32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77b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5C14-C08C-4F12-92A0-15772814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77b2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77b2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77b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589C-9D65-4E3B-9F5B-C4A74FBA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77b2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77b2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77b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FE7B-B224-48FC-84ED-3972F36B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77b2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77b2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477b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DBA0-DFB8-40BA-A6C0-6AA4FAC7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477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77b2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3477b2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477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77b2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3477b2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3477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77b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3477b2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3477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77b2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3477b2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3477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77b2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3477b2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77b2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3477b2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77b2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3477b2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 Narrow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Arial Narrow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 Narrow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5BF2-3C2C-475E-B286-48E2DB35D76D}" type="slidenum">
              <a:rPr b="0" lang="en-GB" sz="1200" spc="-1" strike="noStrike">
                <a:solidFill>
                  <a:srgbClr val="898989"/>
                </a:solidFill>
                <a:latin typeface="Arial Narrow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" name="Picture 6" descr="EESC-PPT-template-1024x768-EN.jpg"/>
          <p:cNvPicPr/>
          <p:nvPr/>
        </p:nvPicPr>
        <p:blipFill>
          <a:blip r:embed="rId2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1281240"/>
            <a:ext cx="842472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5fa0"/>
                </a:solidFill>
                <a:latin typeface="Arial Narrow"/>
              </a:rPr>
              <a:t>#EYD2015 idea born in LV, key promoters Concord&amp;EESC</a:t>
            </a:r>
            <a:endParaRPr b="0" lang="en-US" sz="2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39280" y="1890360"/>
            <a:ext cx="82803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500" spc="-1" strike="noStrike">
                <a:solidFill>
                  <a:srgbClr val="595959"/>
                </a:solidFill>
                <a:latin typeface="Arial Narrow"/>
              </a:rPr>
              <a:t>EESC strength&amp;target groups: Reach out&amp;link Civil Society players as Employers, Employees and Various interest organisations (Consumers, Farmers, Social etc. Organisations).  </a:t>
            </a:r>
            <a:endParaRPr b="0" lang="en-US" sz="2500" spc="-1" strike="noStrike">
              <a:solidFill>
                <a:srgbClr val="3477b2"/>
              </a:solidFill>
              <a:latin typeface="Arial Narrow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500" spc="-1" strike="noStrike">
                <a:solidFill>
                  <a:srgbClr val="595959"/>
                </a:solidFill>
                <a:latin typeface="Arial Narrow"/>
              </a:rPr>
              <a:t>Aim: participation, coordination &amp;real/sustainable results! Key Events:</a:t>
            </a:r>
            <a:endParaRPr b="0" lang="en-US" sz="2500" spc="-1" strike="noStrike">
              <a:solidFill>
                <a:srgbClr val="3477b2"/>
              </a:solidFill>
              <a:latin typeface="Arial Narrow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95280" y="3645000"/>
          <a:ext cx="8569440" cy="3163680"/>
        </p:xfrm>
        <a:graphic>
          <a:graphicData uri="http://schemas.openxmlformats.org/drawingml/2006/table">
            <a:tbl>
              <a:tblPr/>
              <a:tblGrid>
                <a:gridCol w="1611360"/>
                <a:gridCol w="6958080"/>
              </a:tblGrid>
              <a:tr h="436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</a:t>
                      </a:r>
                      <a:r>
                        <a:rPr b="1" lang="en-GB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t</a:t>
                      </a:r>
                      <a:r>
                        <a:rPr b="1" lang="lv-LV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 201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7</a:t>
                      </a:r>
                      <a:r>
                        <a:rPr b="1" lang="en-GB" sz="23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th</a:t>
                      </a:r>
                      <a:r>
                        <a:rPr b="1" lang="en-GB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EU-ACP meeting of econ</a:t>
                      </a:r>
                      <a:r>
                        <a:rPr b="1" lang="lv-LV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&amp;</a:t>
                      </a:r>
                      <a:r>
                        <a:rPr b="1" lang="en-GB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cial interest group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</a:tr>
              <a:tr h="841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pring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 conference with Private sector, Trade unions, Consumer and Farmer organisations etc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3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Late spring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nd Meeting EU-Africa Network of economic and social actors (under Joint EU-Africa Strategy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</a:tr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3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Fall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 Seminar 2015 linked to EYD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623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.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29d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inions and </a:t>
                      </a:r>
                      <a:r>
                        <a:rPr b="0" lang="fr-BE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ing Local activities linked to EYD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0f7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8T14:45:06Z</dcterms:created>
  <dc:creator>Ritari Susanna</dc:creator>
  <dc:description>Rapporteur: -
Original language: EN
Date of document: 03/10/2014
Date of meeting: 
External documents: -
Administrator responsible: Di Nicolantonio Eleonora, telephone: +32 (0)2 546 9454
Abstract:</dc:description>
  <cp:keywords>EESC-2014-05603-00-00-INFO-TRA-EN</cp:keywords>
  <dc:language>en-US</dc:language>
  <cp:lastModifiedBy>Andris Gobins</cp:lastModifiedBy>
  <cp:lastPrinted>2014-01-20T15:53:40Z</cp:lastPrinted>
  <dcterms:modified xsi:type="dcterms:W3CDTF">2014-12-09T09:30:44Z</dcterms:modified>
  <cp:revision>169</cp:revision>
  <dc:subject>Information docs.</dc:subject>
  <dc:title>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ody1">
    <vt:lpwstr/>
  </property>
  <property fmtid="{D5CDD505-2E9C-101B-9397-08002B2CF9AE}" pid="3" name="Contact Person">
    <vt:lpwstr/>
  </property>
  <property fmtid="{D5CDD505-2E9C-101B-9397-08002B2CF9AE}" pid="4" name="DocumentSetDescription">
    <vt:lpwstr/>
  </property>
  <property fmtid="{D5CDD505-2E9C-101B-9397-08002B2CF9AE}" pid="5" name="Form">
    <vt:lpwstr/>
  </property>
  <property fmtid="{D5CDD505-2E9C-101B-9397-08002B2CF9AE}" pid="6" name="GroupName">
    <vt:lpwstr/>
  </property>
  <property fmtid="{D5CDD505-2E9C-101B-9397-08002B2CF9AE}" pid="7" name="Legal document">
    <vt:lpwstr/>
  </property>
  <property fmtid="{D5CDD505-2E9C-101B-9397-08002B2CF9AE}" pid="8" name="RedirectURL">
    <vt:lpwstr>, </vt:lpwstr>
  </property>
  <property fmtid="{D5CDD505-2E9C-101B-9397-08002B2CF9AE}" pid="9" name="SiteLink">
    <vt:lpwstr>, </vt:lpwstr>
  </property>
  <property fmtid="{D5CDD505-2E9C-101B-9397-08002B2CF9AE}" pid="10" name="Staff cpmmunication">
    <vt:lpwstr/>
  </property>
  <property fmtid="{D5CDD505-2E9C-101B-9397-08002B2CF9AE}" pid="11" name="TaxCatchAll">
    <vt:lpwstr>76;#com|83bdc641-3514-4745-88bc-62368d5fb7ea;#289;#Powerpoint presentations and templates|17e141b4-62b8-4388-920a-21efa1e74d37;#324;#EESC-2014-05603-00-00-INFO-TRA-EN;#269;#tools|0c11ceb7-d046-4add-b200-45f9cfd3891b;#168;#VIP|01c23c43-8599-4ca6-813e-ab992</vt:lpwstr>
  </property>
  <property fmtid="{D5CDD505-2E9C-101B-9397-08002B2CF9AE}" pid="12" name="TaxKeyword">
    <vt:lpwstr>324;#EESC-2014-05603-00-00-INFO-TRA-EN|413f2271-97e3-4af0-bd91-898717cc438f</vt:lpwstr>
  </property>
  <property fmtid="{D5CDD505-2E9C-101B-9397-08002B2CF9AE}" pid="13" name="TaxKeywordTaxHTField">
    <vt:lpwstr>EESC-2014-05603-00-00-INFO-TRA-EN|413f2271-97e3-4af0-bd91-898717cc438f</vt:lpwstr>
  </property>
  <property fmtid="{D5CDD505-2E9C-101B-9397-08002B2CF9AE}" pid="14" name="_associated-webpart-1">
    <vt:lpwstr/>
  </property>
  <property fmtid="{D5CDD505-2E9C-101B-9397-08002B2CF9AE}" pid="15" name="_associated-webpart-2">
    <vt:lpwstr/>
  </property>
  <property fmtid="{D5CDD505-2E9C-101B-9397-08002B2CF9AE}" pid="16" name="_associated-webpart-3">
    <vt:lpwstr/>
  </property>
  <property fmtid="{D5CDD505-2E9C-101B-9397-08002B2CF9AE}" pid="17" name="_document-date">
    <vt:lpwstr>2014-10-24T00:00:00Z</vt:lpwstr>
  </property>
  <property fmtid="{D5CDD505-2E9C-101B-9397-08002B2CF9AE}" pid="18" name="_grouping-title-de">
    <vt:lpwstr/>
  </property>
  <property fmtid="{D5CDD505-2E9C-101B-9397-08002B2CF9AE}" pid="19" name="_grouping-title-en">
    <vt:lpwstr>PPT</vt:lpwstr>
  </property>
  <property fmtid="{D5CDD505-2E9C-101B-9397-08002B2CF9AE}" pid="20" name="_grouping-title-fr">
    <vt:lpwstr>PPT</vt:lpwstr>
  </property>
  <property fmtid="{D5CDD505-2E9C-101B-9397-08002B2CF9AE}" pid="21" name="_languuage">
    <vt:lpwstr>EN</vt:lpwstr>
  </property>
  <property fmtid="{D5CDD505-2E9C-101B-9397-08002B2CF9AE}" pid="22" name="_title-en">
    <vt:lpwstr/>
  </property>
  <property fmtid="{D5CDD505-2E9C-101B-9397-08002B2CF9AE}" pid="23" name="_webpart-title-en-1">
    <vt:lpwstr/>
  </property>
  <property fmtid="{D5CDD505-2E9C-101B-9397-08002B2CF9AE}" pid="24" name="d">
    <vt:lpwstr/>
  </property>
  <property fmtid="{D5CDD505-2E9C-101B-9397-08002B2CF9AE}" pid="25" name="dispdate">
    <vt:lpwstr>2014-12-09T10:49:10Z</vt:lpwstr>
  </property>
  <property fmtid="{D5CDD505-2E9C-101B-9397-08002B2CF9AE}" pid="26" name="g2425c5008804f7cb2fe4010c175afda">
    <vt:lpwstr>VIP|01c23c43-8599-4ca6-813e-ab992951ac3a</vt:lpwstr>
  </property>
  <property fmtid="{D5CDD505-2E9C-101B-9397-08002B2CF9AE}" pid="27" name="heading">
    <vt:lpwstr/>
  </property>
  <property fmtid="{D5CDD505-2E9C-101B-9397-08002B2CF9AE}" pid="28" name="hf95dd74fc0e41f0b33932063c205763">
    <vt:lpwstr>com|83bdc641-3514-4745-88bc-62368d5fb7ea</vt:lpwstr>
  </property>
  <property fmtid="{D5CDD505-2E9C-101B-9397-08002B2CF9AE}" pid="29" name="ida394f71355495ead9caeab28293ce5">
    <vt:lpwstr>tools|0c11ceb7-d046-4add-b200-45f9cfd3891b</vt:lpwstr>
  </property>
  <property fmtid="{D5CDD505-2E9C-101B-9397-08002B2CF9AE}" pid="30" name="j6ae519af8ff4ad79f25927044b9ccf9">
    <vt:lpwstr/>
  </property>
  <property fmtid="{D5CDD505-2E9C-101B-9397-08002B2CF9AE}" pid="31" name="lang">
    <vt:lpwstr>EN</vt:lpwstr>
  </property>
  <property fmtid="{D5CDD505-2E9C-101B-9397-08002B2CF9AE}" pid="32" name="m8169067114842e98458db69d246d442">
    <vt:lpwstr>Powerpoint presentations and templates|17e141b4-62b8-4388-920a-21efa1e74d37</vt:lpwstr>
  </property>
  <property fmtid="{D5CDD505-2E9C-101B-9397-08002B2CF9AE}" pid="33" name="p9af27973f5041429a6adcd07276722f">
    <vt:lpwstr/>
  </property>
  <property fmtid="{D5CDD505-2E9C-101B-9397-08002B2CF9AE}" pid="34" name="site">
    <vt:lpwstr>76;#com|83bdc641-3514-4745-88bc-62368d5fb7ea</vt:lpwstr>
  </property>
  <property fmtid="{D5CDD505-2E9C-101B-9397-08002B2CF9AE}" pid="35" name="subsite">
    <vt:lpwstr>168;#VIP|01c23c43-8599-4ca6-813e-ab992951ac3a</vt:lpwstr>
  </property>
  <property fmtid="{D5CDD505-2E9C-101B-9397-08002B2CF9AE}" pid="36" name="titel">
    <vt:lpwstr/>
  </property>
  <property fmtid="{D5CDD505-2E9C-101B-9397-08002B2CF9AE}" pid="37" name="title-de">
    <vt:lpwstr/>
  </property>
  <property fmtid="{D5CDD505-2E9C-101B-9397-08002B2CF9AE}" pid="38" name="title-en">
    <vt:lpwstr/>
  </property>
  <property fmtid="{D5CDD505-2E9C-101B-9397-08002B2CF9AE}" pid="39" name="titre">
    <vt:lpwstr/>
  </property>
  <property fmtid="{D5CDD505-2E9C-101B-9397-08002B2CF9AE}" pid="40" name="titre1">
    <vt:lpwstr>PPT</vt:lpwstr>
  </property>
  <property fmtid="{D5CDD505-2E9C-101B-9397-08002B2CF9AE}" pid="41" name="tooltip">
    <vt:lpwstr/>
  </property>
  <property fmtid="{D5CDD505-2E9C-101B-9397-08002B2CF9AE}" pid="42" name="topic">
    <vt:lpwstr>289;#Powerpoint presentations and templates|17e141b4-62b8-4388-920a-21efa1e74d37</vt:lpwstr>
  </property>
  <property fmtid="{D5CDD505-2E9C-101B-9397-08002B2CF9AE}" pid="43" name="webpart">
    <vt:lpwstr>269;#tools|0c11ceb7-d046-4add-b200-45f9cfd3891b</vt:lpwstr>
  </property>
  <property fmtid="{D5CDD505-2E9C-101B-9397-08002B2CF9AE}" pid="44" name="webpart-description-fr">
    <vt:lpwstr/>
  </property>
</Properties>
</file>