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0D8-75F7-4F10-A4BE-A74C1799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104-445A-457E-897C-F84B5592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656-222E-4D44-BFC6-D184B863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B51-F0BA-4F3D-9998-9C46E09B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DE9C-AB28-48E4-8ED1-4951C9A3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6EA5-A049-4A06-88C8-CDAAE9A6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9472-74BA-4698-A478-CD7ECADD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A144-BEC5-4802-A9EE-BE93F257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6DF0-E941-45AA-B856-EB65A8BB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F76D-B3B1-40C8-B76A-00A0806D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E3FB-627C-4A88-957C-234F598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633-5785-44F7-94FB-5F63CC39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6581-1941-43AF-9E1A-C289A6AB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FD28-CBB3-44FE-87BE-57C0314E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9B81-4412-4B88-9DDC-25A661AA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9D22-D202-4281-8487-01BC7D9B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E8B4-0165-45B4-92E6-78D8C557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678E-63DB-48FC-B0BF-AAC00826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188-B6ED-4A46-9C5D-73BEFDC1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5AF-F57D-4DCF-A7CF-E22E57E9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B62-1BFC-4BB2-A89D-F38074FF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5B6-7BF8-45D3-ACCE-35148ECF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341-3C1C-4599-8D41-CBC5BC95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AE0-6AE3-40D5-B64F-5684FF1F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43F1-1C9A-4C42-BA0B-0765B97AC1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1523880" cy="49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473A-FCF1-4BE4-8FCB-7237274CD9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1f497d"/>
                </a:solidFill>
                <a:latin typeface="Calibri"/>
              </a:rPr>
              <a:t>Communication support by the EU Committee of the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4230" t="13774" r="13607" b="45664"/>
          <a:stretch/>
        </p:blipFill>
        <p:spPr>
          <a:xfrm>
            <a:off x="468360" y="231840"/>
            <a:ext cx="4716360" cy="1309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5508720" y="351000"/>
            <a:ext cx="310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1f497d"/>
                </a:solidFill>
                <a:latin typeface="Calibri"/>
              </a:rPr>
              <a:t>Storyte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Inspiring case studies from regions and 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Editorial articles and (video) inter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Shared on CoR and EYD2015 web por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025800" y="3395520"/>
            <a:ext cx="61545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1f497d"/>
                </a:solidFill>
                <a:latin typeface="Calibri"/>
              </a:rPr>
              <a:t>Cooperation with other stakehol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Provide input for CoR communication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Liaise with CoR members and national delegations, involve them in (local)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Make use of regions’ and cities’ (social) media net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1f497d"/>
                </a:solidFill>
                <a:latin typeface="Calibri"/>
              </a:rPr>
              <a:t>Info and cont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lra4dev.cor.europa.e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RA4DEV@cor.europa.eu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1f497d"/>
                </a:solidFill>
                <a:latin typeface="Calibri"/>
              </a:rPr>
              <a:t>EU Committee of the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Assembly of Europe’s regions and 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Communication missio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In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Conn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Facili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Insp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L:\COR BUILDING\batiment\080207 JDE 2.jpg"/>
          <p:cNvPicPr/>
          <p:nvPr/>
        </p:nvPicPr>
        <p:blipFill>
          <a:blip r:embed="rId1"/>
          <a:srcRect l="0" t="0" r="44488" b="0"/>
          <a:stretch/>
        </p:blipFill>
        <p:spPr>
          <a:xfrm>
            <a:off x="6804000" y="2781360"/>
            <a:ext cx="2333520" cy="279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hemy"/>
          <p:cNvPicPr/>
          <p:nvPr/>
        </p:nvPicPr>
        <p:blipFill>
          <a:blip r:embed="rId2"/>
          <a:stretch/>
        </p:blipFill>
        <p:spPr>
          <a:xfrm>
            <a:off x="4500720" y="4562640"/>
            <a:ext cx="337644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1f497d"/>
                </a:solidFill>
                <a:latin typeface="Calibri"/>
              </a:rPr>
              <a:t>CoR and development co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Political prio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Global role for all levels of gover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Trend of decentralisation inside and outside 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EU consultativ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E.g. upcoming opinions 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«LRAs, Fair Trade and development»</a:t>
            </a:r>
            <a:br>
              <a:rPr sz="2800"/>
            </a:b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&amp; «Post-2015 Development Agenda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http://lra4dev.cor.europa.eu/portal/EN/coopmonth/PublishingImages/Small%20Coulaines%20picture.JPG"/>
          <p:cNvPicPr/>
          <p:nvPr/>
        </p:nvPicPr>
        <p:blipFill>
          <a:blip r:embed="rId1"/>
          <a:stretch/>
        </p:blipFill>
        <p:spPr>
          <a:xfrm>
            <a:off x="6443640" y="3573360"/>
            <a:ext cx="2700360" cy="266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lra4dev.cor.europa.eu/portal/SiteCollectionImages/6350183165_685c1974e6_z.jpg"/>
          <p:cNvPicPr/>
          <p:nvPr/>
        </p:nvPicPr>
        <p:blipFill>
          <a:blip r:embed="rId2"/>
          <a:stretch/>
        </p:blipFill>
        <p:spPr>
          <a:xfrm>
            <a:off x="3192480" y="4905360"/>
            <a:ext cx="32511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1f497d"/>
                </a:solidFill>
                <a:latin typeface="Calibri"/>
              </a:rPr>
              <a:t>CoR communication support EYD20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Key event: Assises of Decentralised 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Additional suppo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Online portal, newsletters and </a:t>
            </a:r>
            <a:br>
              <a:rPr sz="2800"/>
            </a:b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other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Storyte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T:\D2\Photos\CoR 20 programme\front page.jpg"/>
          <p:cNvPicPr/>
          <p:nvPr/>
        </p:nvPicPr>
        <p:blipFill>
          <a:blip r:embed="rId1"/>
          <a:stretch/>
        </p:blipFill>
        <p:spPr>
          <a:xfrm>
            <a:off x="4500720" y="4602240"/>
            <a:ext cx="3384360" cy="2255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T:\TEMP Proceedings EuroPCom\General\europcom_online.JPG"/>
          <p:cNvPicPr/>
          <p:nvPr/>
        </p:nvPicPr>
        <p:blipFill>
          <a:blip r:embed="rId2"/>
          <a:stretch/>
        </p:blipFill>
        <p:spPr>
          <a:xfrm>
            <a:off x="7128000" y="2565360"/>
            <a:ext cx="201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1f497d"/>
                </a:solidFill>
                <a:latin typeface="Calibri"/>
              </a:rPr>
              <a:t>Assises of Decentralised Coope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L:\photos 2013\130409 3rd Assises of Decentralised Cooperation\PLENARY SESSION 2\130410_COR_ASSISES_PLENARY_084.JPG"/>
          <p:cNvPicPr/>
          <p:nvPr/>
        </p:nvPicPr>
        <p:blipFill>
          <a:blip r:embed="rId1"/>
          <a:stretch/>
        </p:blipFill>
        <p:spPr>
          <a:xfrm>
            <a:off x="5946840" y="3141720"/>
            <a:ext cx="3197160" cy="2131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L:\photos 2013\130409 3rd Assises of Decentralised Cooperation\RT 4 - VMA1\130409_COR_RT4_026.JPG"/>
          <p:cNvPicPr/>
          <p:nvPr/>
        </p:nvPicPr>
        <p:blipFill>
          <a:blip r:embed="rId2"/>
          <a:stretch/>
        </p:blipFill>
        <p:spPr>
          <a:xfrm>
            <a:off x="3780000" y="4737240"/>
            <a:ext cx="3181320" cy="2120760"/>
          </a:xfrm>
          <a:prstGeom prst="rect">
            <a:avLst/>
          </a:prstGeom>
          <a:ln w="0">
            <a:noFill/>
          </a:ln>
        </p:spPr>
      </p:pic>
      <p:sp>
        <p:nvSpPr>
          <p:cNvPr id="101" name="Content Placeholder 2"/>
          <p:cNvSpPr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  <a:ea typeface="Arial"/>
              </a:rPr>
              <a:t>1-2 June 2015, Bruss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  <a:ea typeface="Arial"/>
              </a:rPr>
              <a:t>800-1000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  <a:ea typeface="Arial"/>
              </a:rPr>
              <a:t>Politicians and experts from</a:t>
            </a: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Calibri"/>
                <a:ea typeface="Arial"/>
              </a:rPr>
              <a:t>local and regional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pprox. 100 representa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rom developing partners</a:t>
            </a:r>
            <a:r>
              <a:rPr b="0" lang="fr-BE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1f497d"/>
                </a:solidFill>
                <a:latin typeface="Calibri"/>
              </a:rPr>
              <a:t>Assises of Decentralised Coope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  <a:ea typeface="Arial"/>
              </a:rPr>
              <a:t>Plenary sessions and 11 workshops / round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  <a:ea typeface="Arial"/>
              </a:rPr>
              <a:t>Thematic strand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Post-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Cooperation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Urban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EC strategy for L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Energy / COP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L:\photos 2011\110329 2nd Assises\JDE62\IMG_9185.JPG"/>
          <p:cNvPicPr/>
          <p:nvPr/>
        </p:nvPicPr>
        <p:blipFill>
          <a:blip r:embed="rId1"/>
          <a:stretch/>
        </p:blipFill>
        <p:spPr>
          <a:xfrm>
            <a:off x="5738760" y="2525760"/>
            <a:ext cx="3405240" cy="2270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L:\photos 2011\110329 2nd Assises\VMA1\IMG_9298.JPG"/>
          <p:cNvPicPr/>
          <p:nvPr/>
        </p:nvPicPr>
        <p:blipFill>
          <a:blip r:embed="rId2"/>
          <a:stretch/>
        </p:blipFill>
        <p:spPr>
          <a:xfrm>
            <a:off x="4140360" y="4581360"/>
            <a:ext cx="3120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1f497d"/>
                </a:solidFill>
                <a:latin typeface="Calibri"/>
              </a:rPr>
              <a:t>Other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CoR participation in official EYD2015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10th anniversary Observatorio (EU Latin America decentralised cooperation)</a:t>
            </a:r>
            <a:r>
              <a:rPr b="0" lang="fr-BE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(CoR, Mar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Local Economic Development Forum (Turin, Octob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OPEN DAYS (CoR/DG REGIO, Octob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1f497d"/>
                </a:solidFill>
                <a:latin typeface="Calibri"/>
              </a:rPr>
              <a:t>Online sup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Dedicated web portal for Decentralised Cooperat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GB" sz="3200" spc="-1" strike="noStrike">
                <a:solidFill>
                  <a:srgbClr val="4f81bd"/>
                </a:solidFill>
                <a:latin typeface="Calibri"/>
              </a:rPr>
              <a:t>lra4dev.cor.europa.eu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022480" y="2852640"/>
            <a:ext cx="7120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1f497d"/>
                </a:solidFill>
                <a:latin typeface="Calibri"/>
              </a:rPr>
              <a:t>Online sup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libri"/>
              </a:rPr>
              <a:t>Country-specific websites and e-newsletters «Europe in my region» </a:t>
            </a:r>
            <a:r>
              <a:rPr b="0" lang="fr-BE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fr-BE" sz="3000" spc="-1" strike="noStrike">
                <a:solidFill>
                  <a:srgbClr val="000000"/>
                </a:solidFill>
                <a:latin typeface="Calibri"/>
              </a:rPr>
              <a:t>cor.europa.eu/en/regions</a:t>
            </a:r>
            <a:r>
              <a:rPr b="0" lang="fr-BE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023920" y="2852640"/>
            <a:ext cx="7120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5T12:10:22Z</dcterms:created>
  <dc:creator>Tom De Smedt</dc:creator>
  <dc:description/>
  <dc:language>en-US</dc:language>
  <cp:lastModifiedBy>Tom De Smedt</cp:lastModifiedBy>
  <dcterms:modified xsi:type="dcterms:W3CDTF">2014-12-08T09:27:55Z</dcterms:modified>
  <cp:revision>12</cp:revision>
  <dc:subject/>
  <dc:title>PowerPoint Presentation</dc:title>
</cp:coreProperties>
</file>