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942-E202-4ECC-B94A-55646BF0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01C-0B40-4FCD-8A95-0C0D7F74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B41-EECD-4C78-B04E-A64311F8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A09-685F-4DBA-982D-0ED4E542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84AB-28DB-47B5-A18E-977DCA9E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9906-B795-46DE-A1FF-0C0EB8B7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8C59-1B0C-439C-B6C3-CE58E76A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3D0B-E9B6-4CDA-95B3-75846533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8A0E-E83A-4C53-90B9-FA4267E0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BEDA-F2CD-4C88-A84A-BE87B485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B3F3-B862-43FD-8F60-95D7FA7D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DED-88AD-4AAE-98FE-113CD798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5A3F-2E63-4805-9C98-8D639830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42D4-2B43-4A9F-AE30-38354E0F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98AF-0573-470B-B080-23D53E34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6CA7-00DA-4AD1-83C3-28714D84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6E54-E5BB-4B55-A6AE-FE8BA73E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995-730A-41D1-AA32-4513D19F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873-E9D6-464D-AD4C-090E9C0C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32D-3881-47B9-B633-89B72E22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E1A-46E4-4D25-B25A-3AEBF7E9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676-CE7E-4515-884C-B9206877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755-6938-4E6C-896C-75AEAEE6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04C-2063-4AB0-84CD-7A1C5FFC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7A9D-B06C-4AC2-AABF-E13C1788082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7DE5-A7B2-49C2-8540-68447083BDB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ramirez@asat.org.pe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1196640"/>
            <a:ext cx="6985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El Financiamiento de los Gobiernos Locales </a:t>
            </a:r>
            <a:br>
              <a:rPr sz="3200"/>
            </a:b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La Experiencia Peruan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99640" y="314172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ésar Ramírez Luna Victo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cramirez@asat.org.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351640" cy="3384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05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¿ Cómo se perciben los contribuyentes a sí mismo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40720" cy="3294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440" y="4759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¿Qué piensan los contribuyentes de los funcionario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4086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Caso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95280" y="2008080"/>
            <a:ext cx="8353440" cy="3726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Caso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41440" y="1862280"/>
            <a:ext cx="8207280" cy="3654360"/>
          </a:xfrm>
          <a:prstGeom prst="rect">
            <a:avLst/>
          </a:prstGeom>
          <a:ln w="0">
            <a:noFill/>
          </a:ln>
        </p:spPr>
      </p:pic>
      <p:sp>
        <p:nvSpPr>
          <p:cNvPr id="160" name="1 Rectángulo"/>
          <p:cNvSpPr/>
          <p:nvPr/>
        </p:nvSpPr>
        <p:spPr>
          <a:xfrm>
            <a:off x="395280" y="40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uchas veces los errores nos pueden parecer simplemente como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3:46:20Z</dcterms:created>
  <dc:creator>cramirez</dc:creator>
  <dc:description/>
  <dc:language>en-US</dc:language>
  <cp:lastModifiedBy>Cesar Ramirez</cp:lastModifiedBy>
  <dcterms:modified xsi:type="dcterms:W3CDTF">2013-06-11T20:50:14Z</dcterms:modified>
  <cp:revision>17</cp:revision>
  <dc:subject/>
  <dc:title>Los Servicios de Administración Tributaria - SAT</dc:title>
</cp:coreProperties>
</file>