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20B-0C07-4E33-BC43-7C0BAE4C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605-EA4A-4FC2-889E-1B14722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584-4F12-45D6-A6B8-04113C6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CA7-D7E8-48E8-9196-75054A53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BE5-C6EB-4C6F-9DB2-9D20D7C4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9F66-0A6F-4CD8-A0D1-4B945F11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823E-C6F8-4891-A3EE-298515E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ABEA-EB5A-4FCD-A5F7-193995BD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19C0-B8B9-4D27-9C85-9B4AE847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D9D-89B6-4906-B1A2-EB00176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11FE-7AC4-488F-A950-AA114F53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74F-42C2-4EC7-ACAD-18F3CE63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0518-C2B2-4BC2-A8F1-8748EB5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DAC-87A7-4C2C-A8D7-C004326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0F8-2603-4E31-BC94-D2A146EC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7E2A-D883-4BBA-9782-991BDA00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AB7-D0DE-481A-B709-702E2586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E9B-CE0A-4E4D-BB64-801776E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2F7-9396-4150-B790-BD0E57A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520-07E8-4F77-9CE1-42FE43C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3AA-48B6-494D-9906-9ED1D69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70F-0BBD-4EF1-97A8-22733A9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2A1-A7F3-4846-AB2E-90411BB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136-EBDB-4E66-BB02-68095E6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B4D-8F41-4369-BEAA-60AA0B47A2E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CC0D-BE7F-4F3D-8B6C-F4D5C8481D6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ramirez@asat.org.pe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El Financiamiento de los Gobiernos Locales </a:t>
            </a:r>
            <a:br>
              <a:rPr sz="3200"/>
            </a:b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La Experiencia Peruan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ésar Ramírez Luna Vic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ramirez@asat.org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38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0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¿ Cómo se perciben los contribuyentes a sí mismo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3294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440" y="4759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¿Qué piensan los contribuyentes de los funcionario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08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aso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95280" y="2008080"/>
            <a:ext cx="8353440" cy="372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aso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41440" y="1862280"/>
            <a:ext cx="82072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1 Rectángulo"/>
          <p:cNvSpPr/>
          <p:nvPr/>
        </p:nvSpPr>
        <p:spPr>
          <a:xfrm>
            <a:off x="395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chas veces los errores nos pueden parecer simplemente com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3:46:20Z</dcterms:created>
  <dc:creator>cramirez</dc:creator>
  <dc:description/>
  <dc:language>en-US</dc:language>
  <cp:lastModifiedBy>Cesar Ramirez</cp:lastModifiedBy>
  <dcterms:modified xsi:type="dcterms:W3CDTF">2013-06-11T20:50:14Z</dcterms:modified>
  <cp:revision>17</cp:revision>
  <dc:subject/>
  <dc:title>Los Servicios de Administración Tributaria - SAT</dc:title>
</cp:coreProperties>
</file>