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86184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11"/>
          </p:nvPr>
        </p:nvSpPr>
        <p:spPr>
          <a:xfrm>
            <a:off x="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3272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1A44CC-8C6F-43F4-9EB0-F73A2A147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10E72-A35B-4BAD-B137-250A40EBD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8C8B1-55E3-45D1-8603-B818A014A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60400" y="747720"/>
            <a:ext cx="4957920" cy="371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570B5-2C17-4D5D-A5F2-781ADF3FC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CO- Bernard San Emeterio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778200" y="9433080"/>
            <a:ext cx="2889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EF8F3-8614-4372-9E2A-E2D2D7C7D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DFC3-B390-4511-AF6D-2ACE9B7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B663-AC6F-4A53-B9B8-C75CE5F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8E3E-264D-471B-BD4C-CDEC4BD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FE29-E596-443B-B944-C400AEB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82DA-EE9C-4F9C-8DBC-9BC3952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AD3E-798C-434F-88E5-1C3748F0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4256-0A9E-4DA8-BBFB-99ABAD6D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E8D9-9E82-4951-BBEC-BF5E6A2D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34B9-8C04-4974-8E7F-94CFC6D0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73A-6CDA-4203-9ADE-F0C3EC86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D83-3F68-4E2A-B93C-8426998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C4B-E410-45E9-B623-BCA9AA05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BF7-EA0C-49CC-B449-18C49EE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70F-74DB-4471-ACC3-680B722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B44-9D08-4CE1-AEE5-5468F94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1EA-E6F8-4438-BE26-CF54C3B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B05-27FF-4813-9B9B-D656072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02A-0963-4731-B179-16EDE35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89B-CE46-4670-93DB-DFB6BFB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201-2D06-4004-8125-C74D777D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867-1C0F-4CEB-A23A-086A7303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35C-1ADC-4D06-BD99-F590CDF1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582-1951-4AEF-9226-09853038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240D-5DE8-4D28-8D74-28E2EAD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56A-2709-4346-8F1A-1B5BD41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F2FC-4D63-492E-A128-37ABAF1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148-0FFD-4D03-AF01-0E81E69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2B54-53F5-4BD4-ACAF-D07A28A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429B-4687-445A-854D-5763EE4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BE13-7343-43E8-A08A-CAF07EE4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A6E4-C452-40B1-9937-E1FEFB97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0BF-4B72-466E-8039-7E27F20E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87D7-F985-4408-ABCD-52BCFF01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578D-48FD-4EB0-89E3-ABA84BF0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18CE-CC3D-4450-ABDA-58F59234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4B56-93EA-4F23-85EF-FC04109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11C-CAC8-479C-B9A7-0D364B5134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4F4-147A-4A72-8B76-31A242DFCA3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AAE-5B41-4641-ACB4-47BBCAABD4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5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9" name="Picture 10" descr="logoEC.jpg"/>
          <p:cNvPicPr/>
          <p:nvPr/>
        </p:nvPicPr>
        <p:blipFill>
          <a:blip r:embed="rId4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EEAS_P_TXT_XL.jpg"/>
          <p:cNvPicPr/>
          <p:nvPr/>
        </p:nvPicPr>
        <p:blipFill>
          <a:blip r:embed="rId5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logoEC.jpg"/>
          <p:cNvPicPr/>
          <p:nvPr/>
        </p:nvPicPr>
        <p:blipFill>
          <a:blip r:embed="rId2"/>
          <a:stretch/>
        </p:blipFill>
        <p:spPr>
          <a:xfrm>
            <a:off x="3132000" y="404640"/>
            <a:ext cx="1113120" cy="77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EEAS_P_TXT_XL.jpg"/>
          <p:cNvPicPr/>
          <p:nvPr/>
        </p:nvPicPr>
        <p:blipFill>
          <a:blip r:embed="rId3"/>
          <a:stretch/>
        </p:blipFill>
        <p:spPr>
          <a:xfrm>
            <a:off x="4572000" y="260280"/>
            <a:ext cx="2124000" cy="9190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8"/>
          <p:cNvSpPr/>
          <p:nvPr/>
        </p:nvSpPr>
        <p:spPr>
          <a:xfrm>
            <a:off x="0" y="1243080"/>
            <a:ext cx="9144000" cy="44280"/>
          </a:xfrm>
          <a:prstGeom prst="rect">
            <a:avLst/>
          </a:prstGeom>
          <a:solidFill>
            <a:srgbClr val="1f49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4427640" y="6742080"/>
            <a:ext cx="649080" cy="115920"/>
          </a:xfrm>
          <a:prstGeom prst="rect">
            <a:avLst/>
          </a:prstGeom>
          <a:solidFill>
            <a:srgbClr val="2f527d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8D97-C14D-4207-8E93-C9555E7779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F85-6D6A-4089-BD05-FB5A6ADB1B21}" type="slidenum">
              <a:rPr b="1" lang="en-GB" sz="7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cfe06"/>
                </a:solidFill>
                <a:latin typeface="Verdana"/>
              </a:rPr>
              <a:t>Synthesis HoMs reports on Joint Programming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cfe06"/>
                </a:solidFill>
                <a:latin typeface="Verdana"/>
              </a:rPr>
              <a:t>26 April 2013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cfe06"/>
                </a:solidFill>
                <a:latin typeface="Verdana"/>
              </a:rPr>
              <a:t>Technical Seminar on EU Programming and Joint Programming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DEVCO/A5 Aid and Development Effectiveness and Financ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cfe06"/>
                </a:solidFill>
                <a:latin typeface="Verdana"/>
              </a:rPr>
              <a:t>EEAS/VI.B.2 Development Cooperation Coordination Divis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3657600" y="3138480"/>
            <a:ext cx="1828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795840" y="3181320"/>
            <a:ext cx="155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94" name="Picture 13" descr="logoEC.jpg"/>
          <p:cNvPicPr/>
          <p:nvPr/>
        </p:nvPicPr>
        <p:blipFill>
          <a:blip r:embed="rId1"/>
          <a:stretch/>
        </p:blipFill>
        <p:spPr>
          <a:xfrm>
            <a:off x="2916360" y="189000"/>
            <a:ext cx="1722240" cy="1197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EEAS_P_TXT_S.jpg"/>
          <p:cNvPicPr/>
          <p:nvPr/>
        </p:nvPicPr>
        <p:blipFill>
          <a:blip r:embed="rId2"/>
          <a:stretch/>
        </p:blipFill>
        <p:spPr>
          <a:xfrm>
            <a:off x="4788000" y="206280"/>
            <a:ext cx="184140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Windows for synchronisation/JP per ye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1874880"/>
          <a:ext cx="8507520" cy="4722840"/>
        </p:xfrm>
        <a:graphic>
          <a:graphicData uri="http://schemas.openxmlformats.org/drawingml/2006/table">
            <a:tbl>
              <a:tblPr/>
              <a:tblGrid>
                <a:gridCol w="1413000"/>
                <a:gridCol w="1412640"/>
                <a:gridCol w="1441440"/>
                <a:gridCol w="1413000"/>
                <a:gridCol w="1414440"/>
                <a:gridCol w="1413000"/>
              </a:tblGrid>
              <a:tr h="363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2014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confirm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r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g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iv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ura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Myanm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dov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ma/ Myanmar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aragu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or Lest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te d'Ivoire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rra Leon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alvado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3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w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s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occ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ambiqu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zan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Sudan phase 2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tnam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5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84428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most JP countrie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all MS join J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en as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ore challenging in donor-crowded countries, but also of higher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Non-EU donors (Norway, Switzerland; Canada, United States, Japan interested)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cipate in a number of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Partn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enerally supportive,</a:t>
            </a: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e involved from the beginning as far a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ts val="2999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nabling factors for J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EU accountable on its JP commitment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international community (Busan deliver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Lisbon treat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calls for complementarity and coordination; mandate for EU Delegations to coordinate EU development 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Agenda for Chang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 common development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New global realitie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power shift and multiple crises) push EU to work toge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viction within EU that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JP will lead to more efficiency, higher impact, visibility and effective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Conceptual approach now generally well underst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vestment of EU and MS</a:t>
            </a:r>
            <a:r>
              <a:rPr b="1" lang="en-GB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 operational follow-up at HQ and field level is absolutely ke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; including better and continuous communication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Headquarters instructions from HQs to HoMs/HoC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ometimes need to be improv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000" y="1916280"/>
            <a:ext cx="8435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Verdana"/>
              </a:rPr>
              <a:t>Lessons from field missions and synthesis of HoMs' repo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with the assess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responses fulfil your expect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 you agree that this will be the final list of JP countri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process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jority of reports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rts seem to be backed by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erious debate and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all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quality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ing ke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good understandin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issue of JP (thanks to clear instructions from HQ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JP HoMs reports: fact &amp; fig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2 countri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 JP already started before and no HoMs reports required (Haiti and South Su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12 HoMs report received in 201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for Mali update reques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ing EU DGs meeting </a:t>
            </a: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oMs reports requested from 41 other countr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EEAS/DEVCO note Dec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o far 36 HoMs reports received in 2013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shared with 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5 reports still pend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rmenia, Jordan, Libya and Somalia (only notes from DEL); Timor Le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tate of Play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(of 55 countries in to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40 Positive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0 new countries!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+ 10 countries agreed in 2012 (incl. Ma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13 To be further reviewed or to be received: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to be reviewed: Algeria, El Salvador, oPt, Vietnam, Zimbabwe, Afghanistan, Moldova, Tunisia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orts to be receiv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2 No's 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mbia (revisit at end of election cycle), Ukra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000" y="2060280"/>
            <a:ext cx="84358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Bangladesh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political analysis started and shared EU vis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thiop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Joint Cooperation Strategy signed end of January 2013; Roadmap with next steps agr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han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builds on donor wide Country Compact; joint Multi-annual Indicative Program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Guatemala and Lao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JP document submitted to HQs in December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Mali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ministers reconfirmed commitment on 26 Feb 2013; two phase approach; updated HoMs report d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Rwand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documents will be submitted end of Ma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Examples of Progress so fa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4920" y="2406240"/>
            <a:ext cx="84358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Haiti, South Sudan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P on-going, moving to second generation of 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Senegal, Namib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and full JP in prepar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ote d'Ivoire, Togo, Burundi, Chad, Bolivia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analysis d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Cambodia, Paraguay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towards JP after this year's el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Egypt, Kenya, Liberia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t response in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'Country type'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000" y="2060640"/>
            <a:ext cx="8435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M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LDC/LIC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Fragile states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2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(based on World Bank list +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Regional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844640"/>
            <a:ext cx="8435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West-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Central Africa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East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outhern Africa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Asia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Latin America &amp; Caribbean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Neighbourhood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ＭＳ Ｐゴシック"/>
              </a:rPr>
              <a:t>Synchro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000" y="1773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everal countries </a:t>
            </a: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ynchronisation will take 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Verdana"/>
              </a:rPr>
              <a:t>Still remains challenge in others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. Uganda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19280" y="3068640"/>
          <a:ext cx="5545080" cy="331308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657360"/>
                <a:gridCol w="657000"/>
                <a:gridCol w="657360"/>
                <a:gridCol w="655560"/>
                <a:gridCol w="657360"/>
                <a:gridCol w="946080"/>
              </a:tblGrid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Bernard San Emeterio</dc:creator>
  <dc:description/>
  <dc:language>en-US</dc:language>
  <cp:lastModifiedBy>GERBRANDIJ Alex (EEAS)</cp:lastModifiedBy>
  <cp:lastPrinted>2013-04-25T07:10:20Z</cp:lastPrinted>
  <dcterms:modified xsi:type="dcterms:W3CDTF">2013-04-30T12:50:48Z</dcterms:modified>
  <cp:revision>1216</cp:revision>
  <dc:subject/>
  <dc:title>Diapositiva 1</dc:title>
</cp:coreProperties>
</file>