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861840" y="74772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11"/>
          </p:nvPr>
        </p:nvSpPr>
        <p:spPr>
          <a:xfrm>
            <a:off x="0" y="9432720"/>
            <a:ext cx="288936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12"/>
          </p:nvPr>
        </p:nvSpPr>
        <p:spPr>
          <a:xfrm>
            <a:off x="3778200" y="9432720"/>
            <a:ext cx="288936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447330-28C4-476A-816A-CB8D1A1BC0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77820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49140F-FE1F-412C-9152-B8C526D45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77820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0B53E9-411F-4685-900C-C65032220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860400" y="747720"/>
            <a:ext cx="4957920" cy="3719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77820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733018-3BB2-4D97-96D2-51868CF84F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6360" y="4718160"/>
            <a:ext cx="5335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6"/>
          <p:cNvSpPr/>
          <p:nvPr/>
        </p:nvSpPr>
        <p:spPr>
          <a:xfrm>
            <a:off x="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77820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F78BFB-A473-41D5-A8EF-8DF18B6A68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66360" y="4718160"/>
            <a:ext cx="5335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429A0-5519-478A-B2D8-E31DEF65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DE07-54C2-4BED-BE43-8C5A4E32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06938-086C-45CF-A177-A4BD827D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22225-1A30-48E4-90C3-023B7E06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2A810-3A0D-4435-B7C7-A2931B8B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646C1-9FC7-41C5-A52B-E1153953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6B33D-F49C-486F-AC10-251AD146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0F13-7052-4D1D-8BA4-9E22BDEE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93D5B-C96C-4DF8-8D95-A5B34797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C40-3E15-4A7B-9C82-D58B2B75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7D0-4E0E-48BE-8A4F-5405C525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64A-02C8-49CB-AD6C-71A72864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C64-E9FC-4A9C-9BBC-840AF810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319-2BB8-4869-951A-6FF9EE08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7F4-BBB3-4437-9D22-C2544620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F2A-EE70-4C6A-B0BB-98D54FBE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CC2-E1A1-4185-8B8E-2DB9238E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1F2-6F5C-4657-A3F8-371546C9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0C4-B65B-411F-A83D-66CAED10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A7D-1560-4489-A70D-00DDF62E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714-B0F2-44F8-B4C2-919E99D7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C7A6-26CA-4503-9BD6-A1E4E1D3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9FD9-1E8E-4D10-8374-4E212A8B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EC01-6E2A-44B0-8174-171B8FA9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3AA4-DC77-478C-A462-1B070F3A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D2C9-5ADF-4F2D-B11A-A203C53B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805B-B2E2-4193-8D66-A0E6F3C5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5B9F-0F60-45B9-8969-050D2018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FB63-16B6-4CC5-8A67-3B4CB4FB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ACA3-A7E2-4CDF-A5B7-F368661C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7431-5A8B-48F8-98F4-6A475947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3732-7043-4A86-9299-E632F049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D47F-1AF4-4D65-B9D2-B1FEB056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C208A-EDBE-460E-9B04-25E72B3F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0786D-C921-4B28-8E1E-722182C7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1A77C-9662-42E9-BA4C-31D49AD3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5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6B96-DD80-4493-9CE6-00292CC880F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DE27-5519-4122-B2FC-A00A5E7D66D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E9A0-F6E4-4AE7-A27D-4C151037D9F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5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9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D40D-34FA-46EA-BC5B-EFAE5EE93EF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18A4-EAF1-45F8-B959-93EDFA75F7C9}" type="slidenum">
              <a:rPr b="1" lang="en-GB" sz="7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cfe06"/>
                </a:solidFill>
                <a:latin typeface="Verdana"/>
              </a:rPr>
              <a:t>Synthesis HoMs reports on Joint Programming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cfe06"/>
                </a:solidFill>
                <a:latin typeface="Verdana"/>
              </a:rPr>
              <a:t>26 April 2013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cfe06"/>
                </a:solidFill>
                <a:latin typeface="Verdana"/>
              </a:rPr>
              <a:t>Technical Seminar on EU Programming and Joint Programming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cfe06"/>
                </a:solidFill>
                <a:latin typeface="Verdana"/>
              </a:rPr>
              <a:t>DEVCO/A5 Aid and Development Effectiveness and Financing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cfe06"/>
                </a:solidFill>
                <a:latin typeface="Verdana"/>
              </a:rPr>
              <a:t>EEAS/VI.B.2 Development Cooperation Coordination Divis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2" name="AutoShape 15"/>
          <p:cNvSpPr/>
          <p:nvPr/>
        </p:nvSpPr>
        <p:spPr>
          <a:xfrm>
            <a:off x="3657600" y="3138480"/>
            <a:ext cx="1828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3" name="AutoShape 17"/>
          <p:cNvSpPr/>
          <p:nvPr/>
        </p:nvSpPr>
        <p:spPr>
          <a:xfrm>
            <a:off x="3795840" y="3181320"/>
            <a:ext cx="1552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94" name="Picture 13" descr="logoEC.jpg"/>
          <p:cNvPicPr/>
          <p:nvPr/>
        </p:nvPicPr>
        <p:blipFill>
          <a:blip r:embed="rId1"/>
          <a:stretch/>
        </p:blipFill>
        <p:spPr>
          <a:xfrm>
            <a:off x="2916360" y="189000"/>
            <a:ext cx="1722240" cy="1197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4" descr="EEAS_P_TXT_S.jpg"/>
          <p:cNvPicPr/>
          <p:nvPr/>
        </p:nvPicPr>
        <p:blipFill>
          <a:blip r:embed="rId2"/>
          <a:stretch/>
        </p:blipFill>
        <p:spPr>
          <a:xfrm>
            <a:off x="4788000" y="206280"/>
            <a:ext cx="1841400" cy="12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Windows for synchronisation/JP per ye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57200" y="1874880"/>
          <a:ext cx="8507520" cy="4722840"/>
        </p:xfrm>
        <a:graphic>
          <a:graphicData uri="http://schemas.openxmlformats.org/drawingml/2006/table">
            <a:tbl>
              <a:tblPr/>
              <a:tblGrid>
                <a:gridCol w="1413000"/>
                <a:gridCol w="1412640"/>
                <a:gridCol w="1441440"/>
                <a:gridCol w="1413000"/>
                <a:gridCol w="1414440"/>
                <a:gridCol w="1413000"/>
              </a:tblGrid>
              <a:tr h="3636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2014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e confirm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gladesh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ros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ghanista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ivi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odi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ger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iv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gladesh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rg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nduras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i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ma/Myanm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i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han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dov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undi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kina Faso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temal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eri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od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ma/ Myanmar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ti phase 3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aragu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or Lest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undi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al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guay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ôte d'Ivoir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d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ilippines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wand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ôte d'Ivoire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egal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hiop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rra Leon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han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Salvado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 Sudan phase 3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temal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hiopi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go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ti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os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awi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os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uritan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er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occo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i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zambiqu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ib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ge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guay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kista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wand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zan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egal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 Sudan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and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go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tnam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mbabw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000" y="184428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most JP countries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all MS join J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en as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more challenging in donor-crowded countries, but also of higher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Non-EU donors (Norway, Switzerland; Canada, United States, Japan interested)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ticipate in a number of count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Partner countri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generally supportive,</a:t>
            </a: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be involved from the beginning as far as po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Enabling factors for J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000" y="191628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EU accountable on its JP commitment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o international community (Busan deliver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Lisbon treaty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: calls for complementarity and coordination; mandate for EU Delegations to coordinate EU development coope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Agenda for Change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U common development poli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New global realitie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power shift and multiple crises) push EU to work togeth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nviction within EU that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JP will lead to more efficiency, higher impact, visibility and effectiven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Conceptual approach now generally well underst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nvestment of EU and MS</a:t>
            </a:r>
            <a:r>
              <a:rPr b="1" lang="en-GB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n operational follow-up at HQ and field level is absolutely key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; including better and continuous communication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Headquarters instructions from HQs to HoMs/HoC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ometimes need to be improv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8000" y="191628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Verdana"/>
              </a:rPr>
              <a:t>Lessons from field missions and synthesis of HoMs' repor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o you agree with the assess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o responses fulfil your expecta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o you agree that this will be the final list of JP countrie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JP HoMs reports: process &amp; 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jority of reports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on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ports seem to be backed by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serious debate and consul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all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good quality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dressing key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wing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good understandin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issue of JP (thanks to clear instructions from HQ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JP HoMs reports: fact &amp; fig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2 countrie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 JP already started before and no HoMs reports required (Haiti and South Sud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12 HoMs report received in 2012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for Mali update request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llowing EU DGs meeting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HoMs reports requested from 41 other countri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y EEAS/DEVCO note Dec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So far 36 HoMs reports received in 2013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shared with 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5 reports still pend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Armenia, Jordan, Libya and Somalia (only notes from DEL); Timor Le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State of Play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(of 55 countries in tot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000" y="2060640"/>
            <a:ext cx="8435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40 Positive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0 new countries!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+ 10 countries agreed in 2012 (incl. Ma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13 To be further reviewed or to be received: 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to be reviewed: Algeria, El Salvador, oPt, Vietnam, Zimbabwe, Afghanistan, Moldova, Tunisia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orts to be received</a:t>
            </a: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2 No's 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mbia (revisit at end of election cycle), Ukra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4920" y="133956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Examples of Progress so far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8000" y="2060280"/>
            <a:ext cx="84358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Bangladesh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oint political analysis started and shared EU vision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Ethiopia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U Joint Cooperation Strategy signed end of January 2013; Roadmap with next steps agr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Ghana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P builds on donor wide Country Compact; joint Multi-annual Indicative Program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Guatemala and Laos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JP document submitted to HQs in December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Mali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ministers reconfirmed commitment on 26 Feb 2013; two phase approach; updated HoMs report d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Rwanda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P documents will be submitted end of May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Examples of Progress so far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94920" y="2406240"/>
            <a:ext cx="843588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Haiti, South Sudan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P on-going, moving to second generation of J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Senegal, Namibia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oint analysis done and full JP in prepar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Cote d'Ivoire, Togo, Burundi, Chad, Bolivia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oint analysis do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Cambodia, Paraguay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ve towards JP after this year's el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Egypt, Kenya, Liberia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oint response in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'Country type' break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8000" y="2060640"/>
            <a:ext cx="8435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MICs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LDC/LICs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Fragile states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2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(based on World Bank list + Mal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4920" y="133956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Regional break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8000" y="1844640"/>
            <a:ext cx="84358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West-Africa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Central Africa: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East Africa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Southern Africa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Asia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Latin America &amp; Caribbean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Neighbourhood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Synchron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8000" y="177300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several countries </a:t>
            </a: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synchronisation will take pla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Still remains challenge in others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. Uganda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619280" y="3068640"/>
          <a:ext cx="5545080" cy="3313080"/>
        </p:xfrm>
        <a:graphic>
          <a:graphicData uri="http://schemas.openxmlformats.org/drawingml/2006/table">
            <a:tbl>
              <a:tblPr/>
              <a:tblGrid>
                <a:gridCol w="657360"/>
                <a:gridCol w="657000"/>
                <a:gridCol w="657360"/>
                <a:gridCol w="657000"/>
                <a:gridCol w="657360"/>
                <a:gridCol w="655560"/>
                <a:gridCol w="657360"/>
                <a:gridCol w="946080"/>
              </a:tblGrid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and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P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K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1:19:53Z</dcterms:created>
  <dc:creator>Bernard San Emeterio</dc:creator>
  <dc:description/>
  <dc:language>en-US</dc:language>
  <cp:lastModifiedBy>GERBRANDIJ Alex (EEAS)</cp:lastModifiedBy>
  <cp:lastPrinted>2013-04-25T07:10:20Z</cp:lastPrinted>
  <dcterms:modified xsi:type="dcterms:W3CDTF">2013-04-30T12:50:48Z</dcterms:modified>
  <cp:revision>1216</cp:revision>
  <dc:subject/>
  <dc:title>Diapositiva 1</dc:title>
</cp:coreProperties>
</file>