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86184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11"/>
          </p:nvPr>
        </p:nvSpPr>
        <p:spPr>
          <a:xfrm>
            <a:off x="0" y="943272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3272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2A4974-13A7-49DB-8DE9-B17C91B7FF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518395-44D8-4601-B422-A6F199771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2307DF-4677-400C-8D8D-69F33E23F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60400" y="747720"/>
            <a:ext cx="4957920" cy="371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48DFA-DD42-407D-9F3A-5241AF91B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D625E-98CB-4F2B-AC10-FF3B14BC4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8C16-831B-4B30-8444-28B820C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195F-A86A-4C7B-857A-B51896BF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9A63-F734-43F7-9C25-288595A1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FA7D-AE11-4F37-91C0-9F4BD75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5387-B290-4AFA-ACE7-B8D811E9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84C2-27B8-48D6-8B01-A19912C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5DA7-5129-46A1-99EE-4C214833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2FCF-80CD-44D7-879A-4A935C74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9273-A2A8-460F-B2CB-FEFC5478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2B3-B152-4B3E-B4C7-50832919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79C-5DD9-488C-A966-E143873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699-A234-4105-B396-9E8DC94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E6E-3B2B-4518-AF41-4FD23C19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BDA-174C-4202-A44F-1B0AE764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FB7-CA9F-4F26-8982-A917F072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2DA-816A-4F15-BC9E-8987519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3CF-AB6D-4663-9EF9-0C4E623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1B5-1071-421A-A973-59C786B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A03-4C46-4CB7-8323-04D1C05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279-E29A-4BE1-95C3-3E2ACF09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5BC-47B5-4E8F-BC08-E24FC2CC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E03C-CEA0-479F-AFAD-1F6F5347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A772-392D-4182-B6A9-895AC6D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6778-68F3-41AD-AA4E-3DF27B9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4812-1238-40B5-9B77-7CAD13F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1406-FA06-40D5-9316-3F6091E5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CCD9-BA72-4BA6-9B1C-1C98A8BA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074-DAD7-44FE-BD38-5F8F850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09EA-46B5-4976-B9CF-7E2CB44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FD3D-7284-46C8-8A7C-25916C2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662B-454B-4517-8F7F-657F0A8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F736-5454-4F3C-ADE9-0F2A69A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E535-3C02-4445-B8A8-C712A471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1ADD-1AF6-468D-A127-398A8E65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F22C-313D-409F-BEC0-A6BB143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C9B0-1CB9-412F-86F8-E73267E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2A8A-E3DB-40B4-AEF3-B80C15BF9A5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9E88-9BFC-47A6-9003-D9CFC76A864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E453-013F-4575-A741-9172880B63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9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678-FC41-43A8-9016-0D08C6A79F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01F3-A786-41A3-8489-268557F7C2EC}" type="slidenum">
              <a:rPr b="1" lang="en-GB" sz="7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fe06"/>
                </a:solidFill>
                <a:latin typeface="Verdana"/>
              </a:rPr>
              <a:t>Synthesis HoMs reports on Joint Programming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cfe06"/>
                </a:solidFill>
                <a:latin typeface="Verdana"/>
              </a:rPr>
              <a:t>26 April 2013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cfe06"/>
                </a:solidFill>
                <a:latin typeface="Verdana"/>
              </a:rPr>
              <a:t>Technical Seminar on EU Programming and Joint Programming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DEVCO/A5 Aid and Development Effectiveness and Financ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EEAS/VI.B.2 Development Cooperation Coordination Divis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3657600" y="3138480"/>
            <a:ext cx="1828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795840" y="3181320"/>
            <a:ext cx="155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4" name="Picture 13" descr="logoEC.jpg"/>
          <p:cNvPicPr/>
          <p:nvPr/>
        </p:nvPicPr>
        <p:blipFill>
          <a:blip r:embed="rId1"/>
          <a:stretch/>
        </p:blipFill>
        <p:spPr>
          <a:xfrm>
            <a:off x="2916360" y="189000"/>
            <a:ext cx="1722240" cy="1197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EEAS_P_TXT_S.jpg"/>
          <p:cNvPicPr/>
          <p:nvPr/>
        </p:nvPicPr>
        <p:blipFill>
          <a:blip r:embed="rId2"/>
          <a:stretch/>
        </p:blipFill>
        <p:spPr>
          <a:xfrm>
            <a:off x="4788000" y="206280"/>
            <a:ext cx="184140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Windows for synchronisation/JP per ye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1874880"/>
          <a:ext cx="8507520" cy="472284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41440"/>
                <a:gridCol w="1413000"/>
                <a:gridCol w="1414440"/>
                <a:gridCol w="1413000"/>
              </a:tblGrid>
              <a:tr h="363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2014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confirm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ro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iv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ger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iv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rg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ura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ma/Myanm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dov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ma/ Myanmar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 phase 3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aragu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or Lest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al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te d'Ivoir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te d'Ivoire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rra Leon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alvado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Sudan phase 3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s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w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an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occ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ambiqu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ib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zan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Sudan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tnam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84428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most JP countrie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ll MS join J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en a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more challenging in donor-crowded countries, but also of higher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Non-EU donors (Norway, Switzerland; Canada, United States, Japan interested)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cipate in a number of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Partner countr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enerally supportive,</a:t>
            </a: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be involved from the beginning as far a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nabling factors for J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000" y="191628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EU accountable on its JP commitment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 international community (Busan deliver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Lisbon treat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calls for complementarity and coordination; mandate for EU Delegations to coordinate EU development 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Agenda for Change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 common development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New global realitie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power shift and multiple crises) push EU to work toge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viction within EU that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JP will lead to more efficiency, higher impact, visibility and effective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Conceptual approach now generally well underst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vestment of EU and MS</a:t>
            </a:r>
            <a:r>
              <a:rPr b="1" lang="en-GB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 operational follow-up at HQ and field level is absolutely ke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 including better and continuous communication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Headquarters instructions from HQs to HoMs/HoC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ometimes need to be improv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000" y="191628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Verdana"/>
              </a:rPr>
              <a:t>Lessons from field missions and synthesis of HoMs' repo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you agree with the assess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responses fulfil your expect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you agree that this will be the final list of JP countri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HoMs reports: process &amp;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jority of reports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o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ports seem to be backed by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erious debate and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all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good quality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ing ke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ing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good understandin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issue of JP (thanks to clear instructions from HQ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HoMs reports: fact &amp; fig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2 countrie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 JP already started before and no HoMs reports required (Haiti and South Sud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12 HoMs report received in 201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for Mali update reques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ing EU DGs meeting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HoMs reports requested from 41 other countr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EEAS/DEVCO note Dec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o far 36 HoMs reports received in 2013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shared with 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5 reports still pend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rmenia, Jordan, Libya and Somalia (only notes from DEL); Timor L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tate of Play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(of 55 countries in to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40 Positive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0 new countries!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10 countries agreed in 2012 (incl. Ma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13 To be further reviewed or to be received: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to be reviewed: Algeria, El Salvador, oPt, Vietnam, Zimbabwe, Afghanistan, Moldova, Tunisia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orts to be received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2 No's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mbia (revisit at end of election cycle), Ukra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xamples of Progress so far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2060280"/>
            <a:ext cx="84358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Bangladesh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political analysis started and shared EU vis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Ethiopia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Joint Cooperation Strategy signed end of January 2013; Roadmap with next steps agr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han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builds on donor wide Country Compact; joint Multi-annual Indicative Program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uatemala and Lao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JP document submitted to HQs in December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Mali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inisters reconfirmed commitment on 26 Feb 2013; two phase approach; updated HoMs report d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Rwand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documents will be submitted end of Ma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xamples of Progress so fa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4920" y="2406240"/>
            <a:ext cx="84358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Haiti, South Sudan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on-going, moving to second generation of 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enegal, Namibi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analysis done and full JP in prepar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Cote d'Ivoire, Togo, Burundi, Chad, Bolivia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analysis d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Cambodia, Paraguay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towards JP after this year's el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Egypt, Kenya, Liberi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response in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'Country type'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MIC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LDC/LIC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Fragile state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2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(based on World Bank list +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Regional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844640"/>
            <a:ext cx="8435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West-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Central Africa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East 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outhern 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Asia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Latin America &amp; Caribbean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Neighbourhood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ynchro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000" y="1773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everal countries </a:t>
            </a: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ynchronisation will take 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till remains challenge in others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. Uganda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19280" y="3068640"/>
          <a:ext cx="5545080" cy="3313080"/>
        </p:xfrm>
        <a:graphic>
          <a:graphicData uri="http://schemas.openxmlformats.org/drawingml/2006/table">
            <a:tbl>
              <a:tblPr/>
              <a:tblGrid>
                <a:gridCol w="657360"/>
                <a:gridCol w="657000"/>
                <a:gridCol w="657360"/>
                <a:gridCol w="657000"/>
                <a:gridCol w="657360"/>
                <a:gridCol w="655560"/>
                <a:gridCol w="657360"/>
                <a:gridCol w="946080"/>
              </a:tblGrid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P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K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Bernard San Emeterio</dc:creator>
  <dc:description/>
  <dc:language>en-US</dc:language>
  <cp:lastModifiedBy>GERBRANDIJ Alex (EEAS)</cp:lastModifiedBy>
  <cp:lastPrinted>2013-04-25T07:10:20Z</cp:lastPrinted>
  <dcterms:modified xsi:type="dcterms:W3CDTF">2013-04-30T12:50:48Z</dcterms:modified>
  <cp:revision>1216</cp:revision>
  <dc:subject/>
  <dc:title>Diapositiva 1</dc:title>
</cp:coreProperties>
</file>