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939600" y="74412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85128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CFBB0-5D61-47B0-864C-6AC2B3D1C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FFE6F-4825-40C0-A4B0-8B11BBD81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7BEFF-938A-4F6B-90AC-B56ECB68E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8160" y="74448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182B5-A53E-4EA4-A098-EA1D1DD7F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4304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3888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2487F6-42D2-4000-A0B3-089CFF1F7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92E5-F334-4FEF-A6C7-5B6B120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C860-C8CB-4E31-9FDC-D3838EBD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9DC7-5215-4234-8F0F-8845D1A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8FEB-C918-45BD-AB31-5DDF8EB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9145-7CA5-49D4-9952-4B1F696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C191-146F-463A-9BC4-DE0A306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3400-F1E7-4896-B977-C30097F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A0F0-1D6C-4EED-8613-A6D93938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ACED-BEE7-4E02-8C04-876F7418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F5A-1F9D-439D-B83E-7FD12C87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761-DD03-4321-A12B-CF592F8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D57-027C-421F-B010-817E2479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A1B-EF29-4961-9AE2-DD3CB60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9AE-2E41-425D-B13D-0CB69B9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44F-2AD4-46E6-99BD-4E29953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8C9-0412-4C31-9807-31C46EA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CCE-497C-485F-B892-DA12E60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470-7D12-4991-BBC5-7308262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E58-C0E2-4FE7-A2BE-393BC62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EF5-B256-474E-8AE3-E9BB1A0C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318-9705-4580-9C0C-7DA551A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121D-8F1E-4E69-ABFB-D9B11E59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DE5-6AF9-456E-B1FB-4773CF2A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B2D-CE2A-4AEC-86B2-25AEF810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760-F6C9-4AF1-AFD1-1A4D42F3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F93-A26C-4752-9131-BE377855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73A-A55C-48D9-AB67-2131A041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9B2-8F39-4A7A-AD77-1F42D93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4CF0-A1B9-461A-B6B9-63E8E7A8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704-73C9-4E6B-A2D9-715C48D1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F56-34CD-434C-902D-22D8720F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7300-A2FB-4DBE-86DB-0E0DD57E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26B-389C-4C0E-B4C3-048E39AA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41E3-192C-4FFC-BB63-4D6038DC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6377-6AF1-4070-814E-03D6E18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71D3-1687-4A09-9013-0EB685E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508-C1EC-44D7-A190-50416DE5F3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68C-38E3-45BA-8D5E-C45CB6C0DE4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6CC-8CCF-4694-8C67-6CD10499C4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7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494-6606-48C2-A428-D81D434CEF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pacity4dev.eu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9FD5-643D-4161-8F2F-6A0B78B655B1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Way forward -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The Way forwar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000" y="234936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0+ Joint Programming countri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to manage this the coming yea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 broad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luding on HoMs reports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P documents approval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y roadmaps and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and guid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ncluding HoMs reports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in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oreign Affairs Council Development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8 Ma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esponse note EEAS/DEV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beginning of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 (1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1915920"/>
            <a:ext cx="84358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nce JP doc agreed by EU HoMs, EU Delegation and Embassies will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launch approval proce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n their HQ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oMs will follow progress of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MS and other donors handling the JP doc  through their own system;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y inform each other on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ach EU donor is responsible for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roving its own bilateral programming component of the JP doc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For EU part in JP: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ly same process /procedure in Brussels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s for a bilateral/single proposal without J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560" y="134100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ndorsement by HQ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finalise JP in-country with partner country, then initiall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HoMs and if possible partn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 document to b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transmitted by HoMs to c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doption and formalis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ording to individual donor procedures/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der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igning ceremon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partner country (only after legal basis is adop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untry Roadmaps and monitor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699920"/>
            <a:ext cx="8435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ome HoMs report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e a roadmap, these are essential for progre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Elements of good practice to be shared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instance Bangladesh, Ethiopia, Bolivia (road ma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oadmaps for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k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 HoMs to repor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progress/key issues (annually, bi-annually, ad-hoc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upport and Guidance: menu of op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00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of EU and Member States' JP Guid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Training/Knowledge Sharing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training on JP; with EU Member States staff, EEAS/DEVCO visits to MS; other MSs training programmes? Regional training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untry Mission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joint missions EU+Member States; </a:t>
            </a: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which countri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nsultant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support programme; MS support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good practice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rough </a:t>
            </a:r>
            <a:r>
              <a:rPr b="0" lang="en-GB" sz="19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apacity4dev.e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Actions on Support and Guidanc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Action NOW or later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0120"/>
          <a:ext cx="8425080" cy="5021280"/>
        </p:xfrm>
        <a:graphic>
          <a:graphicData uri="http://schemas.openxmlformats.org/drawingml/2006/table">
            <a:tbl>
              <a:tblPr/>
              <a:tblGrid>
                <a:gridCol w="3151440"/>
                <a:gridCol w="347400"/>
                <a:gridCol w="1851120"/>
                <a:gridCol w="3075120"/>
              </a:tblGrid>
              <a:tr h="5461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ine of Actions towards Joint Programming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ypothesis: 2-year preparation period, to be reviewed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ACTION NOW for JP in 2013-2015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215967"/>
                          </a:solidFill>
                          <a:uFillTx/>
                          <a:latin typeface="Verdana"/>
                        </a:rPr>
                        <a:t>ACTION NEXT YEAR for JP in 2016-2018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han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i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mbabwe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egal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kina Faso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liv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te d'Ivoir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Salvador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w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b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ndura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r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urit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aragu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ger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ghanistan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ib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rra Leon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gladesh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atemal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g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al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ua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und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od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ilippin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tnam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me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i (update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aw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pied Palestinian territory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dov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occ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Next Technical Semin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discuss HoMs progress reports and review Support and Gu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Date by end 2013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scic-ccab1b</cp:lastModifiedBy>
  <cp:lastPrinted>2013-04-25T07:37:27Z</cp:lastPrinted>
  <dcterms:modified xsi:type="dcterms:W3CDTF">2013-04-26T11:33:05Z</dcterms:modified>
  <cp:revision>1217</cp:revision>
  <dc:subject/>
  <dc:title>Diapositiva 1</dc:title>
</cp:coreProperties>
</file>