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939600" y="74412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85128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1E4B5-BA35-4BB7-B505-BDC6513C0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D2372-66CC-4464-A5CD-50ECA56E7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588D0-A857-4477-8296-49FA97BD7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8160" y="74448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CECDB-499D-44EA-89A8-72F0AF6BB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4304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3888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17B63F-3C0B-472E-B9F9-1FAD393B3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814B-452C-483E-9811-FBF0324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01AB-96A0-4A98-A79B-0F0B493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BA88-51F4-4FD6-96F0-9D8AB20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4A33-8458-48AB-9090-1BF2176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B1EA-AD86-4AED-BF79-88B4624D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4CB1-9570-4474-A4BF-4B1CF266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BE54-0CFC-4943-8587-6679F58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4BCF-B6E6-4D29-A29A-962A881A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760C-0BA3-470E-87EB-66CEB3D2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65F-9BAD-455D-B2BF-ABCA9113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26C-D8BB-47A7-AD80-F00F504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524-E184-4871-807C-85AC467D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006-8500-4515-9AD0-6C1EA51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CDD-6333-41AB-A942-8194603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F35-9434-457A-8C63-B69AA71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BDD-90CC-4077-9AB1-BCEF33E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FA7-B176-4784-8D04-2E7C6B9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535-583C-44B2-BBF3-2336504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D67-697C-4690-9398-A9A4A0E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AD6-8D21-4DE5-8508-7EB35F05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130-046F-43E3-8A48-42538BA2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A3E-C95C-4F12-A774-49C83E49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980C-C695-4182-8D72-65C3C192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CAC0-603C-4419-BE57-8AB059A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0E9-8B54-477D-B9B7-73314DD6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DAF-5D38-4235-944E-A6879EA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7CBF-89C3-42FE-98D6-ACBB163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306B-A1E4-4706-ABE4-0BA7722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84E-D40E-4BDB-B145-C3B1527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C939-BA46-4878-A2D0-861AB5E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1AA-FBC3-4268-A5DA-B3649E3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C74-7EDD-4AA6-B14A-F4FB15C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184-293F-4642-8AC1-DC140EBF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8670-A895-4085-9F0B-1E08C1C1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0872-898C-4D26-AD6A-082EFCB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ADC8-3822-48BE-96CE-496AD719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A189-1139-4C84-8964-7D96763FB13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682A-B60F-4F85-A8E5-CB901B11F95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3B6B-7CCE-4FA5-89B8-7BD53EAC55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7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E771-B2F5-46E2-90D2-D80A68F030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pacity4dev.eu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DDD-4E9B-49E3-A414-6E79023BBD67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Way forward -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The Way forwar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000" y="234936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0+ Joint Programming countri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to manage this the coming yea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 broad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luding on HoMs reports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P documents approval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y roadmaps and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and guid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ncluding HoMs reports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in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oreign Affairs Council Development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8 Ma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esponse note EEAS/DEV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beginning of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 (1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1915920"/>
            <a:ext cx="84358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nce JP doc agreed by EU HoMs, EU Delegation and Embassies will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launch approval proce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n their HQ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oMs will follow progress of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MS and other donors handling the JP doc  through their own system;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y inform each other on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ach EU donor is responsible for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roving its own bilateral programming component of the JP doc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For EU part in JP: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ly same process /procedure in Brussels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s for a bilateral/single proposal without J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560" y="134100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ndorsement by HQ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finalise JP in-country with partner country, then initiall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HoMs and if possible partn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 document to b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transmitted by HoMs to c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doption and formalis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ording to individual donor procedures/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der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igning ceremon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partner country (only after legal basis is adop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untry Roadmaps and monitor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699920"/>
            <a:ext cx="8435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ome HoMs report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e a roadmap, these are essential for progre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Elements of good practice to be shared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instance Bangladesh, Ethiopia, Bolivia (road ma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oadmaps for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k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 HoMs to repor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progress/key issues (annually, bi-annually, ad-hoc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upport and Guidance: menu of op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00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of EU and Member States' JP Guid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Training/Knowledge Sharing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training on JP; with EU Member States staff, EEAS/DEVCO visits to MS; other MSs training programmes? Regional training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untry Mission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joint missions EU+Member States; </a:t>
            </a: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which countri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nsultant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support programme; MS support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good practice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rough </a:t>
            </a:r>
            <a:r>
              <a:rPr b="0" lang="en-GB" sz="19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apacity4dev.e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Actions on Support and Guidanc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Action NOW or later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0120"/>
          <a:ext cx="8425080" cy="5021280"/>
        </p:xfrm>
        <a:graphic>
          <a:graphicData uri="http://schemas.openxmlformats.org/drawingml/2006/table">
            <a:tbl>
              <a:tblPr/>
              <a:tblGrid>
                <a:gridCol w="3151440"/>
                <a:gridCol w="347400"/>
                <a:gridCol w="1851120"/>
                <a:gridCol w="3075120"/>
              </a:tblGrid>
              <a:tr h="5461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ine of Actions towards Joint Programming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ypothesis: 2-year preparation period, to be reviewed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ACTION NOW for JP in 2013-2015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215967"/>
                          </a:solidFill>
                          <a:uFillTx/>
                          <a:latin typeface="Verdana"/>
                        </a:rPr>
                        <a:t>ACTION NEXT YEAR for JP in 2016-2018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han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i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mbabwe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egal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kina Faso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liv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te d'Ivoir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Salvador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w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b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ndura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r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urit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aragu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ger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ghanistan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ib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rra Leon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gladesh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atemal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g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al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ua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und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od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ilippin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tnam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me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i (update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aw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pied Palestinian territory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dov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occ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Next Technical Semin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discuss HoMs progress reports and review Support and Gu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Date by end 2013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scic-ccab1b</cp:lastModifiedBy>
  <cp:lastPrinted>2013-04-25T07:37:27Z</cp:lastPrinted>
  <dcterms:modified xsi:type="dcterms:W3CDTF">2013-04-26T11:33:05Z</dcterms:modified>
  <cp:revision>1217</cp:revision>
  <dc:subject/>
  <dc:title>Diapositiva 1</dc:title>
</cp:coreProperties>
</file>