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10"/>
          </p:nvPr>
        </p:nvSpPr>
        <p:spPr>
          <a:xfrm>
            <a:off x="385128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939600" y="744120"/>
            <a:ext cx="493236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0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11"/>
          </p:nvPr>
        </p:nvSpPr>
        <p:spPr>
          <a:xfrm>
            <a:off x="0" y="938160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12"/>
          </p:nvPr>
        </p:nvSpPr>
        <p:spPr>
          <a:xfrm>
            <a:off x="3851280" y="938160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7E511F-14DC-432E-8F3C-2D7C82C82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6"/>
          <p:cNvSpPr/>
          <p:nvPr/>
        </p:nvSpPr>
        <p:spPr>
          <a:xfrm>
            <a:off x="0" y="938196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51280" y="938196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E54521-047D-451B-B59F-5E13D94B6C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851280" y="938196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517A63-D7C1-43F3-AE44-FA2ACB14D6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38160" y="74448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6"/>
          <p:cNvSpPr/>
          <p:nvPr/>
        </p:nvSpPr>
        <p:spPr>
          <a:xfrm>
            <a:off x="0" y="938196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851280" y="938196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500093-F163-4D0C-9F53-8EC6BE3236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39960" y="743040"/>
            <a:ext cx="4935240" cy="3701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3888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39960" y="7444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ooter Placeholder 3"/>
          <p:cNvSpPr/>
          <p:nvPr/>
        </p:nvSpPr>
        <p:spPr>
          <a:xfrm>
            <a:off x="0" y="938196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3851280" y="938196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346E6F-887F-4EC3-8F90-11C083BA2C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0F36B-D1EA-4A37-BD63-EFC81B72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B0325-DC3D-4309-B6B8-F2C0A005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EEEA8-EA7C-40C6-9762-05C918A7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F9177-B0D2-4F3E-A534-5868F774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B2121-E12D-4884-AE11-D6A1CE1E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CE9E1-290D-4ABD-8E42-F199DBD4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B7CFF-861B-4D2C-BD47-3A9A02F6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399E2-D67A-4E8B-B8AE-0E1B6D2A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7A0B0-0A33-4935-9C90-04A020A6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B03-5696-41AD-B8F5-A60E7F76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402-DF17-4A69-A44A-888850D5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AF0-961A-411C-8FAD-EC8F4B42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6654-7137-4B97-AF70-22A661BC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D52-8ABA-497B-9B24-C9F3E358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2CDB-B701-4FFE-940D-D8A02B52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FAE-A35B-491B-95CE-E6610F38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6190-19EF-4F4B-96C6-17DF6D41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A927-D78C-4736-9974-E61E4A43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BA17-6CCB-456B-A651-AE413880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1B5C-1AD2-4010-BF76-4EF8DEAD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8B8-F95E-471D-AB4C-166EF5F7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03EE-8D30-4ACA-BC32-19F6B9E6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DCE8-88FA-424B-AD01-4A30C4E6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F2BB-5917-4266-8021-42BC4A83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5EAC-4E5E-49F1-9DB3-93CF962A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A13C-54C7-4230-B082-A0CA26BB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BA21-FF66-4830-A6E7-837F0DFC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F5BC-EE10-4028-B12F-93A2968D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E931-61CE-4F77-915C-36788203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927E-E6ED-41C9-8314-142D3309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142A-0DD2-4D07-8FFD-CDB956D3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59B4-2494-4799-95A4-8F792D92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F0AB-335B-4F30-9921-97304FDC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7D7C0-497A-49DB-A7A5-C2BE3566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ACA36-5AF3-4CEB-A3D7-F0777B2E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BF7CB-9C00-4D94-960C-1FBACC05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5" name="Picture 10" descr="logoEC.jpg"/>
          <p:cNvPicPr/>
          <p:nvPr/>
        </p:nvPicPr>
        <p:blipFill>
          <a:blip r:embed="rId4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EEAS_P_TXT_XL.jpg"/>
          <p:cNvPicPr/>
          <p:nvPr/>
        </p:nvPicPr>
        <p:blipFill>
          <a:blip r:embed="rId5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2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A7B1-1E02-4928-89BD-A83BD662F6D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8B26-0BFB-41CD-97BF-BF10F400E78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990F-A133-4D24-AB9F-C9D867C08E4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7" name="Picture 10" descr="logoEC.jpg"/>
          <p:cNvPicPr/>
          <p:nvPr/>
        </p:nvPicPr>
        <p:blipFill>
          <a:blip r:embed="rId4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EEAS_P_TXT_XL.jpg"/>
          <p:cNvPicPr/>
          <p:nvPr/>
        </p:nvPicPr>
        <p:blipFill>
          <a:blip r:embed="rId5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2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1" name="Picture 10" descr="logoEC.jpg"/>
          <p:cNvPicPr/>
          <p:nvPr/>
        </p:nvPicPr>
        <p:blipFill>
          <a:blip r:embed="rId4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EEAS_P_TXT_XL.jpg"/>
          <p:cNvPicPr/>
          <p:nvPr/>
        </p:nvPicPr>
        <p:blipFill>
          <a:blip r:embed="rId5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2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AEFB-233E-46D5-AD1D-78C08072A56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apacity4dev.eu/" TargetMode="External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0F17-876A-4ECB-B217-AB916AD5E021}" type="slidenum">
              <a:rPr b="1" lang="en-GB" sz="7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cfe06"/>
                </a:solidFill>
                <a:latin typeface="Verdana"/>
              </a:rPr>
              <a:t>Way forward - Joint Programming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cfe06"/>
                </a:solidFill>
                <a:latin typeface="Verdana"/>
              </a:rPr>
              <a:t>26 April 2013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cfe06"/>
                </a:solidFill>
                <a:latin typeface="Verdana"/>
              </a:rPr>
              <a:t>Technical Seminar on EU Programming and Joint Programming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cfe06"/>
                </a:solidFill>
                <a:latin typeface="Verdana"/>
              </a:rPr>
              <a:t>DEVCO/A5 Aid and Development Effectiveness and Financing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cfe06"/>
                </a:solidFill>
                <a:latin typeface="Verdana"/>
              </a:rPr>
              <a:t>EEAS/VI.B.2 Development Cooperation Coordination Divis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2" name="AutoShape 15"/>
          <p:cNvSpPr/>
          <p:nvPr/>
        </p:nvSpPr>
        <p:spPr>
          <a:xfrm>
            <a:off x="3657600" y="3138480"/>
            <a:ext cx="1828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3" name="AutoShape 17"/>
          <p:cNvSpPr/>
          <p:nvPr/>
        </p:nvSpPr>
        <p:spPr>
          <a:xfrm>
            <a:off x="3795840" y="3181320"/>
            <a:ext cx="1552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94" name="Picture 13" descr="logoEC.jpg"/>
          <p:cNvPicPr/>
          <p:nvPr/>
        </p:nvPicPr>
        <p:blipFill>
          <a:blip r:embed="rId1"/>
          <a:stretch/>
        </p:blipFill>
        <p:spPr>
          <a:xfrm>
            <a:off x="2916360" y="189000"/>
            <a:ext cx="1722240" cy="1197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4" descr="EEAS_P_TXT_S.jpg"/>
          <p:cNvPicPr/>
          <p:nvPr/>
        </p:nvPicPr>
        <p:blipFill>
          <a:blip r:embed="rId2"/>
          <a:stretch/>
        </p:blipFill>
        <p:spPr>
          <a:xfrm>
            <a:off x="4788000" y="206280"/>
            <a:ext cx="1841400" cy="12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497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The Way forwar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68000" y="2349360"/>
            <a:ext cx="84358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40+ Joint Programming countries: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ow to manage this the coming yea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4 broad issu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9068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cluding on HoMs reports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9068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P documents approval proced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9068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untry roadmaps and moni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9068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pport and guid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497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Concluding HoMs reports proces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8000" y="2060640"/>
            <a:ext cx="8435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cussion in </a:t>
            </a: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Foreign Affairs Council Development,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8 May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Response note EEAS/DEVC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beginning of J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94920" y="1412640"/>
            <a:ext cx="8497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JP documents approval procedures (1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8000" y="1915920"/>
            <a:ext cx="843588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Once JP doc agreed by EU HoMs, EU Delegation and Embassies will </a:t>
            </a:r>
            <a:r>
              <a:rPr b="1" lang="en-GB" sz="2200" spc="-1" strike="noStrike">
                <a:solidFill>
                  <a:srgbClr val="ff6600"/>
                </a:solidFill>
                <a:latin typeface="Verdana"/>
              </a:rPr>
              <a:t>launch approval process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in their HQ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HoMs will follow progress of </a:t>
            </a:r>
            <a:r>
              <a:rPr b="1" lang="en-GB" sz="2200" spc="-1" strike="noStrike">
                <a:solidFill>
                  <a:srgbClr val="ff6600"/>
                </a:solidFill>
                <a:latin typeface="Verdana"/>
              </a:rPr>
              <a:t>MS and other donors handling the JP doc  through their own system;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y inform each other on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ach EU donor is responsible for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200" spc="-1" strike="noStrike">
                <a:solidFill>
                  <a:srgbClr val="ff6600"/>
                </a:solidFill>
                <a:latin typeface="Verdana"/>
              </a:rPr>
              <a:t>approving its own bilateral programming component of the JP docu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(For EU part in JP: </a:t>
            </a:r>
            <a:r>
              <a:rPr b="1" lang="en-GB" sz="2200" spc="-1" strike="noStrike">
                <a:solidFill>
                  <a:srgbClr val="ff6600"/>
                </a:solidFill>
                <a:latin typeface="Verdana"/>
              </a:rPr>
              <a:t>apply same process /procedure in Brussels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s for a bilateral/single proposal without J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250560" y="1341000"/>
            <a:ext cx="8893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JP documents approval procedures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 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llowing endorsement by HQs </a:t>
            </a: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finalise JP in-country with partner country, then initialle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y HoMs and if possible partner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al document to b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transmitted by HoMs to capit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Adoption and formalisation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cording to individual donor procedures/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ider </a:t>
            </a: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signing ceremon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th partner country (only after legal basis is adopt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497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Country Roadmaps and monitor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8000" y="1699920"/>
            <a:ext cx="84358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Some HoMs report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lude a roadmap, these are essential for progres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Elements of good practice to be shared: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 instance Bangladesh, Ethiopia, Bolivia (road map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Roadmaps for moni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k</a:t>
            </a: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 HoMs to repor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n progress/key issues (annually, bi-annually, ad-hoc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Support and Guidance: menu of optio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68000" y="1773360"/>
            <a:ext cx="843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6600"/>
                </a:solidFill>
                <a:latin typeface="Verdana"/>
              </a:rPr>
              <a:t>Sharing of EU and Member States' JP Guid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6600"/>
                </a:solidFill>
                <a:latin typeface="Verdana"/>
              </a:rPr>
              <a:t>Training/Knowledge Sharing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– EU training on JP; with EU Member States staff, EEAS/DEVCO visits to MS; other MSs training programmes? Regional training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6600"/>
                </a:solidFill>
                <a:latin typeface="Verdana"/>
              </a:rPr>
              <a:t>Country Missions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– joint missions EU+Member States; </a:t>
            </a:r>
            <a:r>
              <a:rPr b="1" lang="en-GB" sz="1900" spc="-1" strike="noStrike">
                <a:solidFill>
                  <a:srgbClr val="ff6600"/>
                </a:solidFill>
                <a:latin typeface="Verdana"/>
              </a:rPr>
              <a:t>which countrie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6600"/>
                </a:solidFill>
                <a:latin typeface="Verdana"/>
              </a:rPr>
              <a:t>Consultants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– EU support programme; MS support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6600"/>
                </a:solidFill>
                <a:latin typeface="Verdana"/>
              </a:rPr>
              <a:t>Sharing good practice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through </a:t>
            </a:r>
            <a:r>
              <a:rPr b="0" lang="en-GB" sz="19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apacity4dev.eu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76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6600"/>
                </a:solidFill>
                <a:latin typeface="Verdana"/>
              </a:rPr>
              <a:t>Actions on Support and Guidanc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Action NOW or later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539640" y="1770120"/>
          <a:ext cx="8425080" cy="5021280"/>
        </p:xfrm>
        <a:graphic>
          <a:graphicData uri="http://schemas.openxmlformats.org/drawingml/2006/table">
            <a:tbl>
              <a:tblPr/>
              <a:tblGrid>
                <a:gridCol w="3151440"/>
                <a:gridCol w="347400"/>
                <a:gridCol w="1851120"/>
                <a:gridCol w="3075120"/>
              </a:tblGrid>
              <a:tr h="546120"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ine of Actions towards Joint Programming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Hypothesis: 2-year preparation period, to be reviewed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</a:rPr>
                        <a:t>ACTION NOW for JP in 2013-2015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 u="sng">
                          <a:solidFill>
                            <a:srgbClr val="215967"/>
                          </a:solidFill>
                          <a:uFillTx/>
                          <a:latin typeface="Verdana"/>
                        </a:rPr>
                        <a:t>ACTION NEXT YEAR for JP in 2016-2018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hana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nin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imbabwe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egal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rkina Faso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liv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d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te d'Ivoire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Salvador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wand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ber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nduras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oros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uritan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caragu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y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ger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fghanistan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ib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erra Leone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ngladesh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atemala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go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pal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aguay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rundi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mbod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hiop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ilippines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os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nzan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etnam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and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men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i (update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awi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pied Palestinian territory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dova (review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zambique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occo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23640" y="1413000"/>
            <a:ext cx="8497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Next Technical Semina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68000" y="2060640"/>
            <a:ext cx="8435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o discuss HoMs progress reports and review Support and Guid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Date by end 2013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1:19:53Z</dcterms:created>
  <dc:creator>Bernard San Emeterio</dc:creator>
  <dc:description/>
  <dc:language>en-US</dc:language>
  <cp:lastModifiedBy>scic-ccab1b</cp:lastModifiedBy>
  <cp:lastPrinted>2013-04-25T07:37:27Z</cp:lastPrinted>
  <dcterms:modified xsi:type="dcterms:W3CDTF">2013-04-26T11:33:05Z</dcterms:modified>
  <cp:revision>1217</cp:revision>
  <dc:subject/>
  <dc:title>Diapositiva 1</dc:title>
</cp:coreProperties>
</file>