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780F1-C551-4E13-9BEB-AE6E270E7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64D9F-6270-42D0-8808-3A516F03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527E8-CA13-4B2A-AF81-975A55057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D9D30-C98E-41BE-AAB0-9E46799EC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4D8F9-2721-430D-8A7A-23095C5A8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53E7D-21B0-4048-9106-CB070BDB0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FE60-CC05-485C-A56A-362A402F9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EF17-0EA2-4115-9FC5-D61E8DE43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C4F2-DB37-4F98-AE5F-1B4D8C7E1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9CA0-C395-43F3-96EA-6D1AAE92B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222D8-99BF-4FF8-96EF-234082940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BCC7-267E-4433-B050-71F6100A5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E912-0D98-4229-8A10-1D89BCCF3C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PROTECTION GROU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sponses to the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ice given by Henrick</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more on the global level but informed by lessons learnt from the local context; and scale it u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t would be managed at a global / national level. For smaller actions in country grants would be better sui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ints I don’t know where to classify</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survey; Need for sound statistics on the informal sector; numbers, in urban/ rural, contribution to the country. Should be made public and used to design actions and identify advocacy issu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1</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What are the possible options for obtaining decent living and working conditions without joining the formal economy? </a:t>
            </a:r>
            <a:endParaRPr b="0" lang="en-US" sz="13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 level sustainability; Individual empowerment e.g. marketability of existing skills, training  in new skills, will be able to be self sufficient + increase self awareness of rights + train on ways of getting organized.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f empowerment could also include increased access to services, linking to skills development and income generating sources/ opportunities + individual follow up.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ive action based solutions; engage in social dialogue ; communities lobbying collectively for their needs with the local / national governments e.g in unions, cooperatives associations that can better represent community needs and provide social protective mechanisms for them e.g. tax relief, health insurance, share equipment and quality assurance and increase the ease of aggregating products to the market, mobilize greater savings, hold a more collective bargaining position, promote good value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sustainability: Access to informal/ group oriented capital sources and investments (micro loan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cial dimension;  ensure community integration and involvement in the processes from the beginning.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gnition and certification.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fordable and appropriate services (health and education system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ing or building a legal framework.</a:t>
            </a:r>
            <a:endParaRPr b="0" lang="en-US" sz="14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dvocacy to national legal frameworks to recognize, regulate and  protect groups of informal settlement workers. (per sector).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2</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How could the multiplier and development effects of the projects be increased?</a:t>
            </a:r>
            <a:r>
              <a:rPr b="0" lang="en-US" sz="2700" spc="-1" strike="noStrike">
                <a:solidFill>
                  <a:srgbClr val="000000"/>
                </a:solidFill>
                <a:latin typeface="Calibri"/>
              </a:rPr>
              <a:t> </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ing to existing institutions e.g. local govern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new networks or link with current networks that coordinate / harness the work that NGOs are doing, getting a sustained message to the right government dockets for change of legislations etc.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up on lessons learned from previous projects from other organizations or from own project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more strongly with private sector.</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with populations/ groups with mainstream services as opposed to creating specialized services for certain groups.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Calibri"/>
              </a:rPr>
              <a:t>Question 3: Which are the lessons learned and the implications for the EC for future calls for proposals targeting the informal economy?</a:t>
            </a:r>
            <a:br>
              <a:rPr sz="4000"/>
            </a:b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s lear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nking actors at different levels e.g. government, NGO and private sect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vestment in people/ individuals through NGOs and their partn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lement bilateral fund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GOs have experience, have link to community that state does not have.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om for small scale and innovative project for piloting; can undertake more experimental work.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 holistic approach to the ca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ader design that can be targeted.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 exploratory studies into the informal sector in a smaller scale that will allow for a body of work that can demonstrate impact that can be scaled up.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experience sharing e.g. study tou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er timeframes for the interventions where necessary for social process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ing for capacity building of local state govern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 led coordination of collaboration / linking between EC funding projects in the same region or country; could be worked into the program design during the proposal stag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previous consideration of previous experience of the organization/ NGO when looking in the new call;</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a section of previous experience and lessons learnt and their impact on the program desig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dentify project management constraints and best practices which can be shared in order to improve the projects intended result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hort program periods; funding could allow for longer program terms if required.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fficulty to scale up projects in the absence of organized workers union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straints of working with a government that is non-existen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nt management; interpretation of rules by the Delegation differently by the local delegation staff.</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funding or more flexibility for experts from Europe to travel for the provide technical training, staff development, salar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C to reinforce financial requirements by promoting these lessons in country with lead and partner agencies if possible.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dget flexibility of more than 15% variation within budget lin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ed to time to build capacity build locally as groundwork to then start the initiative.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t to make mandatory human rights and advocacy  in the call for proposals in the case of restrictive government environments e.g. Ethiopia.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 financing could be more flexible to include in kind contribution.</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practi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ble to do small scale projects for piloting new idea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ze inclusion of cross cutting themes within each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evaluation meetings with recipient organiza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takes time and cost to develop best practices; would be good if the next call supports these aspect more strongly. Action; the EC could have a virtual workshop of current workshop attendants in the coming year which would not be costly but would be able to yield interesting resul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12:54:54Z</dcterms:created>
  <dc:creator>Hp 4330s</dc:creator>
  <dc:description/>
  <dc:language>en-US</dc:language>
  <cp:lastModifiedBy>ANTONUCCI Carla (DEVCO)</cp:lastModifiedBy>
  <dcterms:modified xsi:type="dcterms:W3CDTF">2012-07-13T15:13:12Z</dcterms:modified>
  <cp:revision>33</cp:revision>
  <dc:subject/>
  <dc:title>SOCIAL PROTECTION GROUP</dc:title>
</cp:coreProperties>
</file>