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3D376-1366-4C73-A99D-335529AE9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2E1B6-BEF0-48B2-AA7A-45E507A85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15987-49F1-4E9E-B82A-78D2C5540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F2A2B-63EA-4AE4-B859-4911B8B0C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64A6B-6763-442B-BFA8-6384F1F84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5F263-282D-447C-8A92-7F18062E5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56E69-1329-495E-9F91-0BC7673BB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1460B-C66E-4D31-A951-FC402D2F7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BCB3B-427B-4A03-A7AB-4E8037F3E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FB0B4-0716-4177-928C-672B8DA9D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BA546-A31A-4409-A055-D79873307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3F10D-83C1-41F2-885B-A100C7479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2164E-BC74-4F75-A72C-118B426C0D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PROTECTION GROUP</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Responses to the ques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ice given by Henrick</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more on the global level but informed by lessons learnt from the local context; and scale it up.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t would be managed at a global / national level. For smaller actions in country grants would be better sui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ints I don’t know where to classify</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eline survey; Need for sound statistics on the informal sector; numbers, in urban/ rural, contribution to the country. Should be made public and used to design actions and identify advocacy issu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1</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Calibri"/>
              </a:rPr>
              <a:t>What are the possible options for obtaining decent living and working conditions without joining the formal economy? </a:t>
            </a:r>
            <a:endParaRPr b="0" lang="en-US" sz="13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vidual level sustainability; Individual empowerment e.g. marketability of existing skills, training  in new skills, will be able to be self sufficient + increase self awareness of rights + train on ways of getting organized.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lf empowerment could also include increased access to services, linking to skills development and income generating sources/ opportunities + individual follow up.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llective action based solutions; engage in social dialogue ; communities lobbying collectively for their needs with the local / national governments e.g in unions, cooperatives associations that can better represent community needs and provide social protective mechanisms for them e.g. tax relief, health insurance, share equipment and quality assurance and increase the ease of aggregating products to the market, mobilize greater savings, hold a more collective bargaining position, promote good value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ancial sustainability: Access to informal/ group oriented capital sources and investments (micro loan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cial dimension;  ensure community integration and involvement in the processes from the beginning.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ognition and certification.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fordable and appropriate services (health and education system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tablishing or building a legal framework.</a:t>
            </a:r>
            <a:endParaRPr b="0" lang="en-US" sz="14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advocacy to national legal frameworks to recognize, regulate and  protect groups of informal settlement workers. (per sector). </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2</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How could the multiplier and development effects of the projects be increased?</a:t>
            </a:r>
            <a:r>
              <a:rPr b="0" lang="en-US" sz="2700" spc="-1" strike="noStrike">
                <a:solidFill>
                  <a:srgbClr val="000000"/>
                </a:solidFill>
                <a:latin typeface="Calibri"/>
              </a:rPr>
              <a:t> </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ing to existing institutions e.g. local govern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new networks or link with current networks that coordinate / harness the work that NGOs are doing, getting a sustained message to the right government dockets for change of legislations etc.   </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up on lessons learned from previous projects from other organizations or from own project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 more strongly with private sector.</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 with populations/ groups with mainstream services as opposed to creating specialized services for certain groups. </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u="sng">
                <a:solidFill>
                  <a:srgbClr val="000000"/>
                </a:solidFill>
                <a:uFillTx/>
                <a:latin typeface="Calibri"/>
              </a:rPr>
              <a:t>Question 3: Which are the lessons learned and the implications for the EC for future calls for proposals targeting the informal economy?</a:t>
            </a:r>
            <a:br>
              <a:rPr sz="4000"/>
            </a:br>
            <a:endParaRPr b="0" lang="en-US" sz="2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ssons lear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nking actors at different levels e.g. government, NGO and private secto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vestment in people/ individuals through NGOs and their partner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lement bilateral fund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GOs have experience, have link to community that state does not have.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om for small scale and innovative project for piloting; can undertake more experimental work. </a:t>
            </a:r>
            <a:endParaRPr b="0" lang="en-US" sz="3000" spc="-1" strike="noStrike">
              <a:solidFill>
                <a:srgbClr val="000000"/>
              </a:solidFill>
              <a:latin typeface="Calibri"/>
            </a:endParaRPr>
          </a:p>
          <a:p>
            <a:pPr lvl="1" marL="7430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ommendation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a holistic approach to the call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oader design that can be targeted.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nd exploratory studies into the informal sector in a smaller scale that will allow for a body of work that can demonstrate impact that can be scaled up.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experience sharing e.g. study tou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nger timeframes for the interventions where necessary for social processe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nding for capacity building of local state govern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 led coordination of collaboration / linking between EC funding projects in the same region or country; could be worked into the program design during the proposal stag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previous consideration of previous experience of the organization/ NGO when looking in the new call;</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 a section of previous experience and lessons learnt and their impact on the program design.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Identify project management constraints and best practices which can be shared in order to improve the projects intended results</a:t>
            </a:r>
            <a:r>
              <a:rPr b="0" lang="en-US" sz="1800" spc="-1" strike="noStrike">
                <a:solidFill>
                  <a:srgbClr val="000000"/>
                </a:solidFill>
                <a:latin typeface="Calibri"/>
              </a:rPr>
              <a:t>.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hort program periods; funding could allow for longer program terms if required.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fficulty to scale up projects in the absence of organized workers union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nstraints of working with a government that is non-existent.</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Grant management; interpretation of rules by the Delegation differently by the local delegation staff.</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ore  funding or more flexibility for experts from Europe to travel for the provide technical training, staff development, salary.</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C to reinforce financial requirements by promoting these lessons in country with lead and partner agencies if possible.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udget flexibility of more than 15% variation within budget line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eed to time to build capacity build locally as groundwork to then start the initiative.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t to make mandatory human rights and advocacy  in the call for proposals in the case of restrictive government environments e.g. Ethiopia.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 financing could be more flexible to include in kind contribution.</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 practic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able to do small scale projects for piloting new idea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hasize inclusion of cross cutting themes within each pro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 evaluation meetings with recipient organization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takes time and cost to develop best practices; would be good if the next call supports these aspect more strongly. Action; the EC could have a virtual workshop of current workshop attendants in the coming year which would not be costly but would be able to yield interesting result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12:54:54Z</dcterms:created>
  <dc:creator>Hp 4330s</dc:creator>
  <dc:description/>
  <dc:language>en-US</dc:language>
  <cp:lastModifiedBy>ANTONUCCI Carla (DEVCO)</cp:lastModifiedBy>
  <dcterms:modified xsi:type="dcterms:W3CDTF">2012-07-13T15:13:12Z</dcterms:modified>
  <cp:revision>33</cp:revision>
  <dc:subject/>
  <dc:title>SOCIAL PROTECTION GROUP</dc:title>
</cp:coreProperties>
</file>