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FD1E-C248-4472-8562-F23530A7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A1F-C85E-4114-91A1-0EC2026A4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7FB-03BA-44DC-95B6-16CD5E4968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6EA6-B0DE-4D5E-B6EA-C88313DC6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020-D7FA-4D76-8A53-3DC08044C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E18-2701-4A64-95A0-97B88153E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52DC-A7A3-4383-A88E-8BBC8F69E2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724-27C7-4A9E-ADF5-5C1B3ADC8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C18-08ED-4EE2-B5EA-1D425C94EA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9C83-47F2-42E4-9E22-212BEED0A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B90A-B90E-49F0-A519-7E177B984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175C-A373-4D99-A2F0-468B6B556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B35A-C4FE-46A2-B289-D99CE9FF2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B54B8-A766-4A23-985E-CBB3DCFB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3C28-D2A7-4A7F-BD3D-8BB2FF02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57152-15D8-4947-8804-890B72D4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8338E-1514-4787-AF97-348072FE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CD85E-4EFA-44EE-9AEF-810D58A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DDA6-2B7A-4ADF-B703-7515ABE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D44F2-E7AB-46C4-8495-11FF4DA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DB59-7646-4625-840C-2C410D029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DA969-F482-4B49-B7A7-0E12F9C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5BF2B-09D9-4BB8-994F-4A2DD5A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4D172-5006-4A3E-90B9-D977970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6208A-E6A9-4375-95DA-14D30197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3B7B-1556-40E3-9D29-B0F2A6C7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CE83-087A-4C1F-9767-C0E8B84C8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C5FD-46BB-412E-B49A-F72864C02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C0AC-D07C-43BD-B77F-37DA502E3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2C88-E639-4439-B294-E7B5EC44C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1AD1-F95F-4C28-986A-17BD9E170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CFB2-B903-4E76-BF41-1CD901EBF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518F-E8F0-4222-B6D1-DF5E7C7CD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rot="3042000">
            <a:off x="332604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-7308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48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017-939D-40A5-B990-9EC1B6B91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GraphicTIF1"/>
          <p:cNvPicPr/>
          <p:nvPr/>
        </p:nvPicPr>
        <p:blipFill>
          <a:blip r:embed="rId2"/>
          <a:stretch/>
        </p:blipFill>
        <p:spPr>
          <a:xfrm>
            <a:off x="8229600" y="6095880"/>
            <a:ext cx="9237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 rot="2770800">
            <a:off x="332568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-7632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GraphicTIF1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A11-D74B-48A6-A648-963DE9EE2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G3"/>
          <p:cNvPicPr/>
          <p:nvPr/>
        </p:nvPicPr>
        <p:blipFill>
          <a:blip r:embed="rId1"/>
          <a:stretch/>
        </p:blipFill>
        <p:spPr>
          <a:xfrm>
            <a:off x="-533520" y="22860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Asian Development Bank and Social Protection</a:t>
            </a:r>
            <a:br>
              <a:rPr sz="4800"/>
            </a:br>
            <a:br>
              <a:rPr sz="4800"/>
            </a:b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entation by Bart W. É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 Social Protection Training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4 June 2012 - Bangk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PI Highligh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expenditures on social insurance &gt; social assistance and labor market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ending/GDP: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7% in Vanuatu to 19.2%  in Japan (mean of 4.2%, median 2.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: broad SP programs with small benefits to larg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: narrow SP programs with generous benefits to f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Partnerships for SP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laboration on MDGs with UN partners, on jobs with ILO, on health with WHO and UNAIDS, and social sectors with UNICE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ular dialogue with global union federations and the ITU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nowledge sharing across the South between ADB and Inter-American Development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action with bilateral development agencies and N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992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ADB Views Social Prot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sential for inclusive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ks the cycle of 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sts i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ndia poverty.jpg"/>
          <p:cNvPicPr/>
          <p:nvPr/>
        </p:nvPicPr>
        <p:blipFill>
          <a:blip r:embed="rId1"/>
          <a:stretch/>
        </p:blipFill>
        <p:spPr>
          <a:xfrm>
            <a:off x="4610160" y="3886200"/>
            <a:ext cx="4533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Social Protection Strateg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 poverty &amp; vulner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ngthen country 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hance partne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a medium-to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ng-term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trategy 2020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Exp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uman capacities through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059" descr="cat_community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ngo rep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unding Social Prot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ll share of ADB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ns, grants,  &amp; TAs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 reform and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ikes in c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ducation, health, 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nditure management/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id02_07b"/>
          <p:cNvPicPr/>
          <p:nvPr/>
        </p:nvPicPr>
        <p:blipFill>
          <a:blip r:embed="rId1"/>
          <a:stretch/>
        </p:blipFill>
        <p:spPr>
          <a:xfrm>
            <a:off x="5419800" y="1600200"/>
            <a:ext cx="3724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eas of Social Protec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market policies/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insurance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 and area based sche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ANGLADESH_(F)_0340_-_Disable_begger_in_Dhaka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velop Knowledge Solution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876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analysis of social protection trends and polic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ular attention to so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and br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sharing events i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ko-graphic"/>
          <p:cNvPicPr/>
          <p:nvPr/>
        </p:nvPicPr>
        <p:blipFill>
          <a:blip r:embed="rId1"/>
          <a:stretch/>
        </p:blipFill>
        <p:spPr>
          <a:xfrm>
            <a:off x="5715000" y="1371600"/>
            <a:ext cx="289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ocial Protection Index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 expenditures per potential beneficiaries divided by poverty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more than 3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ding, poverty targeting,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llaboration with OECD and 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indicator for inclusive growth within ADB’s result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classroom%20with%20Little%20Hands%20of%20Asia%20backpacks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0:56:57Z</dcterms:created>
  <dc:creator>OIST</dc:creator>
  <dc:description/>
  <dc:language>en-US</dc:language>
  <cp:lastModifiedBy>Nick</cp:lastModifiedBy>
  <cp:lastPrinted>2002-11-26T00:08:22Z</cp:lastPrinted>
  <dcterms:modified xsi:type="dcterms:W3CDTF">2012-06-14T05:14:49Z</dcterms:modified>
  <cp:revision>192</cp:revision>
  <dc:subject/>
  <dc:title>No Slide Title</dc:title>
</cp:coreProperties>
</file>