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6C6F-25A5-4AB7-9717-C11C94B24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78BB-F280-4024-A7C9-68CDDD7D65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2A0F-5ECB-4C0C-9C9E-84F6029313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BAB3-B4A4-41C2-8822-A1A0CAC730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6F5D-6866-4E95-9F76-FFFE3FDEAE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744E-9F1C-4450-AB94-ACC2D838E6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C3BC-2B63-4A8B-912F-82F950995D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02A6-53F0-437C-A40A-1CCEEF3C2D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2188-C730-4E8E-978E-B0D902D735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976D-BEB1-43C6-B93D-F0AE6B4A6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A28E-BB22-4FE3-8FBE-8EDFA47F8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D222D-87A1-45E2-8C73-DAC4B807A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59F42-70AA-48E0-8878-39AA29433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A890C-4F4E-491B-A859-845FAB73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79A5F-EBCF-46B5-8E17-2773A93A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543C9-9304-4BBB-AAA9-2589F191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96EDC-5798-4B5A-BBD4-E7B17D49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99ED9-B919-4678-ADE5-35E25F37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385CC-2275-4747-ADE9-640142DB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B202D-E5C0-48AD-AE6A-FEE64A3A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1842B-119E-490D-AE48-97ED03E9B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EDA57-ABC4-43F9-BE3A-D50D1586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905F9-56D7-440F-8361-2D81B87B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7AE8A-CFB0-402E-A142-57F3BE12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2E177-5EDE-4CD6-8CD5-CAE641EB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14CC2-3231-4878-87CB-D7C79EF0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7903-619E-42CE-B0F5-CA41BD21F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6A2B3-8324-4792-B52B-FEFB151CE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67641-401C-4D86-B674-7067AC9A5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FD9CC-C77A-42D7-A3CD-9606908DC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ABFF2-1F2B-4A21-BAC4-AE9379171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0DF4-BF33-45D3-884A-DB81D6C0E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D522-3E99-46A7-A9EB-E081A4A65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 rot="3042000">
            <a:off x="3326040" y="325440"/>
            <a:ext cx="6172200" cy="5937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20"/>
          <p:cNvSpPr/>
          <p:nvPr/>
        </p:nvSpPr>
        <p:spPr>
          <a:xfrm>
            <a:off x="-73080" y="6684840"/>
            <a:ext cx="8686800" cy="1731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248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5E0A-ECB0-4BBF-BEAC-CC21D1E39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8" descr="GraphicTIF1"/>
          <p:cNvPicPr/>
          <p:nvPr/>
        </p:nvPicPr>
        <p:blipFill>
          <a:blip r:embed="rId2"/>
          <a:stretch/>
        </p:blipFill>
        <p:spPr>
          <a:xfrm>
            <a:off x="8229600" y="6095880"/>
            <a:ext cx="92376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2"/>
          <p:cNvSpPr/>
          <p:nvPr/>
        </p:nvSpPr>
        <p:spPr>
          <a:xfrm rot="2770800">
            <a:off x="3325680" y="325440"/>
            <a:ext cx="6172200" cy="5937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-76320" y="6684840"/>
            <a:ext cx="8686800" cy="1731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GraphicTIF1"/>
          <p:cNvPicPr/>
          <p:nvPr/>
        </p:nvPicPr>
        <p:blipFill>
          <a:blip r:embed="rId2"/>
          <a:stretch/>
        </p:blipFill>
        <p:spPr>
          <a:xfrm>
            <a:off x="8226360" y="6095880"/>
            <a:ext cx="924120" cy="790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172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D427-7018-4847-B370-3427140423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BG3"/>
          <p:cNvPicPr/>
          <p:nvPr/>
        </p:nvPicPr>
        <p:blipFill>
          <a:blip r:embed="rId1"/>
          <a:stretch/>
        </p:blipFill>
        <p:spPr>
          <a:xfrm>
            <a:off x="-533520" y="22860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6000"/>
            </a:br>
            <a:br>
              <a:rPr sz="6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The Asian Development Bank and Social Protection</a:t>
            </a:r>
            <a:br>
              <a:rPr sz="4800"/>
            </a:br>
            <a:br>
              <a:rPr sz="4800"/>
            </a:b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23880" y="37335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esentation by Bart W. É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C Social Protection Training Cou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4 June 2012 - Bangk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SPI Highlights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 expenditures on social insurance &gt; social assistance and labor market program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spending/GDP: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7% in Vanuatu to 19.2%  in Japan (mean of 4.2%, median 2.5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countries: broad SP programs with small benefits to larg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: narrow SP programs with generous benefits to fe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Partnerships for SP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llaboration on MDGs with UN partners, on jobs with ILO, on health with WHO and UNAIDS, and social sectors with UNICE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gular dialogue with global union federations and the ITU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nowledge sharing across the South between ADB and Inter-American Development Ba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action with bilateral development agencies and NG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Thank You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992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6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How ADB Views Social Prot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ssential for inclusive grow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eaks the cycle of pove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vests in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6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9" descr="india poverty.jpg"/>
          <p:cNvPicPr/>
          <p:nvPr/>
        </p:nvPicPr>
        <p:blipFill>
          <a:blip r:embed="rId1"/>
          <a:stretch/>
        </p:blipFill>
        <p:spPr>
          <a:xfrm>
            <a:off x="4610160" y="3886200"/>
            <a:ext cx="453384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Social Protection Strategy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duce poverty &amp; vulner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rengthen country fo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nhance partner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ake a medium-to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ng-term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Strategy 2020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: Exp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uman capacities through invest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059" descr="cat_community"/>
          <p:cNvPicPr/>
          <p:nvPr/>
        </p:nvPicPr>
        <p:blipFill>
          <a:blip r:embed="rId1"/>
          <a:stretch/>
        </p:blipFill>
        <p:spPr>
          <a:xfrm>
            <a:off x="5791320" y="228600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ngo rep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Funding Social Protection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mall share of ADB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all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ans, grants,  &amp; TAs f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P reform and expa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pikes in cr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ducation, health, publ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enditure management/fi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id02_07b"/>
          <p:cNvPicPr/>
          <p:nvPr/>
        </p:nvPicPr>
        <p:blipFill>
          <a:blip r:embed="rId1"/>
          <a:stretch/>
        </p:blipFill>
        <p:spPr>
          <a:xfrm>
            <a:off x="5419800" y="1600200"/>
            <a:ext cx="37242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reas of Social Protection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5181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or market policies/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insurance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as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 and area based sche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d 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BANGLADESH_(F)_0340_-_Disable_begger_in_Dhaka"/>
          <p:cNvPicPr/>
          <p:nvPr/>
        </p:nvPicPr>
        <p:blipFill>
          <a:blip r:embed="rId1"/>
          <a:stretch/>
        </p:blipFill>
        <p:spPr>
          <a:xfrm>
            <a:off x="4876920" y="1676520"/>
            <a:ext cx="3809880" cy="363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Develop Knowledge Solutions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4876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analysis of social protection trends and policy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ular attention to social ass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orts and brie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sharing events in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ko-graphic"/>
          <p:cNvPicPr/>
          <p:nvPr/>
        </p:nvPicPr>
        <p:blipFill>
          <a:blip r:embed="rId1"/>
          <a:stretch/>
        </p:blipFill>
        <p:spPr>
          <a:xfrm>
            <a:off x="5715000" y="1371600"/>
            <a:ext cx="28954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ocial Protection Index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 expenditures per potential beneficiaries divided by poverty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s more than 30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nding, poverty targeting, cove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ollaboration with OECD and I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new indicator for inclusive growth within ADB’s results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classroom%20with%20Little%20Hands%20of%20Asia%20backpacks"/>
          <p:cNvPicPr/>
          <p:nvPr/>
        </p:nvPicPr>
        <p:blipFill>
          <a:blip r:embed="rId1"/>
          <a:stretch/>
        </p:blipFill>
        <p:spPr>
          <a:xfrm>
            <a:off x="838080" y="228600"/>
            <a:ext cx="792504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4T00:56:57Z</dcterms:created>
  <dc:creator>OIST</dc:creator>
  <dc:description/>
  <dc:language>en-US</dc:language>
  <cp:lastModifiedBy>Nick</cp:lastModifiedBy>
  <cp:lastPrinted>2002-11-26T00:08:22Z</cp:lastPrinted>
  <dcterms:modified xsi:type="dcterms:W3CDTF">2012-06-14T05:14:49Z</dcterms:modified>
  <cp:revision>192</cp:revision>
  <dc:subject/>
  <dc:title>No Slide Title</dc:title>
</cp:coreProperties>
</file>