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F819-DD07-42BB-9411-875C1A7B5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43E1-E70E-490B-BE1A-D69BE3690A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B699-565F-47D3-A2E2-8E4193A7D2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7EF0-6E4A-4E67-9396-E7FDECEF1C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6A38-98F2-492F-806C-173963D561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0157-48A9-4260-9868-205E95CF8E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B66B-0BAB-4060-8ED4-ABFF4D5C6F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29F0-5CD9-4A1D-9023-B35A10CB57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53F9-B024-4627-AB51-54A70801A2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15CCE-177D-452F-88B5-299283E5E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27B6-9D81-475D-ABCD-13DCD08D3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93F6-682A-4FC4-9CA8-EBD0B2DA3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446DA-2D98-4816-9DFF-C181FB28F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D9C02-C4FE-4A6C-9EEE-655A048B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439B9-2735-4A64-8A81-77DC8F95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5D3B1-DA9B-49BC-A6A9-9A521472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B5B72-F82A-4665-BD28-A67A9C22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EF062-60EE-4922-97D2-8D1F7791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CAD2E-5C2D-420F-8835-BDDB1734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9AB5F-1742-457D-8692-E84AF148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54CAA-7070-4806-AD5F-8C24C2229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78C4D-2ADD-4932-9E8B-847ABDE2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AD9F5-5882-4F92-9E07-C7CF5F9F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8372D-DAC1-4C20-A7B5-096FC6ED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AC08B-26FE-42ED-A205-A6369822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FF3BD-642A-4237-A21B-C59D2B8C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B8368-4A28-42FC-ADF9-1D7FDBDBE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02E0-7473-4143-A259-6AE625E3D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8759-F96F-4C3D-A0ED-54ECA7CE7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5D3A-E66B-4D83-8258-650B74128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82AE-1781-40E8-9204-5C55E34B7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7A24-F311-4A34-ABDA-9682C05A8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3465-992A-4553-92F0-76842C72C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 rot="3042000">
            <a:off x="3326040" y="325440"/>
            <a:ext cx="6172200" cy="5937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20"/>
          <p:cNvSpPr/>
          <p:nvPr/>
        </p:nvSpPr>
        <p:spPr>
          <a:xfrm>
            <a:off x="-73080" y="6684840"/>
            <a:ext cx="8686800" cy="1731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248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0640-73F8-4AD1-9630-4AD0996EB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8" descr="GraphicTIF1"/>
          <p:cNvPicPr/>
          <p:nvPr/>
        </p:nvPicPr>
        <p:blipFill>
          <a:blip r:embed="rId2"/>
          <a:stretch/>
        </p:blipFill>
        <p:spPr>
          <a:xfrm>
            <a:off x="8229600" y="6095880"/>
            <a:ext cx="92376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2"/>
          <p:cNvSpPr/>
          <p:nvPr/>
        </p:nvSpPr>
        <p:spPr>
          <a:xfrm rot="2770800">
            <a:off x="3325680" y="325440"/>
            <a:ext cx="6172200" cy="5937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-76320" y="6684840"/>
            <a:ext cx="8686800" cy="1731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GraphicTIF1"/>
          <p:cNvPicPr/>
          <p:nvPr/>
        </p:nvPicPr>
        <p:blipFill>
          <a:blip r:embed="rId2"/>
          <a:stretch/>
        </p:blipFill>
        <p:spPr>
          <a:xfrm>
            <a:off x="8226360" y="6095880"/>
            <a:ext cx="924120" cy="790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172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E497-FA9F-4BFF-B9B4-FBCB7BBC2F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BG3"/>
          <p:cNvPicPr/>
          <p:nvPr/>
        </p:nvPicPr>
        <p:blipFill>
          <a:blip r:embed="rId1"/>
          <a:stretch/>
        </p:blipFill>
        <p:spPr>
          <a:xfrm>
            <a:off x="-533520" y="22860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6000"/>
            </a:br>
            <a:br>
              <a:rPr sz="6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he Asian Development Bank and Social Protection</a:t>
            </a:r>
            <a:br>
              <a:rPr sz="4800"/>
            </a:br>
            <a:br>
              <a:rPr sz="4800"/>
            </a:b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23880" y="37335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esentation by Bart W. É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C Social Protection Training Cou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4 June 2012 - Bangk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SPI Highlights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 expenditures on social insurance &gt; social assistance and labor market progra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spending/GDP: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7% in Vanuatu to 19.2%  in Japan (mean of 4.2%, median 2.5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countries: broad SP programs with small benefits to larg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: narrow SP programs with generous benefits to fe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Partnerships for SP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laboration on MDGs with UN partners, on jobs with ILO, on health with WHO and UNAIDS, and social sectors with UNICE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gular dialogue with global union federations and the ITU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nowledge sharing across the South between ADB and Inter-American Development Ba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action with bilateral development agencies and NG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Thank You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992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6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How ADB Views Social Prot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ssential for inclusive grow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eaks the cycle of pove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vests in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6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9" descr="india poverty.jpg"/>
          <p:cNvPicPr/>
          <p:nvPr/>
        </p:nvPicPr>
        <p:blipFill>
          <a:blip r:embed="rId1"/>
          <a:stretch/>
        </p:blipFill>
        <p:spPr>
          <a:xfrm>
            <a:off x="4610160" y="3886200"/>
            <a:ext cx="453384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Social Protection Strategy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duce poverty &amp; vulner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rengthen country fo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nhance partner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ake a medium-to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ng-term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Strategy 2020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: Exp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uman capacities through invest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059" descr="cat_community"/>
          <p:cNvPicPr/>
          <p:nvPr/>
        </p:nvPicPr>
        <p:blipFill>
          <a:blip r:embed="rId1"/>
          <a:stretch/>
        </p:blipFill>
        <p:spPr>
          <a:xfrm>
            <a:off x="5791320" y="228600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ngo rep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Funding Social Protection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mall share of ADB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ans, grants,  &amp; TAs f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P reform and expa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pikes in cr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ducation, health, publ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nditure management/fi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id02_07b"/>
          <p:cNvPicPr/>
          <p:nvPr/>
        </p:nvPicPr>
        <p:blipFill>
          <a:blip r:embed="rId1"/>
          <a:stretch/>
        </p:blipFill>
        <p:spPr>
          <a:xfrm>
            <a:off x="5419800" y="1600200"/>
            <a:ext cx="37242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reas of Social Protection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5181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or market policies/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insurance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as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 and area based sche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BANGLADESH_(F)_0340_-_Disable_begger_in_Dhaka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363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Develop Knowledge Solutions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4876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analysis of social protection trends and policy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ular attention to social ass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orts and brie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sharing events in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ko-graphic"/>
          <p:cNvPicPr/>
          <p:nvPr/>
        </p:nvPicPr>
        <p:blipFill>
          <a:blip r:embed="rId1"/>
          <a:stretch/>
        </p:blipFill>
        <p:spPr>
          <a:xfrm>
            <a:off x="5715000" y="1371600"/>
            <a:ext cx="28954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ocial Protection Index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 expenditures per potential beneficiaries divided by poverty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s more than 30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nding, poverty targeting, cove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ollaboration with OECD and I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new indicator for inclusive growth within ADB’s results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classroom%20with%20Little%20Hands%20of%20Asia%20backpacks"/>
          <p:cNvPicPr/>
          <p:nvPr/>
        </p:nvPicPr>
        <p:blipFill>
          <a:blip r:embed="rId1"/>
          <a:stretch/>
        </p:blipFill>
        <p:spPr>
          <a:xfrm>
            <a:off x="838080" y="228600"/>
            <a:ext cx="792504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4T00:56:57Z</dcterms:created>
  <dc:creator>OIST</dc:creator>
  <dc:description/>
  <dc:language>en-US</dc:language>
  <cp:lastModifiedBy>Nick</cp:lastModifiedBy>
  <cp:lastPrinted>2002-11-26T00:08:22Z</cp:lastPrinted>
  <dcterms:modified xsi:type="dcterms:W3CDTF">2012-06-14T05:14:49Z</dcterms:modified>
  <cp:revision>192</cp:revision>
  <dc:subject/>
  <dc:title>No Slide Title</dc:title>
</cp:coreProperties>
</file>