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72C3-7CED-48A8-9C89-5679F6639A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 broad definition of social protection in view of the fact that there are so many different definitions used by different actors. </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protection may be broadly defined therefore as policies and actions that:</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hance the capacity of all people, but notably the poor and vulnerable groups, to escape from poverty, or avoid falling into poverty, and better manage risks and shock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and</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im at providing a higher level of social security through income security and access to essential services (in particular, health and education) throughout active and inactive periods and periods of need throughout the lifecycle.</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ocial protection systems vary widely across the Union with no commonly accepted definition of social protection. However, EU Member States are in principle committed to providing </a:t>
            </a:r>
            <a:r>
              <a:rPr b="1" lang="en-GB" sz="1200" spc="-1" strike="noStrike">
                <a:solidFill>
                  <a:srgbClr val="000000"/>
                </a:solidFill>
                <a:latin typeface="Arial"/>
              </a:rPr>
              <a:t>universal access to social protection</a:t>
            </a:r>
            <a:r>
              <a:rPr b="0" lang="en-GB" sz="1200" spc="-1" strike="noStrike">
                <a:solidFill>
                  <a:srgbClr val="000000"/>
                </a:solidFill>
                <a:latin typeface="Arial"/>
              </a:rPr>
              <a:t> against the major lifecycl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highly developed European social protection systems have provided important buffers against risk and income poverty, as well as limiting inequality in Europe, but persistent economic difficulties due to the financial crisis have raised difficult questions about their affordability and efficiency. In response, the EU is seeking new ways of delivering high levels of social protection at lower cost to its entire population, including greater emphasis on the role of the labour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ICs – Fiscal space exists. the elements of a modern sp system may have already been established with some components of social insurance now in place. However, the coverage (particularly on contributory schemes) is generally low. Challenge to extend the coverage to those in the informal economy. MICs also operate a host of discrete social assistance programmes designed to reach specific groups and increase their access to basic services. The effectiveness of these schemes varies widely, although evidence from LA or Asia suggest that well designed programmes can be hightly effective in reaching the poor and other vulnerable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ICs – Lack of resources, weakness of institutions. In a context of little industrialisation and large rural population, most citizens remain uncovered by organised methods of sp and are vulnerable to shocks, even when family and other informal networks can provide partial compensation. Social transfer programmes remain the dominant form of social protection, with donors often playing an important role in their design and funding. Such programmes are often fragmented and most have failed to develop into sustainable government owned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se limitations, there is an important shift in attitudes. Where economies are growing, the demand for SP from citizens has also increased, and governments are having to respond. Yet the challenge for them is both to design sp programmes that have better coverage (and hence address equity issues) but also to operate them with greater efficiency, and in ways that are fiscally fea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oint 7 (Differentiated Development Partnerships): The </a:t>
            </a:r>
            <a:r>
              <a:rPr b="0" i="1" lang="en-GB" sz="1200" spc="-1" strike="noStrike">
                <a:solidFill>
                  <a:srgbClr val="000000"/>
                </a:solidFill>
                <a:latin typeface="Arial"/>
              </a:rPr>
              <a:t>Agenda for Change</a:t>
            </a:r>
            <a:r>
              <a:rPr b="0" lang="en-GB" sz="1200" spc="-1" strike="noStrike">
                <a:solidFill>
                  <a:srgbClr val="000000"/>
                </a:solidFill>
                <a:latin typeface="Arial"/>
              </a:rPr>
              <a:t> proposes a differentiated EU approach to aid allocation and partnership. Support for the development of social protection systems is relevant to both LICs and MICs, but countries at middle income status will have more fiscal and institutional capacity than LICs. Some of these countries will have graduated from large-scale EU development cooperation financing through bilateral geographical programmes. However, support for the development of social protection systems in these countries, in particular for technical assistance and exchanges, may still be delivered through regional geographic instruments and through thematic programm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n point 8 (Coordinated Action): The EU has expressed support for the concept of nationally-defined social protection floors (</a:t>
            </a:r>
            <a:r>
              <a:rPr b="1" i="1" lang="en-GB" sz="1200" spc="-1" strike="noStrike" u="sng">
                <a:solidFill>
                  <a:srgbClr val="000000"/>
                </a:solidFill>
                <a:uFillTx/>
                <a:latin typeface="Arial"/>
              </a:rPr>
              <a:t>ILC 2012).</a:t>
            </a:r>
            <a:r>
              <a:rPr b="0" lang="en-GB" sz="1200" spc="-1" strike="noStrike">
                <a:solidFill>
                  <a:srgbClr val="000000"/>
                </a:solidFill>
                <a:latin typeface="Arial"/>
              </a:rPr>
              <a:t> The concept of Social Protection Floors could provide a well defined basis on which to build coordinated and, where possible, joint EU support for social protection with partner countries which decide to develop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raining the key meetings were the breakfast meetings with representatives of Asian and Pacific states and the round table in Bangkok on 26/27 March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40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lear that most responses were from iterested parties – orgaisations and experts – based in HICs, mainly Europe. The total of 135 responses means this was a meaningful survey of the views of this specialised group. It does not represent so well the views of the ‘general public’, whether in Europe or in partner countr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questions where there was a divergence of views – question4 and question 14. In all others there was strong agreement with the positiv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this presentation assumes knowledge of the issues paper. It should be distribut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ssue of sustainablity and fiscal space is a key issue for governments. On average HICs spend 19.4% of GDP on social security and health. MICs spend 7% and LIC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are from most recent available year (2006) and are weighted by population. Taken from the ILO World Social Security Report of 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tributory systems not relevant where poverty is prevalent, such as rural India or the Pacific is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issue of getting people to 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rge discussion re affordability, re universal schemes vs.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ddressing employment risk as well as addressing livelihood risk. Question of affordability. One option would be move to high coverage/low benefit schemes with active encouragement for individual savings (appropriate for informal sector workers). To date, most Asian countries have mainly emphasised policies aimed at stimulating job creation. Job growth has depended on many factors, including a supportive business environment, including labour market institutions that do not impose excessive regulatory costs. However, the balance between employer and worker rights was seen by some as being far too skewed towards employers, leading to a lack of trust. Moving away from the systems of job protection and severance towards providing time-restricted, income support to workers that have been made unemployed is likely to be an important policy objective in the future. European experience with regard to the labour market has been highly diverse. At a minimum, Asian countries could get a sense of best (and worst) practice when designing organised systems of risk management for unemployed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ocial policy in post-conflict situations like Nepal, where strong feeling that social protection is politically moti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eport on the BKK round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nciples were mentioned at the outset. The first was that EU development cooperation was based on the European social model of inclusion and equity. The second was the recognition that emerging markets were now major players in the global economy. The third was the desire for alignment with global initiatives, such as Social Protection Floors. A common element was the objective of making social protection more mainstream. As regards implementation, there would be a stress on donor coordination to provide long term and predictable funding and support. There was a commitment that in future at least 20% of EU aid would be allocated to social inclusion and human development. By 2013, the EU would also have set up an expert facility from Member States to Partner countries and was interested in extending to practitioners from emerging markets (South-South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emphasised again that social protection policies should reflect national priorities and objectives, should not be imposed from outside nor adopt a one-size-fits-all approach. While EU experience was relevant, Asian countries should be able to choose from other countries/models. Further, it was pointed out that donor coordination on the ground was often lacking. It was also important that the EU did not duplicate other efforts and should coordinate better with its constituent parts. Building capacity in existing institutions and social protection programmes was seen as important. The EU’s role was not likely to be in large scale funding, but in assistance with design, advice regarding implementation and general technical assistance. This could also involve supporting exchanges and learning from others' experiences, including within the reg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Despite impresive growth in the world economy, 1.5 billion people still live in extreme poverty, two thirds of them middle-income countries.In lower income countries (LICs), in particular, ill health and disease, lack of adequate knowledge and skills and repeated exposure to severe livelihood shocks prevent millions of poor people from participating effectively in the labour market or as entrepreneurs in order to escape from poverty. The global food, fuel and financial crises have exacerbated these impacts on the livelihood and employment security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2. Social protection can play a key role in reducing poverty and vulnerability.</a:t>
            </a:r>
            <a:r>
              <a:rPr b="1" lang="en-GB" sz="1200" spc="-1" strike="noStrike">
                <a:solidFill>
                  <a:srgbClr val="000000"/>
                </a:solidFill>
                <a:latin typeface="Arial"/>
              </a:rPr>
              <a:t> </a:t>
            </a:r>
            <a:r>
              <a:rPr b="0" lang="en-GB" sz="1200" spc="-1" strike="noStrike">
                <a:solidFill>
                  <a:srgbClr val="000000"/>
                </a:solidFill>
                <a:latin typeface="Arial"/>
              </a:rPr>
              <a:t>By increasing equity and providing protection against risk, social protection can support poverty reduction and inclusive growth, as well as supporting social cohesion and stability through ensuring economic and social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a:t>
            </a:r>
            <a:r>
              <a:rPr b="0" i="1" lang="en-GB" sz="1200" spc="-1" strike="noStrike">
                <a:solidFill>
                  <a:srgbClr val="000000"/>
                </a:solidFill>
                <a:latin typeface="Arial"/>
              </a:rPr>
              <a:t>Agenda for Change</a:t>
            </a:r>
            <a:r>
              <a:rPr b="0" lang="en-GB" sz="1200" spc="-1" strike="noStrike">
                <a:solidFill>
                  <a:srgbClr val="000000"/>
                </a:solidFill>
                <a:latin typeface="Arial"/>
              </a:rPr>
              <a:t> sets out EU policy on future development cooperation. It calls for a more comprehensive approach to human development, supporting increased access to quality health and education services and enhanced social protection in support of inclusive growth characterised by "people's ability to participate in and benefit from wealth and job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The European Council, the European Parliament, international organisations and civil society have requested the Commission to revisit the place of social protection in EU development coopera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n 2011, the Commission launched a consultation which confirmed the relevance and timeliness of developing a policy framework for future EU support to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a:t>
            </a:r>
            <a:r>
              <a:rPr b="0" lang="en-GB" sz="1200" spc="-1" strike="noStrike">
                <a:solidFill>
                  <a:srgbClr val="000000"/>
                </a:solidFill>
                <a:latin typeface="Arial"/>
              </a:rPr>
              <a:t>Council Conclusions 11068/07, European Parliament Resolution 2011/20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8D8B2-639A-4202-8E8B-36F47D3E7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B6D73-ADF6-4C4D-A27E-9664230FC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48CDE-B800-4ECD-A83C-725CD5F57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C8C07-46D9-4B93-ADC2-75EB26DC3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0C824-8909-4725-A6BF-77DA28611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E8F96-FE00-4466-86B7-CA3610DF9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60ADA-3BE1-49B9-B789-845F823D5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E5538-E2F2-455C-9C4C-CCBCF15CB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EC55C-1A6B-484E-AAA3-8DF396502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6E701-B77F-44D7-921B-60DB577E6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8B614-4A15-42BA-B850-59384683C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E6D5C-9E48-45A3-AD1A-09585DAC5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B7A61-9042-4DDB-AA42-E607794AA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F9C36-5AF2-46E8-AA0D-9E631BF46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6EFE7-ADD8-46AE-B885-FE9B8851A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D23E8-08BD-424C-AC5E-F7C39F8C2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50F48-CFD6-4988-9F08-BBBD40322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F6E06-F981-4A35-A8DC-70DFD690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A78BD-F1DA-4799-9324-44AA3D7F2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0556A-2595-463F-969B-A0C8352D7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D8BE7-DCDB-4940-8CC6-C7F01269B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2FC1-FADA-425E-A345-A8499FDDE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084F-273C-4C04-8F82-EF99D2E4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7FA2D-2415-412B-8C8B-22E078D02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3526-E7B2-4CD2-A66B-C63F42420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5568-73EC-4824-8AA6-34D948F230C2}"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c.europa.eu/europeaid/how/public-consultations/6404_en.ht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the new Social Protection Communication and implications for EC work in Asia and the Pacific</a:t>
            </a:r>
            <a:endParaRPr b="1" lang="en-US" sz="24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1" lang="en-US" sz="2000" spc="-1" strike="noStrike">
                <a:solidFill>
                  <a:srgbClr val="0f5494"/>
                </a:solidFill>
                <a:latin typeface="Verdana"/>
              </a:rPr>
              <a:t>purpose</a:t>
            </a:r>
            <a:r>
              <a:rPr b="0" lang="en-US" sz="2000" spc="-1" strike="noStrike">
                <a:solidFill>
                  <a:srgbClr val="0f5494"/>
                </a:solidFill>
                <a:latin typeface="Verdana"/>
              </a:rPr>
              <a:t> of the communication:</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1" lang="en-US" sz="2000" spc="-1" strike="noStrike">
                <a:solidFill>
                  <a:srgbClr val="0f5494"/>
                </a:solidFill>
                <a:latin typeface="Verdana"/>
              </a:rPr>
              <a:t>'…to explain the role of SP in underpinning inclusive and sustainable development and the role of EU dev. Cooperation in supporting the strengthening of social protection policies and systems.' </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r>
              <a:rPr b="1" lang="fr-BE" sz="3000" spc="-1" strike="noStrike">
                <a:solidFill>
                  <a:srgbClr val="0f5494"/>
                </a:solidFill>
                <a:latin typeface="Verdana"/>
              </a:rPr>
              <a:t>	</a:t>
            </a:r>
            <a:endParaRPr b="1" lang="en-US" sz="3000" spc="-1" strike="noStrike">
              <a:solidFill>
                <a:srgbClr val="0f5494"/>
              </a:solidFill>
              <a:latin typeface="Verdana"/>
            </a:endParaRPr>
          </a:p>
        </p:txBody>
      </p:sp>
      <p:sp>
        <p:nvSpPr>
          <p:cNvPr id="116" name="PlaceHolder 2"/>
          <p:cNvSpPr>
            <a:spLocks noGrp="1"/>
          </p:cNvSpPr>
          <p:nvPr>
            <p:ph/>
          </p:nvPr>
        </p:nvSpPr>
        <p:spPr>
          <a:xfrm>
            <a:off x="468360" y="2491920"/>
            <a:ext cx="8229600" cy="3529080"/>
          </a:xfrm>
          <a:prstGeom prst="rect">
            <a:avLst/>
          </a:prstGeom>
          <a:noFill/>
          <a:ln w="0">
            <a:noFill/>
          </a:ln>
        </p:spPr>
        <p:txBody>
          <a:bodyPr lIns="90000" rIns="90000" tIns="46800" bIns="46800" anchor="t">
            <a:normAutofit/>
          </a:bodyPr>
          <a:p>
            <a:pPr marL="343080" indent="-343080">
              <a:spcBef>
                <a:spcPts val="799"/>
              </a:spcBef>
              <a:buClr>
                <a:srgbClr val="0f5494"/>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is social protection and what can it do?</a:t>
            </a:r>
            <a:endParaRPr b="0" i="1" lang="en-US" sz="3200" spc="-1" strike="noStrike">
              <a:solidFill>
                <a:srgbClr val="0f5494"/>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road definition of social protection.</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 summary of the ways in which SP supports inclusive economic growth</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05228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8" name="PlaceHolder 2"/>
          <p:cNvSpPr>
            <a:spLocks noGrp="1"/>
          </p:cNvSpPr>
          <p:nvPr>
            <p:ph/>
          </p:nvPr>
        </p:nvSpPr>
        <p:spPr>
          <a:xfrm>
            <a:off x="539280" y="1915920"/>
            <a:ext cx="8147160" cy="4105080"/>
          </a:xfrm>
          <a:prstGeom prst="rect">
            <a:avLst/>
          </a:prstGeom>
          <a:noFill/>
          <a:ln w="0">
            <a:noFill/>
          </a:ln>
        </p:spPr>
        <p:txBody>
          <a:bodyPr lIns="90000" rIns="90000" tIns="46800" bIns="46800" anchor="t">
            <a:normAutofit/>
          </a:bodyPr>
          <a:p>
            <a:pPr marL="35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55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What is SP and What can it do to support inclusive development?</a:t>
            </a:r>
            <a:br>
              <a:rPr sz="1800"/>
            </a:br>
            <a:endParaRPr b="0" i="1" lang="en-US" sz="1800" spc="-1" strike="noStrike">
              <a:solidFill>
                <a:srgbClr val="0f5494"/>
              </a:solidFill>
              <a:latin typeface="Verdana"/>
            </a:endParaRPr>
          </a:p>
          <a:p>
            <a:pPr marL="355680" indent="-355680" algn="ct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4 dimensions of SP:</a:t>
            </a:r>
            <a:br>
              <a:rPr sz="1600"/>
            </a:br>
            <a:r>
              <a:rPr b="1" lang="en-GB" sz="1600" spc="-1" strike="noStrike">
                <a:solidFill>
                  <a:srgbClr val="0f5494"/>
                </a:solidFill>
                <a:latin typeface="Verdana"/>
              </a:rPr>
              <a:t> </a:t>
            </a:r>
            <a:endParaRPr b="0" i="1" lang="en-US" sz="16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tection instruments [social assist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ension schemes; child protection; food/cash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eventative instruments [insur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surance schemes; unemployment schemes; livelihood diversification</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motive instruments [productivity enhancing]</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cro-credit; Public Works Programmes; assets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5494"/>
                </a:solidFill>
                <a:latin typeface="Verdana"/>
              </a:rPr>
              <a:t>Transformative instruments [social justice/Rights Based Approaches]</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nimum wage; maternity benefits; legislation</a:t>
            </a:r>
            <a:endParaRPr b="1" lang="en-US" sz="1400" spc="-1" strike="noStrike">
              <a:solidFill>
                <a:srgbClr val="0f5494"/>
              </a:solidFill>
              <a:latin typeface="Verdan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55680" indent="-3556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Source: </a:t>
            </a:r>
            <a:r>
              <a:rPr b="1" i="1" lang="en-GB" sz="1000" spc="-1" strike="noStrike">
                <a:solidFill>
                  <a:srgbClr val="0f5494"/>
                </a:solidFill>
                <a:latin typeface="Verdana"/>
              </a:rPr>
              <a:t>M. Davies, IDS Centre for Social Protection)</a:t>
            </a: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Communcation</a:t>
            </a: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799"/>
              </a:spcBef>
              <a:buClr>
                <a:srgbClr val="0f5494"/>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P in The European Union.</a:t>
            </a:r>
            <a:endParaRPr b="0" i="1" lang="en-US" sz="3200" spc="-1" strike="noStrike">
              <a:solidFill>
                <a:srgbClr val="0f5494"/>
              </a:solidFill>
              <a:latin typeface="Verdan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P at the heart of EU social model</a:t>
            </a:r>
            <a:endParaRPr b="1" lang="en-US" sz="2000" spc="-1" strike="noStrike">
              <a:solidFill>
                <a:srgbClr val="0f5494"/>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roblems EU faces today.</a:t>
            </a:r>
            <a:endParaRPr b="1" lang="en-US" sz="2000" spc="-1" strike="noStrike">
              <a:solidFill>
                <a:srgbClr val="0f5494"/>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al Protection in Developing Economies.</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MICs the challenges are to broaden coverage and to improve efficienc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LICs funding and institutional capacity are the main constraints.</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common challenge: sustainable financing, extending coverage, building capacit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newed commitment by the international community : the Social Protection Floors Initiative</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4" name="PlaceHolder 2"/>
          <p:cNvSpPr>
            <a:spLocks noGrp="1"/>
          </p:cNvSpPr>
          <p:nvPr>
            <p:ph/>
          </p:nvPr>
        </p:nvSpPr>
        <p:spPr>
          <a:xfrm>
            <a:off x="468360" y="2276640"/>
            <a:ext cx="8229600" cy="3528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 The future direction of EU Development Cooperation in support of social protection.</a:t>
            </a: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t>
            </a:r>
            <a:r>
              <a:rPr b="1" i="1" lang="en-US" sz="2000" spc="-1" strike="noStrike">
                <a:solidFill>
                  <a:srgbClr val="0f5494"/>
                </a:solidFill>
                <a:latin typeface="Verdana"/>
              </a:rPr>
              <a:t>The goal of EU development cooperation in supporting SP is to improve equity and efficiency in provision, while supporting inclusion and social cohesion.”</a:t>
            </a:r>
            <a:endParaRPr b="0" i="1" lang="en-US" sz="20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720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mmunication Chapter 5</a:t>
            </a:r>
            <a:endParaRPr b="1" lang="en-US" sz="2000" spc="-1" strike="noStrike">
              <a:solidFill>
                <a:srgbClr val="0f5494"/>
              </a:solidFill>
              <a:latin typeface="Verdana"/>
            </a:endParaRPr>
          </a:p>
        </p:txBody>
      </p:sp>
      <p:sp>
        <p:nvSpPr>
          <p:cNvPr id="126" name="PlaceHolder 2"/>
          <p:cNvSpPr>
            <a:spLocks noGrp="1"/>
          </p:cNvSpPr>
          <p:nvPr>
            <p:ph/>
          </p:nvPr>
        </p:nvSpPr>
        <p:spPr>
          <a:xfrm>
            <a:off x="468360" y="2204640"/>
            <a:ext cx="8229600" cy="3816360"/>
          </a:xfrm>
          <a:prstGeom prst="rect">
            <a:avLst/>
          </a:prstGeom>
          <a:noFill/>
          <a:ln w="0">
            <a:noFill/>
          </a:ln>
        </p:spPr>
        <p:txBody>
          <a:bodyPr lIns="90000" rIns="90000" tIns="46800" bIns="46800" anchor="t">
            <a:normAutofit/>
          </a:bodyPr>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 Placing social protection at the centre of dialogue on national development strategi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 Supporting national policies and programm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i) Revenue reform for fiscal space</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v) Capacity building for strong institution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 EU Added value in technical cooperation</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 Support for job creation and employment</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 Bring in civil society and the private sector</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i) Support for transformative social protection and social justice</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x) Gender in social protection</a:t>
            </a: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8" name="PlaceHolder 2"/>
          <p:cNvSpPr>
            <a:spLocks noGrp="1"/>
          </p:cNvSpPr>
          <p:nvPr>
            <p:ph/>
          </p:nvPr>
        </p:nvSpPr>
        <p:spPr>
          <a:xfrm>
            <a:off x="324000" y="2204640"/>
            <a:ext cx="8229600" cy="4319640"/>
          </a:xfrm>
          <a:prstGeom prst="rect">
            <a:avLst/>
          </a:prstGeom>
          <a:noFill/>
          <a:ln w="0">
            <a:noFill/>
          </a:ln>
        </p:spPr>
        <p:txBody>
          <a:bodyPr lIns="90000" rIns="90000" tIns="46800" bIns="46800" anchor="t">
            <a:normAutofit/>
          </a:bodyPr>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6. Development cooperation Programming and modalitie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 may be a focal sector or a dimension in other sector programme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ll aid modalities are relevant. BS can be particularly appropriate.</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7. Differentiated development partnership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LICs / MIC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8. Coordinated EU action.</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creased coordination at field level.</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F could provide a basis for coordination.</a:t>
            </a:r>
            <a:r>
              <a:rPr b="1" lang="en-GB" sz="1000" spc="-1" strike="noStrike">
                <a:solidFill>
                  <a:srgbClr val="0f5494"/>
                </a:solidFill>
                <a:latin typeface="Verdana"/>
              </a:rPr>
              <a:t> </a:t>
            </a:r>
            <a:endParaRPr b="0" i="1" lang="en-US" sz="10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9. Improved coherence among EU policies.</a:t>
            </a:r>
            <a:endParaRPr b="0" i="1" lang="en-US" sz="1600" spc="-1" strike="noStrike">
              <a:solidFill>
                <a:srgbClr val="0f5494"/>
              </a:solidFill>
              <a:latin typeface="Verdana"/>
            </a:endParaRPr>
          </a:p>
          <a:p>
            <a:pPr marL="5079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xt steps</a:t>
            </a:r>
            <a:endParaRPr b="1" lang="en-US" sz="3000" spc="-1" strike="noStrike">
              <a:solidFill>
                <a:srgbClr val="0f5494"/>
              </a:solidFill>
              <a:latin typeface="Verdana"/>
            </a:endParaRPr>
          </a:p>
        </p:txBody>
      </p:sp>
      <p:sp>
        <p:nvSpPr>
          <p:cNvPr id="13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doption by the Commission: August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uncil conclusions: October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nsultation process (Nov 2011 to March 2012):</a:t>
            </a:r>
            <a:endParaRPr b="1" lang="en-US" sz="20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Consultation meetings: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Member States, civil society, international organisations, partner countries (round tables in Casablanca, Addis Ababa and Bangkok and meetings with Embassies in Brussels).</a:t>
            </a:r>
            <a:endParaRPr b="0" i="1" lang="en-US" sz="1800" spc="-1" strike="noStrike">
              <a:solidFill>
                <a:srgbClr val="0f5494"/>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line consultation:</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lang="en-GB" sz="1800" spc="-1" strike="noStrike" u="sng">
                <a:solidFill>
                  <a:srgbClr val="009999"/>
                </a:solidFill>
                <a:uFillTx/>
                <a:latin typeface="Verdana"/>
                <a:hlinkClick r:id="rId1"/>
              </a:rPr>
              <a:t>http://ec.europa.eu/europeaid/how/public-consultations/6404_en.htm</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	</a:t>
            </a:r>
            <a:r>
              <a:rPr b="0" i="1" lang="en-GB" sz="1800" spc="-1" strike="noStrike">
                <a:solidFill>
                  <a:srgbClr val="0f5494"/>
                </a:solidFill>
                <a:latin typeface="Verdana"/>
              </a:rPr>
              <a:t>(Closed: 24th February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339920"/>
            <a:ext cx="8085240" cy="504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ponses to online consultation</a:t>
            </a:r>
            <a:endParaRPr b="1" lang="en-US" sz="2000" spc="-1" strike="noStrike">
              <a:solidFill>
                <a:srgbClr val="0f5494"/>
              </a:solidFill>
              <a:latin typeface="Verdana"/>
            </a:endParaRPr>
          </a:p>
        </p:txBody>
      </p:sp>
      <p:sp>
        <p:nvSpPr>
          <p:cNvPr id="100" name="PlaceHolder 2"/>
          <p:cNvSpPr>
            <a:spLocks noGrp="1"/>
          </p:cNvSpPr>
          <p:nvPr>
            <p:ph/>
          </p:nvPr>
        </p:nvSpPr>
        <p:spPr>
          <a:xfrm>
            <a:off x="468360" y="1844640"/>
            <a:ext cx="8136000" cy="4464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income level</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Number</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Share</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High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dle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ow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1</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8%</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TOTAL</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00%</a:t>
            </a: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type of organisat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ational authority</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ternational organisatio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GO</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50</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37%</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ademi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6%</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eneral Publ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Other</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reg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sia &amp; Pacif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4</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urop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atin America &amp; Caribbea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7</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 East &amp; North 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orth Ame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estion 4:</a:t>
            </a:r>
            <a:endParaRPr b="0" i="1" lang="en-US" sz="2000" spc="-1" strike="noStrike">
              <a:solidFill>
                <a:srgbClr val="0f5494"/>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	</a:t>
            </a:r>
            <a:r>
              <a:rPr b="0" lang="en-US" sz="1400" spc="-1" strike="noStrike">
                <a:solidFill>
                  <a:srgbClr val="0f5494"/>
                </a:solidFill>
                <a:latin typeface="Verdana"/>
              </a:rPr>
              <a:t>The European Social model was created for Europe in the mid 20th century, when full employment in the formal sector was the norm. However, the extensive social security systems characteristic of the European Union Member States are unsuited to the economies of emerging and developing countries, which cannot afford them.</a:t>
            </a:r>
            <a:endParaRPr b="0" i="1" lang="en-US" sz="1400" spc="-1" strike="noStrike">
              <a:solidFill>
                <a:srgbClr val="0f5494"/>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20%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1%</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6.5%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	</a:t>
            </a:r>
            <a:r>
              <a:rPr b="0" lang="en-US" sz="2000" spc="-1" strike="noStrike">
                <a:solidFill>
                  <a:srgbClr val="0f5494"/>
                </a:solidFill>
                <a:latin typeface="Verdana"/>
              </a:rPr>
              <a:t>4.5%</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Question 14: </a:t>
            </a:r>
            <a:endParaRPr b="0" i="1" lang="en-US" sz="2400" spc="-1" strike="noStrike">
              <a:solidFill>
                <a:srgbClr val="0f5494"/>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a:t>
            </a:r>
            <a:r>
              <a:rPr b="0" lang="en-US" sz="1600" spc="-1" strike="noStrike">
                <a:solidFill>
                  <a:srgbClr val="0f5494"/>
                </a:solidFill>
                <a:latin typeface="Verdana"/>
              </a:rPr>
              <a:t>Social transfers, including social protection benefits, belong to the recurrent part of national budgets and should not therefore be funded by development partners such as the EU.</a:t>
            </a:r>
            <a:endParaRPr b="0" i="1" lang="en-US" sz="16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16% </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2%</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6%</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Online consultation:</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6"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trong support for improving SP &amp; a clear role for EU development cooperation</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values, long experience and diverse systems as a basis for EU added valu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signed well, SP can raise inclusion, lower poverty &amp; risk without reducing growth</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But diversity of local conditions rules out template models</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ational priorities &amp; design should dominat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stainability depends on mix of institutional, political &amp; funding support</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Low income countries, in particular, face severe constraints</a:t>
            </a:r>
            <a:endParaRPr b="0" i="1" lang="en-US" sz="1800" spc="-1" strike="noStrike">
              <a:solidFill>
                <a:srgbClr val="0f5494"/>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P not just to support growth: Importance of social policy for social cohes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sign</a:t>
            </a:r>
            <a:r>
              <a:rPr b="0" i="1" lang="en-GB" sz="2000" spc="-1" strike="noStrike">
                <a:solidFill>
                  <a:srgbClr val="0f5494"/>
                </a:solidFill>
                <a:latin typeface="Verdana"/>
              </a:rPr>
              <a:t>: balance between contributory / non-contributory approaches – need for local adapt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ffordability</a:t>
            </a:r>
            <a:r>
              <a:rPr b="0" i="1" lang="en-GB" sz="2000" spc="-1" strike="noStrike">
                <a:solidFill>
                  <a:srgbClr val="0f5494"/>
                </a:solidFill>
                <a:latin typeface="Verdana"/>
              </a:rPr>
              <a:t>: funding models – tax </a:t>
            </a:r>
            <a:r>
              <a:rPr b="0" lang="en-GB" sz="2000" spc="-1" strike="noStrike">
                <a:solidFill>
                  <a:srgbClr val="0f5494"/>
                </a:solidFill>
                <a:latin typeface="Verdana"/>
              </a:rPr>
              <a:t>vs</a:t>
            </a:r>
            <a:r>
              <a:rPr b="0" i="1" lang="en-GB" sz="2000" spc="-1" strike="noStrike">
                <a:solidFill>
                  <a:srgbClr val="0f5494"/>
                </a:solidFill>
                <a:latin typeface="Verdana"/>
              </a:rPr>
              <a:t> debt or aid - &amp; their predictability; institutional precondi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mployment</a:t>
            </a:r>
            <a:r>
              <a:rPr b="0" i="1" lang="en-GB" sz="2000" spc="-1" strike="noStrike">
                <a:solidFill>
                  <a:srgbClr val="0f5494"/>
                </a:solidFill>
                <a:latin typeface="Verdana"/>
              </a:rPr>
              <a:t>: relevance of contributory programmes – but challenge of informal sector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vil society</a:t>
            </a:r>
            <a:r>
              <a:rPr b="0" i="1" lang="en-GB" sz="2000" spc="-1" strike="noStrike">
                <a:solidFill>
                  <a:srgbClr val="0f5494"/>
                </a:solidFill>
                <a:latin typeface="Verdana"/>
              </a:rPr>
              <a:t>: (a) advocacy &amp; empowerment, (b) improving accountability &amp; (c )service deliver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 (2)</a:t>
            </a:r>
            <a:endParaRPr b="1" lang="en-US" sz="2600" spc="-1" strike="noStrike">
              <a:solidFill>
                <a:srgbClr val="0f5494"/>
              </a:solidFill>
              <a:latin typeface="Verdana"/>
            </a:endParaRPr>
          </a:p>
        </p:txBody>
      </p:sp>
      <p:sp>
        <p:nvSpPr>
          <p:cNvPr id="11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U rol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European Social Model (inclusion and equity); 2. recognise emerging mark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lign with global initiatives – the SP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national priorities dominat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better donor coordination needed;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U can help with design / technical assistanc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80880" indent="-380880">
              <a:lnSpc>
                <a:spcPct val="90000"/>
              </a:lnSpc>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y is social protection important?</a:t>
            </a:r>
            <a:endParaRPr b="0" i="1" lang="en-US" sz="2400" spc="-1" strike="noStrike">
              <a:solidFill>
                <a:srgbClr val="0f5494"/>
              </a:solidFill>
              <a:latin typeface="Verdan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ersistent poverty and increasing vulnerability.</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cial protection in support of inclusive development.</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genda for Change</a:t>
            </a:r>
            <a:r>
              <a:rPr b="0" lang="en-US" sz="2000" spc="-1" strike="noStrike">
                <a:solidFill>
                  <a:srgbClr val="0f5494"/>
                </a:solidFill>
                <a:latin typeface="Verdana"/>
              </a:rPr>
              <a:t>: </a:t>
            </a:r>
            <a:br>
              <a:rPr sz="2000"/>
            </a:br>
            <a:r>
              <a:rPr b="0" lang="en-US" sz="2000" spc="-1" strike="noStrike">
                <a:solidFill>
                  <a:srgbClr val="0f5494"/>
                </a:solidFill>
                <a:latin typeface="Verdana"/>
              </a:rPr>
              <a:t>inclusive sustainable growth for human development;  focus on sectors which build the foundations of growth and help ensure it is inclusive, notably social protection, health and education. </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alls on the Commission to draft a policy framework.</a:t>
            </a:r>
            <a:endParaRPr b="0" i="1" lang="en-US" sz="2000" spc="-1" strike="noStrike">
              <a:solidFill>
                <a:srgbClr val="0f5494"/>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presentation</cp:lastModifiedBy>
  <dcterms:modified xsi:type="dcterms:W3CDTF">2012-06-11T08:29:22Z</dcterms:modified>
  <cp:revision>105</cp:revision>
  <dc:subject/>
  <dc:title>Slide 1</dc:title>
</cp:coreProperties>
</file>