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0962-87E2-43C7-8B58-19C732E11F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ool block grants have been introduced to off-set fee abolition for school operational (non-salary) budgets and school development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B955-AC79-41DB-92F3-3BDCFA09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5887-18AC-4E88-8EAC-5FD2295F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6EF-3380-4BDF-AFC1-78605C00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BC97-3960-4EB8-AD77-4DBADC28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7C43-3EDD-4B11-A124-EF510C41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F1AA-2FBB-4872-A594-6302A76D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EDB3-F2CB-46EA-AF54-A07109B3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5973-091A-4465-B44D-11A296C5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5ABE-2278-4C25-9A4F-E4B1DE30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E5E0-55F7-403F-9A20-7AEDC9D9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BEC6-919D-44BF-83C9-3917F7F4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550D-2803-4A19-8CFB-AB9D931E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A860-452A-4743-B0CE-BEC5D35E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7F17-A925-4836-8509-8AD0A6C8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F242-CCC0-40B7-A16E-5376CC52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F326-8176-417D-8F37-6D78674B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1F5D-3B23-4B2D-A378-AF60DD71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772A-B1E5-450A-B74C-BD79D528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206-9BE3-4DF4-A976-96DB35B2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F33B-F725-4416-B7CC-0A013E8D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FA1-DAE2-48CB-9881-6178F4A9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942-EC04-4E95-BE5F-634798C0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41B-C6E3-4C50-B3F0-74EBF3F2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858-BBE6-4735-A841-DB8F2970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B44C-227A-4172-9494-B7EB7780B3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20D9-037C-44AF-98FB-1C3132B71F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ocial Protection System, Lao PD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cial Protection Semina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ngkok June 12-15, 20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257800" y="228600"/>
            <a:ext cx="3168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EU involves in social protection projects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udget support 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versal Health covera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e M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ool Block Grants (Capitation Gran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munity Nutrition Project (Trust Fund/AA with W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ditional Cash Transfer pilot program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lobal Partnership for Education (GP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ool Block Grants and Community Gr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ool Meals program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228600"/>
            <a:ext cx="3168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hool Block Gra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o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help facilitate equitable access to basic educa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provide administrative funding to schools to finance their operating cos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facilitate the school administration, learning and teaching activities by ensuring that teachers and students have adequate and sufficient instructional mate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increase enrollment by reducing education costs for parent with a focus on gradually eradicating school fees (registration and instruction fee) for basic and post basic education in the futur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increase the completion rate by improving school conditions, learning and social/community particip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304920"/>
            <a:ext cx="3168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tu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rrent FY2011/2012, the Government allocated LAK 16 billion (appx. USD2 million) or LAK 20,000/student/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mited local capac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certainty of the budgetary allo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he block grant methodology implemented by MoES has induced a lot of perverse incentives or coping mechanism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isks associated with Block grants distribution to scho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ay forwar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bilize TA and capacity development support to the MoES and MoF, to assist in the delivery of SBGs to primary schoo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Gs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hool development plan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Quality Standar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171360"/>
            <a:ext cx="3168720" cy="763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14600" y="4905360"/>
            <a:ext cx="463680" cy="123840"/>
          </a:xfrm>
          <a:prstGeom prst="leftRightArrow">
            <a:avLst>
              <a:gd name="adj1" fmla="val 50000"/>
              <a:gd name="adj2" fmla="val 7453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4952880"/>
            <a:ext cx="463680" cy="123840"/>
          </a:xfrm>
          <a:prstGeom prst="leftRightArrow">
            <a:avLst>
              <a:gd name="adj1" fmla="val 50000"/>
              <a:gd name="adj2" fmla="val 7453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304920"/>
            <a:ext cx="3168720" cy="763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71800" y="2971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9:30:47Z</dcterms:created>
  <dc:creator>vongsch</dc:creator>
  <dc:description/>
  <dc:language>en-US</dc:language>
  <cp:lastModifiedBy>vongsch</cp:lastModifiedBy>
  <dcterms:modified xsi:type="dcterms:W3CDTF">2012-05-28T08:53:01Z</dcterms:modified>
  <cp:revision>9</cp:revision>
  <dc:subject/>
  <dc:title>Social Protection System, Lao PDR</dc:title>
</cp:coreProperties>
</file>