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507B-ABEC-407D-8103-C3C18A3073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ool block grants have been introduced to off-set fee abolition for school operational (non-salary) budgets and school development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9B3-A4D8-4294-A236-2D547CC0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38E-8089-490B-B791-E5B4017C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70C-A5A8-44A1-BAE0-F84F06CE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02B-9926-472E-ADC9-822B579B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8AB0-635F-4043-A14E-551DADA7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79A1-84E7-4B89-940A-AF996FD5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AE59-2F9D-4A60-AB1A-F3AB1139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20F0-E4E5-407D-A6F0-17A51913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E5FC-F04A-4D87-AACC-24EEA981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23E3-CAA3-4446-A7F4-91D56E98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F3A4-A782-4F68-93F0-EBC4D7E5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4E9-317A-4FB5-A814-0350B0E4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9273-EC62-4300-9F78-ED1372F3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10F9-3D11-4C80-BCE0-EBF435B3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8F74-16D5-494A-9883-E92D4C79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DD47-BB82-4AA0-AEDD-93F98EF2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BE6E-1ACF-481D-80C4-BA818DA4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BE6-93A9-439E-9A8C-820B234B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ECD-DCA9-4553-8734-27654260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32A-3F76-42C5-9028-855D4887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C8E-570D-4BE0-BBEB-FDD6CA00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932-680C-4508-A263-9210306A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346-C93B-4C5F-9831-BDA8EB9A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6DE-AE60-4A2D-B309-A7A5C386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B217-6127-443F-8989-A535DD6865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D78A-3256-4C69-B9D4-A789D179EA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ocial Protection System, Lao PD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cial Protection Semina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ngkok June 12-15, 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257800" y="22860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EU involves in social protection projects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udget support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al Health cover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e M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Block Grants (Capitation Gran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munity Nutrition Project (Trust Fund/AA with W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itional Cash Transfer pilot program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lobal Partnership for Education (GP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Block Grants and Community Gr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Meals program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22860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hool Block Gra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o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help facilitate equitable access to basic educ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provide administrative funding to schools to finance their operating cos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facilitate the school administration, learning and teaching activities by ensuring that teachers and students have adequate and sufficient instructional mate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increase enrollment by reducing education costs for parent with a focus on gradually eradicating school fees (registration and instruction fee) for basic and post basic education in the futu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increase the completion rate by improving school conditions, learning and social/community particip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30492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tu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rrent FY2011/2012, the Government allocated LAK 16 billion (appx. USD2 million) or LAK 20,000/student/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mited local capac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certainty of the budgetary allo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e block grant methodology implemented by MoES has induced a lot of perverse incentives or coping mechanism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isks associated with Block grants distribution to scho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ay forwa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bilize TA and capacity development support to the MoES and MoF, to assist in the delivery of SBGs to primary schoo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Gs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ool development plan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Quality Standa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171360"/>
            <a:ext cx="3168720" cy="763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14600" y="4905360"/>
            <a:ext cx="463680" cy="123840"/>
          </a:xfrm>
          <a:prstGeom prst="leftRightArrow">
            <a:avLst>
              <a:gd name="adj1" fmla="val 50000"/>
              <a:gd name="adj2" fmla="val 7453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952880"/>
            <a:ext cx="463680" cy="123840"/>
          </a:xfrm>
          <a:prstGeom prst="leftRightArrow">
            <a:avLst>
              <a:gd name="adj1" fmla="val 50000"/>
              <a:gd name="adj2" fmla="val 7453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304920"/>
            <a:ext cx="3168720" cy="763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7180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9:30:47Z</dcterms:created>
  <dc:creator>vongsch</dc:creator>
  <dc:description/>
  <dc:language>en-US</dc:language>
  <cp:lastModifiedBy>vongsch</cp:lastModifiedBy>
  <dcterms:modified xsi:type="dcterms:W3CDTF">2012-05-28T08:53:01Z</dcterms:modified>
  <cp:revision>9</cp:revision>
  <dc:subject/>
  <dc:title>Social Protection System, Lao PDR</dc:title>
</cp:coreProperties>
</file>