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5135-661C-44FB-AF07-BF0FE93C3F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block grants have been introduced to off-set fee abolition for school operational (non-salary) budgets and school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A15-A407-4028-A594-2F517AF7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7EA-4C0C-49DB-8BF1-8A5D39FB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9B1-46F4-4825-9A26-0AA514C7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962-23B4-4AA1-B811-5ADB3A4B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EF01-E970-44C4-96CE-1B018FCB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ECDB-FEF3-4A8C-B529-ED167332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825A-EF74-4079-AEB3-F2E89E2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0CDA-1EB0-4D54-996C-1A80CC52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4A58-C968-429F-A726-EB4B96D7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F622-3EA0-4587-AC19-C6F3619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F1B4-E017-46B8-B872-F41F03EF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647-3ED2-438A-B083-4861BFA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FFCA-797A-45D4-B6D5-3B7262FD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A3BE-00C9-4294-B188-510644D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1112-D896-4226-88AC-60D8A3F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5B93-31A2-4875-A7B6-2F2F17FD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6FA9-95DE-43E2-BD1F-EDC81DD7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E8C-BFE6-4EA8-A498-BB8EECB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450-7448-4D9E-A80B-6B7446CD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60B-6E9E-4AAE-B64B-A1521B9F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705-7548-4818-B936-28DCEF93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FD4-B750-48FB-B2D5-64C9E90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450-B0F3-45B4-9CA7-13630FAE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AA1-CFD0-4FEE-976E-7C6FFC19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9482-6887-4B1D-A30D-5CD00EC33C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809-00A8-4F57-B846-5D7F2D4E31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ocial Protection System, Lao PD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ection Semin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ngkok June 12-15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2578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U involves in social protection project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dget support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Health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 M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(Capitation Gra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unity Nutrition Project (Trust Fund/AA with W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al Cash Transfer pilo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al Partnership for Education (G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and Community G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Meals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hool Block Gr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elp facilitate equitable access to basic edu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vide administrative funding to schools to finance their operating co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acilitate the school administration, learning and teaching activities by ensuring that teachers and students have adequate and sufficient instructional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enrollment by reducing education costs for parent with a focus on gradually eradicating school fees (registration and instruction fee) for basic and post basic education in the fut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the completion rate by improving school conditions, learning and social/community particip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 FY2011/2012, the Government allocated LAK 16 billion (appx. USD2 million) or LAK 20,000/student/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ed local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certainty of the budgetary allo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block grant methodology implemented by MoES has induced a lot of perverse incentives or coping mechanis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sks associated with Block grants distribution to 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ay forw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ze TA and capacity development support to the MoES and MoF, to assist in the delivery of SBGs to primary sch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G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development pla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Quality Stand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17136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490536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30:47Z</dcterms:created>
  <dc:creator>vongsch</dc:creator>
  <dc:description/>
  <dc:language>en-US</dc:language>
  <cp:lastModifiedBy>vongsch</cp:lastModifiedBy>
  <dcterms:modified xsi:type="dcterms:W3CDTF">2012-05-28T08:53:01Z</dcterms:modified>
  <cp:revision>9</cp:revision>
  <dc:subject/>
  <dc:title>Social Protection System, Lao PDR</dc:title>
</cp:coreProperties>
</file>