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7ae1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247ae1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8541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DAFF-76BD-4932-94E3-CB998159A4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0038-5312-48B4-9A1B-BF332E9F43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DD61-B303-4E6F-B248-95CC1F8AD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7ae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7013-33B1-4540-B30C-DCE110F5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7ae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7715-BB8B-45D7-9C92-801C54466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7ae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2B4B-F205-4244-8C2D-B1B5AF57B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7ae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AB49-3CED-41C7-87FA-7C6789E7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7ae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B4C5-F173-4243-9536-EDB31CB9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7ae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74E1-A29B-4B7C-BA36-865C1235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7a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D38A-521D-4EA2-9BA4-2273E943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68360" y="269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6430-EB23-4CAE-AA80-8C75EBB9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7ae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4B21-7F1A-4BAA-9734-2950358F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7ae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1D3C-C9D0-4F2B-B92D-285F775C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7ae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E4C9-A238-44C9-81BA-E223AA67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7ae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247ae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9238-2F72-4884-8000-D4346381D4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98F8-8F2A-4AA4-9B93-067B4B5DFB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Organization Chart 20"/>
          <p:cNvGrpSpPr/>
          <p:nvPr/>
        </p:nvGrpSpPr>
        <p:grpSpPr>
          <a:xfrm>
            <a:off x="7701120" y="5877000"/>
            <a:ext cx="839160" cy="834480"/>
            <a:chOff x="7701120" y="5877000"/>
            <a:chExt cx="839160" cy="834480"/>
          </a:xfrm>
        </p:grpSpPr>
        <p:sp>
          <p:nvSpPr>
            <p:cNvPr id="9" name="_s1028"/>
            <p:cNvSpPr/>
            <p:nvPr/>
          </p:nvSpPr>
          <p:spPr>
            <a:xfrm>
              <a:off x="7701120" y="5877000"/>
              <a:ext cx="839160" cy="834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-1440" y="6165720"/>
            <a:ext cx="9145440" cy="704880"/>
          </a:xfrm>
          <a:prstGeom prst="rect">
            <a:avLst/>
          </a:prstGeom>
          <a:solidFill>
            <a:srgbClr val="247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5" descr="C:\Users\ludwist\Desktop\New Logos\eu logo white-steffen.png"/>
          <p:cNvPicPr/>
          <p:nvPr/>
        </p:nvPicPr>
        <p:blipFill>
          <a:blip r:embed="rId2"/>
          <a:srcRect l="0" t="0" r="65492" b="0"/>
          <a:stretch/>
        </p:blipFill>
        <p:spPr>
          <a:xfrm>
            <a:off x="8134200" y="6308640"/>
            <a:ext cx="614520" cy="46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epso.europa.eu/home_en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tle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247ae1"/>
                </a:solidFill>
                <a:latin typeface="Century Gothic"/>
              </a:rPr>
              <a:t>CAST PERMANENT</a:t>
            </a:r>
            <a:br>
              <a:rPr sz="4400"/>
            </a:br>
            <a:r>
              <a:rPr b="1" lang="fr-BE" sz="4400" spc="-1" strike="noStrike">
                <a:solidFill>
                  <a:srgbClr val="247ae1"/>
                </a:solidFill>
                <a:latin typeface="Century Gothic"/>
              </a:rPr>
              <a:t>Selection 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3"/>
          <p:cNvSpPr/>
          <p:nvPr/>
        </p:nvSpPr>
        <p:spPr>
          <a:xfrm>
            <a:off x="1006560" y="1273320"/>
            <a:ext cx="1765080" cy="122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Century Gothic"/>
              </a:rPr>
              <a:t>Registration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Century Gothic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own Arrow 4"/>
          <p:cNvSpPr/>
          <p:nvPr/>
        </p:nvSpPr>
        <p:spPr>
          <a:xfrm rot="16200000">
            <a:off x="2818440" y="1558080"/>
            <a:ext cx="486000" cy="57960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5"/>
          <p:cNvSpPr/>
          <p:nvPr/>
        </p:nvSpPr>
        <p:spPr>
          <a:xfrm>
            <a:off x="3381480" y="1268280"/>
            <a:ext cx="1766880" cy="12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Century Gothic"/>
              </a:rPr>
              <a:t>Preselection by recruiting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own Arrow 6"/>
          <p:cNvSpPr/>
          <p:nvPr/>
        </p:nvSpPr>
        <p:spPr>
          <a:xfrm rot="16200000">
            <a:off x="5201280" y="1550160"/>
            <a:ext cx="486000" cy="57960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7"/>
          <p:cNvSpPr/>
          <p:nvPr/>
        </p:nvSpPr>
        <p:spPr>
          <a:xfrm>
            <a:off x="5757840" y="1276200"/>
            <a:ext cx="2198880" cy="1224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Century Gothic"/>
              </a:rPr>
              <a:t>Testing by EP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9"/>
          <p:cNvSpPr/>
          <p:nvPr/>
        </p:nvSpPr>
        <p:spPr>
          <a:xfrm>
            <a:off x="1006560" y="2809800"/>
            <a:ext cx="3259080" cy="19875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Century Gothic"/>
              </a:rPr>
              <a:t>Reasoning tests (V N A) in Language 1/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Century Gothic"/>
              </a:rPr>
              <a:t>Competency test (knowledge in the field of specialisation) in Language 2/EN FR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own Arrow 13"/>
          <p:cNvSpPr/>
          <p:nvPr/>
        </p:nvSpPr>
        <p:spPr>
          <a:xfrm rot="16200000">
            <a:off x="4613040" y="2535120"/>
            <a:ext cx="773280" cy="1468440"/>
          </a:xfrm>
          <a:prstGeom prst="downArrow">
            <a:avLst>
              <a:gd name="adj1" fmla="val 50000"/>
              <a:gd name="adj2" fmla="val 4998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4211640" y="3059280"/>
            <a:ext cx="167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Arial"/>
              </a:rPr>
              <a:t>if successful, </a:t>
            </a:r>
            <a:br>
              <a:rPr sz="1000"/>
            </a:br>
            <a:r>
              <a:rPr b="0" lang="fr-BE" sz="1000" spc="-1" strike="noStrike">
                <a:solidFill>
                  <a:srgbClr val="000000"/>
                </a:solidFill>
                <a:latin typeface="Arial"/>
              </a:rPr>
              <a:t>results valid for 10 y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Down Arrow 15"/>
          <p:cNvSpPr/>
          <p:nvPr/>
        </p:nvSpPr>
        <p:spPr>
          <a:xfrm rot="16200000">
            <a:off x="4610880" y="3386880"/>
            <a:ext cx="773280" cy="1470240"/>
          </a:xfrm>
          <a:prstGeom prst="downArrow">
            <a:avLst>
              <a:gd name="adj1" fmla="val 50000"/>
              <a:gd name="adj2" fmla="val 4999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6"/>
          <p:cNvSpPr/>
          <p:nvPr/>
        </p:nvSpPr>
        <p:spPr>
          <a:xfrm>
            <a:off x="4210200" y="3911760"/>
            <a:ext cx="167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Arial"/>
              </a:rPr>
              <a:t>if successful, </a:t>
            </a:r>
            <a:br>
              <a:rPr sz="1000"/>
            </a:br>
            <a:r>
              <a:rPr b="0" lang="fr-BE" sz="1000" spc="-1" strike="noStrike">
                <a:solidFill>
                  <a:srgbClr val="000000"/>
                </a:solidFill>
                <a:latin typeface="Arial"/>
              </a:rPr>
              <a:t>results valid for 5 y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17"/>
          <p:cNvSpPr/>
          <p:nvPr/>
        </p:nvSpPr>
        <p:spPr>
          <a:xfrm>
            <a:off x="5757840" y="3098880"/>
            <a:ext cx="2198880" cy="12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Century Gothic"/>
              </a:rPr>
              <a:t>Interview by recruiting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Down Arrow 18"/>
          <p:cNvSpPr/>
          <p:nvPr/>
        </p:nvSpPr>
        <p:spPr>
          <a:xfrm>
            <a:off x="6630840" y="4322880"/>
            <a:ext cx="486000" cy="5792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19"/>
          <p:cNvSpPr/>
          <p:nvPr/>
        </p:nvSpPr>
        <p:spPr>
          <a:xfrm>
            <a:off x="5756400" y="4927680"/>
            <a:ext cx="219708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Century Gothic"/>
              </a:rPr>
              <a:t>Recrui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14"/>
          <p:cNvSpPr/>
          <p:nvPr/>
        </p:nvSpPr>
        <p:spPr>
          <a:xfrm>
            <a:off x="1006560" y="3695760"/>
            <a:ext cx="325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wn Arrow 22"/>
          <p:cNvSpPr/>
          <p:nvPr/>
        </p:nvSpPr>
        <p:spPr>
          <a:xfrm rot="16200000">
            <a:off x="8003160" y="1581840"/>
            <a:ext cx="486000" cy="5792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Down Arrow 23"/>
          <p:cNvSpPr/>
          <p:nvPr/>
        </p:nvSpPr>
        <p:spPr>
          <a:xfrm rot="16200000">
            <a:off x="464040" y="3410640"/>
            <a:ext cx="486000" cy="5792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468360" y="530064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U CAREERS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Content Placeholder 6" descr=""/>
          <p:cNvPicPr/>
          <p:nvPr/>
        </p:nvPicPr>
        <p:blipFill>
          <a:blip r:embed="rId2"/>
          <a:stretch/>
        </p:blipFill>
        <p:spPr>
          <a:xfrm>
            <a:off x="3492360" y="5300640"/>
            <a:ext cx="1047960" cy="8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48:24Z</dcterms:created>
  <dc:creator>peddeja</dc:creator>
  <dc:description/>
  <dc:language>en-US</dc:language>
  <cp:lastModifiedBy>CLAUS Christiaan (EPSO)</cp:lastModifiedBy>
  <cp:lastPrinted>2017-11-21T14:00:37Z</cp:lastPrinted>
  <dcterms:modified xsi:type="dcterms:W3CDTF">2018-11-14T15:25:06Z</dcterms:modified>
  <cp:revision>269</cp:revision>
  <dc:subject/>
  <dc:title>EU Careers: face a bigger challenge</dc:title>
</cp:coreProperties>
</file>