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0DA8-6A45-4E59-A7C3-7C3657B26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1135-41C0-44A5-95D1-25401AC1F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AAE2-C071-4507-9FE9-562D3D416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97B6-79EE-42B6-841A-754CF9F00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2CD2-F06E-4E10-8977-1D182862A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5D8C-70F1-43D6-B142-5CB740E55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6A25-1485-495B-BF32-B7ABD7479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E476-C97C-4973-A6A3-C40C1B669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6A98-A710-4CF6-A4D6-F17F5640A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147F-C8B9-4306-977B-2AAEBC163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09AE-652E-4B17-9FC9-2EE95C783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66BE-CC1F-4BE7-8041-637E32ED0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CC16D-F6FF-469E-9DAA-310B9DB83B3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3DC0F-FF83-4161-BE60-CBBF8E51A6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ter Week 2011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llenges of Urbanization for Water and Sanitation Infrastruc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Cost Effects of a Lack of Spatial Plan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World Ban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A358C-B19A-4A3F-AAC5-2F7ECF07C1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nancing Infrastruc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ow is new infrastructure financed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oes the larger community pay (taxes on existing residents to provide services to new residents)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o residents of the new community pay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evelopment Charges = entry fee for urban servi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asiest when you have greenfield and organized develop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till possible when there are multiple own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ven still possible for servicing in-sit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5479F-0056-4F90-BE6C-F4849F63E6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osts, Choices, and Trade-Off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velopment charges make explicit the cost of providing serv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o expensive?  There is a choic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it another 10 or 20 years for someone else to pay for serv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ize and pay for services that you can enjoy now and that increases the value of the proper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14396-95F4-4CA4-B2E4-034673FE3D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e Case of Water Suppl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ter and sanitation is the most difficult and expensive infrastructure to prov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SCo is one of the better utilities in Africa, but it doesn’t generate enough excess funds through existing tariffs to pay for major network extens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can’t “pre-invest” in new development areas without up-front capit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98CCF-0BA1-45B1-8D81-5DD0F52F6F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urces of funding for water infrastruc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entral government or local authority – to service a specific industrial or residential developme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utside donors – to provide services to underserved areas, at concessional rat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rmal real estate developers?  Effectively paying development charges to pay for the cost of extending servi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rganized communities?  Pooling or raising funds to pay for the cost of extending servi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678DF-201E-43B2-9A45-6E0494AF2C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uestion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1D72C-F78B-4199-90F7-FE07AD6D4B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3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ECC35-6DDE-49E7-975B-042F7E5024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ntroduction and Characteristics of Urban Developm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wnership characterist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perty marketability and transferab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tail financial sector / willingness to le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te of urban serv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= characteristics of urban develop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EFD48-73FD-4C81-8DAC-2A207FAE0A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10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mpressions of Maser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ifficult to draw conclusions about Maseru and envir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ome limited planning; some haphazard growth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ome “leapfrog” developme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ix of housing qual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Variable road qual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Variable servi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89EDD-5707-4ECE-9ABF-1FFA761F7E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Urbaniz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mal definition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nsifi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version of u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practice: the addition of new resid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raw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oth a cause and consequence of a lack of plan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1F422-ED19-445B-9C0D-AEAB178C8D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Urban Servic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cope of servic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re:  roads and paths, water and sanitation, solid waste management, public ligh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cial:  schools, health clinics, space for places of worshi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menities: parks, places for civic gathering, playgroun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Provision of (and financing of) servic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direct tax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rect tax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C213B-A516-4E97-9628-C5258C177B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osts of Unplanned Spraw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dditional costs to resident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ime and monetary costs for transportation and for w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duced mobil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oor safety and secur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(unclear costs with respect to electricity and solid waste management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dditional costs to service providers for later retrofitt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articularly high for water and sanitation servic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93232-5657-4EE3-9AD5-42E98F66D6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ome incidental benefits of spraw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nsity (or lack of density) means that existing sanitation is accept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ealth effects of poor sanitation are relatively min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visible mix in the quality of housing = neighborhoods are not limited to a single incom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E389D-C006-48FA-8865-96784D8357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Measuring the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Value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of Servic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asure the value of serviced land vs. unserviced l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a competitive property market, this is the value that society places on those serv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may or may not be a good approximation of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cos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f providing those serv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Maseru, cost &gt; val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ccept the state of affairs (and wait…), 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ork to reduce the costs of providing serv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74697-F309-4A5E-9303-0A3F383307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lanning for Growth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anning ahead for growth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 eas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ood human capac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ansparent, enforceable land-use regul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redible and transparent way to convert land from non-urban to urban u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sily transferable land righ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6B2A1-DBB0-416A-8A46-72DFFF5A9C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5T02:43:31Z</dcterms:created>
  <dc:creator>wb112884</dc:creator>
  <dc:description/>
  <dc:language>en-US</dc:language>
  <cp:lastModifiedBy>new</cp:lastModifiedBy>
  <dcterms:modified xsi:type="dcterms:W3CDTF">2011-04-05T09:09:27Z</dcterms:modified>
  <cp:revision>16</cp:revision>
  <dc:subject/>
  <dc:title>Slide 1</dc:title>
</cp:coreProperties>
</file>