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DD6E-49FB-417E-BDC5-3766E515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EDA0-5093-4E2F-B4C0-98D30D6C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AC7B-8C86-4FCD-AC7D-012EBD2B2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01ED-5FC4-4CA6-BEB3-73F8FB18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2216-05FA-4B07-A315-A2CA85F5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A598-C3C9-426F-AF2C-6A0EEC4D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B88F-C948-4CC4-BD2C-EAC7748C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5F78-18B8-4E11-A398-8DDAF884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2273-B1D8-464B-AFF1-95A521A8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148F-CDCB-4716-9031-1CE831EF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A241-B575-445B-BC99-56F02F5D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4269-F94E-44C3-BEC3-F3BD6D14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E46F-6B94-41B2-A21F-A7858F2B7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Water sector semin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898989"/>
                </a:solidFill>
                <a:latin typeface="Calibri"/>
              </a:rPr>
              <a:t>Lesotho 5th to 7th Mar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84360" y="90792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Agenda – mai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Key objective: discuss various aspects of the sector to order to obtain comments and contributions to the national strategy that is being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1 Sector coordination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lanning (Maseru city council, World Bank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Sanitation  (WASCO, TED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– Water resources and climat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IWRM and Climate (Met. Services, DW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Land use (GIZ, LHD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– M&amp;E and fin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M&amp;E (M&amp;E unit, BOS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611280" y="1413000"/>
            <a:ext cx="77058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group work 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e – Institutional – techn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allen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: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gges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tions,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l task by all across the groups: prioritise th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611280" y="141300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group work  Climate and water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mate change adaptatio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- Challenges to developing convincing fundable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- Steps to be taken to develop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WRM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611280" y="141300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group work  M&amp;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Task 3 – define institutiona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468360" y="112536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On cards (one point per card, put country on c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 main challenges /issues  that you are facing which brings you to this seminar and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experiences/ lessons learnt/best practice which you feel would be worth sha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ai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the person next to you - Name, delegation/job, one surprising 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1:23:51Z</dcterms:created>
  <dc:creator>PC</dc:creator>
  <dc:description/>
  <dc:language>en-US</dc:language>
  <cp:lastModifiedBy>new</cp:lastModifiedBy>
  <dcterms:modified xsi:type="dcterms:W3CDTF">2011-04-06T11:10:49Z</dcterms:modified>
  <cp:revision>11</cp:revision>
  <dc:subject/>
  <dc:title>Regional water seminar</dc:title>
</cp:coreProperties>
</file>