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3A20-40FD-4B8F-9B9F-CE5084D5B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C365-8028-46A7-A3E4-16363BE5D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C054-7514-412B-A7EC-288167E0D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4132-0912-486B-AC38-604791F82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8D7B-8F73-4BA0-83E9-630EDD51B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9999-A0EF-407F-9108-24CB6AD16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1776-518F-4301-9449-8F57FED32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D55C-E941-4EB2-923A-FD7C3B1E7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0E20-D411-48E5-9892-76B808D3E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5F4D-ADAA-4BF5-A588-3EF151649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8A21-8B70-4990-A4D2-22DBCE243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Water for All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Project area should include lower-income settlements where the non-served re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fford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Demand-driven services, Targeted subsi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ustain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Institutional, financial, operational environmental &amp;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cale-up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Build on local successful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Ownership/Particip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: Dialogue with all stakeholders including local PS &amp; previously excluded vulnerabl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ECCDF-076A-4F4C-9C62-F56053454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FC13B-8A11-4CD8-8445-47BCBAD2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34182-D842-4C3E-A7B4-1BE66BB1A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184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7928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184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F72C3-0D41-4742-81F1-11A3A1BC5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656F9-C061-4A5C-BDDA-C43B9303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42773-0FBD-4EEF-B4C4-5516D1CB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CAA52-45F3-40CB-80CC-588BFA5E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84B43-C29F-46E6-BC7E-B785BF37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404640"/>
            <a:ext cx="720108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74D08-DFCF-4E54-A32B-55056039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539B9-9105-4FBD-BC53-4AE4CDE3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7CEE9-1473-43EB-B68D-6850593E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8158C-5B9C-4D1F-BDBF-31C39558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678F-2D94-4834-8465-E37580B3236D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77240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E2EB-9D6A-4EBE-BB94-664F63CAA24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403280" y="6524640"/>
            <a:ext cx="63374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10.jpe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491920"/>
            <a:ext cx="856908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3200" spc="-1" strike="noStrike">
                <a:solidFill>
                  <a:srgbClr val="015cab"/>
                </a:solidFill>
                <a:latin typeface="Arial"/>
              </a:rPr>
              <a:t>Water and Sanitation EC-EIB Seminar</a:t>
            </a:r>
            <a:br>
              <a:rPr sz="1800"/>
            </a:br>
            <a:br>
              <a:rPr sz="1800"/>
            </a:br>
            <a:r>
              <a:rPr b="1" i="1" lang="en-GB" sz="2400" spc="-1" strike="noStrike">
                <a:solidFill>
                  <a:srgbClr val="015cab"/>
                </a:solidFill>
                <a:latin typeface="Arial"/>
              </a:rPr>
              <a:t>Session 3: Sanitation “supply”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a12f0b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Malawi Peri-Urban Water and Sanitation Project -</a:t>
            </a:r>
            <a:br>
              <a:rPr sz="2800"/>
            </a:b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Working with NGO’s to increase W&amp;S coverage </a:t>
            </a:r>
            <a:br>
              <a:rPr sz="2800"/>
            </a:br>
            <a:br>
              <a:rPr sz="2800"/>
            </a:br>
            <a:r>
              <a:rPr b="0" i="1" lang="en-GB" sz="2400" spc="-1" strike="noStrike">
                <a:solidFill>
                  <a:srgbClr val="015cab"/>
                </a:solidFill>
                <a:latin typeface="Arial"/>
              </a:rPr>
              <a:t>Brussels, 6 July 2010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66B46-526C-4CE9-8450-7EC6ECD06A3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EEB3D-E737-4373-823D-893C5EA37A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-6480" y="847800"/>
            <a:ext cx="9156960" cy="5162400"/>
            <a:chOff x="-6480" y="847800"/>
            <a:chExt cx="9156960" cy="5162400"/>
          </a:xfrm>
        </p:grpSpPr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-6480" y="847800"/>
              <a:ext cx="9156960" cy="51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611280" y="2768760"/>
              <a:ext cx="2633400" cy="148428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60A88-C2D4-4774-B452-2441F979C1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DD65D-F699-4A21-803A-32B4FF9950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57880" cy="5516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14840" cy="5516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DD1FF-6DF4-4B4F-B886-2E28C98B43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541840" y="4248000"/>
            <a:ext cx="14781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L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5360" y="1722600"/>
            <a:ext cx="1476360" cy="6984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E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63840" y="2852640"/>
            <a:ext cx="2217960" cy="698760"/>
          </a:xfrm>
          <a:prstGeom prst="flowChartProcess">
            <a:avLst/>
          </a:prstGeom>
          <a:solidFill>
            <a:srgbClr val="ff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16080" y="4186080"/>
            <a:ext cx="14763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B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5360" y="620640"/>
            <a:ext cx="1476360" cy="69840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EU ACP W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2"/>
            <a:endCxn id="84" idx="0"/>
          </p:cNvCxnSpPr>
          <p:nvPr/>
        </p:nvCxnSpPr>
        <p:spPr>
          <a:xfrm>
            <a:off x="4473360" y="1318680"/>
            <a:ext cx="1080" cy="4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85" idx="2"/>
            <a:endCxn id="83" idx="0"/>
          </p:cNvCxnSpPr>
          <p:nvPr/>
        </p:nvCxnSpPr>
        <p:spPr>
          <a:xfrm flipH="1" rot="16200000">
            <a:off x="5029200" y="2995200"/>
            <a:ext cx="697320" cy="1808640"/>
          </a:xfrm>
          <a:prstGeom prst="bentConnector3">
            <a:avLst>
              <a:gd name="adj1" fmla="val 696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5" idx="2"/>
            <a:endCxn id="86" idx="0"/>
          </p:cNvCxnSpPr>
          <p:nvPr/>
        </p:nvCxnSpPr>
        <p:spPr>
          <a:xfrm rot="5400000">
            <a:off x="3346200" y="3058920"/>
            <a:ext cx="635400" cy="1620000"/>
          </a:xfrm>
          <a:prstGeom prst="bentConnector3">
            <a:avLst>
              <a:gd name="adj1" fmla="val 76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4464000" y="13413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ontribu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97840" y="5467320"/>
            <a:ext cx="147780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A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85" idx="0"/>
            <a:endCxn id="84" idx="2"/>
          </p:cNvCxnSpPr>
          <p:nvPr/>
        </p:nvCxnSpPr>
        <p:spPr>
          <a:xfrm flipV="1">
            <a:off x="4473360" y="242028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562640" y="2421000"/>
            <a:ext cx="26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Loan/ grant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357336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On-lending agre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4000680"/>
            <a:ext cx="17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artnership 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2" idx="0"/>
            <a:endCxn id="83" idx="3"/>
          </p:cNvCxnSpPr>
          <p:nvPr/>
        </p:nvCxnSpPr>
        <p:spPr>
          <a:xfrm flipV="1" rot="16200000">
            <a:off x="7043400" y="4573080"/>
            <a:ext cx="870480" cy="91836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66560" y="5467320"/>
            <a:ext cx="147816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 For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86" idx="1"/>
            <a:endCxn id="98" idx="0"/>
          </p:cNvCxnSpPr>
          <p:nvPr/>
        </p:nvCxnSpPr>
        <p:spPr>
          <a:xfrm flipV="1" rot="10800000">
            <a:off x="1205640" y="4535280"/>
            <a:ext cx="910440" cy="93240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2989440" y="5467320"/>
            <a:ext cx="3159000" cy="698400"/>
          </a:xfrm>
          <a:prstGeom prst="flowChartProcess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Private Service Contr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6" idx="2"/>
            <a:endCxn id="100" idx="0"/>
          </p:cNvCxnSpPr>
          <p:nvPr/>
        </p:nvCxnSpPr>
        <p:spPr>
          <a:xfrm flipH="1" rot="16200000">
            <a:off x="3420360" y="4318560"/>
            <a:ext cx="583200" cy="1715040"/>
          </a:xfrm>
          <a:prstGeom prst="bentConnector3">
            <a:avLst>
              <a:gd name="adj1" fmla="val 55281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3" idx="2"/>
            <a:endCxn id="100" idx="0"/>
          </p:cNvCxnSpPr>
          <p:nvPr/>
        </p:nvCxnSpPr>
        <p:spPr>
          <a:xfrm rot="5400000">
            <a:off x="5164200" y="4350600"/>
            <a:ext cx="521280" cy="1713600"/>
          </a:xfrm>
          <a:prstGeom prst="bentConnector3">
            <a:avLst>
              <a:gd name="adj1" fmla="val 49965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3056040" y="487368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erformance Contr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360" y="393372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Implementa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18FE4-9AF1-44FD-A2CC-C9DEFB5811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caling up NGO’s service enabler role through projec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3422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identify kiosk sites in GIS system for PSP to construct 700 kios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et up associated WUA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l out 70,000 latr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awareness building and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lab bui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ting up private pit latrine emptying serv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ulper; Nibb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d we have the NGO’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ongwe: WaterAid –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ntyre: -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6588000" y="2276640"/>
            <a:ext cx="2016360" cy="35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10C5C-0E1C-441A-8851-B8645DB689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201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Procuring an NGO for Blantyre 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ly identified 3 potential NGO’s at outse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GO’s need local grass-root pre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ope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ugh CBO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they bid competitively (WaterAid no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 to consult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playing fiel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4500720" y="2276640"/>
            <a:ext cx="3570120" cy="201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F558D-C340-4092-8F19-674716CB15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stricted tender carried ou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pen tender for Expression of Interest (EO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 expressions of interest from int’l &amp; lo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V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pre-qualified bi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bid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winner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4P, on p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ignature in Augus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Big help: </a:t>
            </a:r>
            <a:r>
              <a:rPr b="0" lang="fr-CH" sz="2400" spc="-1" strike="noStrike">
                <a:solidFill>
                  <a:srgbClr val="cc3300"/>
                </a:solidFill>
                <a:latin typeface="Arial"/>
              </a:rPr>
              <a:t>Transaction Advisory Services (Fichtner Consulting) to prepare tender documents, raise market awareness, manage proce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44B20-D34D-4319-B5DD-8158508A6C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ome early conclusions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 can play a very important role in reaching the MDG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specially crucial on the sanitation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ncluding NGO’s in the project structure simply adds mode parties and thus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f sanitation is out of Water Supplier’s remit, even more parties (city council et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e walked a thin line to procure competitively, but market is thin: Would other bidders have done as w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inning bidder confirmed sanitation marketing approa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o complaints received from bidders other than tight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256BC-B8A5-413E-9111-CD4B109AC5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44A6B-6C50-416A-99A0-1D319908EB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828720" y="-531720"/>
            <a:ext cx="10693440" cy="7561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43280" y="3141720"/>
            <a:ext cx="2016000" cy="649080"/>
          </a:xfrm>
          <a:prstGeom prst="wedgeRectCallout">
            <a:avLst>
              <a:gd name="adj1" fmla="val 57638"/>
              <a:gd name="adj2" fmla="val 85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70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2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4797360"/>
            <a:ext cx="2016000" cy="649440"/>
          </a:xfrm>
          <a:prstGeom prst="wedgeRectCallout">
            <a:avLst>
              <a:gd name="adj1" fmla="val 79449"/>
              <a:gd name="adj2" fmla="val 556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15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0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575A3-09A4-43C6-A36D-FAB58B34B4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ain Project Objectives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341000"/>
            <a:ext cx="8928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low income areas of the cities of Blantyre and Lilongwe by September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4-hour water supply for 408,000 people in Blantyre who currently receive it intermitt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 competent and sustainable Water 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Private Sector Service Contractor with Performance Based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B4B2F-7F66-4766-A084-C2E0719AC6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takeholders and project budget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280" y="1258560"/>
            <a:ext cx="359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Stakeholders befor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longw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ntyr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vatisation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WDP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PIU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s, CB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Income Area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istry of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7800" y="1258560"/>
            <a:ext cx="3741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Budget in EUR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EU grant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14.9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 loa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5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ater Boards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 1.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1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igible EUWF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0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which for LIA’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7.3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2CAAA-B6D2-4E37-8260-9EE992AD99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76356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ost challenging task is the water and sanitation delivery in the LIA’s: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35 Kio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0,000 VIP lat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LIA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plan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mited land ten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ford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or payment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nd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rine investment hur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EDF29-FE1D-4CEC-BB4C-4DBC1C8BBE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AF30F-E210-4180-A1A9-A66F99C423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A0DB7-0BED-4E0C-86A9-4F5D2E35B4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633760" y="-9360"/>
            <a:ext cx="3643200" cy="64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67D91-D5E4-460E-A517-4E9C120568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plicating successful models: WaterAid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 (in partnership with LWB) demonstrated a succesful local kiosk management mod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Water User Association” built on a strong social/community 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UA’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age up to 100 kio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customer interface for Water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UA’s: charge slightly increased fee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y kiosk operators &amp; WUA administ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ver prior deb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osk design with “superstructure” against vandals/th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cess has sensitised WaterBoards who now have special LIA unit to deal with WUA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marketing vs slab subsi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mall entrepren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lab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t latrine empt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5292720" y="4554360"/>
            <a:ext cx="3384720" cy="19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87899-EAC2-4F37-994B-DB55FC1949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09:30:31Z</dcterms:created>
  <dc:creator>CLIFFOR</dc:creator>
  <dc:description/>
  <dc:language>en-US</dc:language>
  <cp:lastModifiedBy>VANGILST</cp:lastModifiedBy>
  <dcterms:modified xsi:type="dcterms:W3CDTF">2010-07-05T19:49:59Z</dcterms:modified>
  <cp:revision>290</cp:revision>
  <dc:subject/>
  <dc:title>PowerPoint Presentation</dc:title>
</cp:coreProperties>
</file>