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B5CCE-D13D-4D28-BB8B-A4F07F6A6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93CB-C3AD-4C63-ABCA-FB77CAED5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A8032-A538-47ED-A1DB-C9E399477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B9F3F-C014-4C3A-97C1-652B760F0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97C331-3C83-4B02-9EFA-D0A75164FE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EA448-D95E-4FAC-9301-F53E1DF6F1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E1604-2050-4820-BDD0-24A768220A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CA387-EF08-4D28-8AF5-75157FB50F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53ADA2-E400-4D8C-AC7C-C0CAA81F8F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59E9D-1FBE-4F4D-B80C-CD38B45A75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85501-C64F-4436-A522-14FC312576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3533E-08F0-4328-A64D-239C59918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51F9E-CAAB-4771-9150-DE06C19F59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AB430-B807-4772-AC08-031789F164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40D94-A233-4B8A-8EF6-CEA8F998F4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ABEB63-D1DD-4BEB-B733-6F6ED776B8D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C84E3E-6ACD-434B-88F5-4C8B3FF573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A0967-89A2-4DA1-912F-5109927C7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D5E8-F190-48BF-B8D5-83A03D88E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3FCAC-DF01-442B-A240-AEA1D9CC5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1C594-A75B-4548-990B-7421EC95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5818-31E4-4CB8-8A04-0BA9616CF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07151-9531-4ACC-A653-CADAB62C6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AD9D-7035-4913-A95E-A140182E4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16BCA859-2431-4453-81C5-F05A2BE671B3}" type="datetime11">
              <a:rPr b="0" lang="en-US" sz="1400" spc="-1" strike="noStrike">
                <a:solidFill>
                  <a:srgbClr val="ffffff"/>
                </a:solidFill>
                <a:latin typeface="Times New Roman"/>
              </a:rPr>
              <a:t>17:55:3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6A15-0B34-428E-AB45-6E423137CE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871B-6766-4092-B43F-9D4069E2FF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0D8CC3E9-10E0-4C4E-8A84-F485AEA2BE58}" type="datetime11">
              <a:rPr b="0" lang="en-US" sz="1400" spc="-1" strike="noStrike">
                <a:solidFill>
                  <a:srgbClr val="ffffff"/>
                </a:solidFill>
                <a:latin typeface="Times New Roman"/>
              </a:rPr>
              <a:t>17:55:36</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D917A72-2C3B-4125-B74D-0EEB0F92D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1535ACE-2291-4EBC-8399-7D1DF8798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598E104-6B1F-4BCD-840B-A84005D534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6A0D192-3F7A-421A-AB5A-ED5F946A4C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23E3C833-EB54-464C-9386-17067CD3C2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15FCFD1-DB30-43DF-86BE-3A8096F84A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E44CC49-70BD-4003-97EA-E55B19E10D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AB11A7D-3CFF-40BE-B08F-44ACD98FB9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26401690-9F59-4670-8C08-E4C98A69399C}"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DA3907B-5071-4D74-88F4-63D81739338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0636014-A523-44FA-9488-CDD8ADA016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76FB659-F707-46E1-ADD7-D114B59345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F310B25-07D3-48D1-9F37-707703041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22BEFC5-2307-4BCD-AE70-7D8AD564C0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331BE83-EE4A-4343-9A9E-8A21C7C401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EDF7EEA-82D8-4ADE-B23C-38A0CD8121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38B074A-3B58-4522-9DA0-9589D1C1F7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