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3CB4D-0DBB-4444-9ADC-EE6604B23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8FF7-EB67-421E-9211-7C71D7151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1F7E9-CD57-461F-B249-F4C9E3AE6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1C592-D2A7-49C8-A26C-9698DC463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D56D40-3864-4A2C-9465-4494EAD1ECB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9CC0F-AA34-41CF-BA5F-584858459E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55C23-2693-4C83-A80C-A1D2720CCF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7677C-29EA-4EEE-AF66-76804A5788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DBC3B-703C-40D2-A751-224114960E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61E0A-31CF-4D70-B125-87C04F47DE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852A7-AA57-4B57-B101-6C8967C886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D781-577F-4777-908D-1981CB34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6B0E8-BF3A-42A9-919F-CCBE72224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30670-A157-4BEB-B535-3551879403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2C383-39CC-408A-A4D3-0F90B15CD0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6D630-CC60-44C7-9E7B-3E313DAB35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623382-B7B3-458C-846B-C3F6FBA574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707A6-7175-42DC-BAFA-8EAEBCB8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81ACF-6091-4054-997B-808F6B4A2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8081-65BA-40B1-A284-D1577BF31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A8B0-668E-40BC-8DC4-DF4B63EA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9FD2-19BE-4D95-8893-50AA81ACE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D96D-884A-4DCE-B6E1-D067F7F4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CD88-EF46-4616-B618-73DFFF107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E755240F-79A7-42B5-BD8D-6AF101E02921}" type="datetime11">
              <a:rPr b="0" lang="en-US" sz="1400" spc="-1" strike="noStrike">
                <a:solidFill>
                  <a:srgbClr val="ffffff"/>
                </a:solidFill>
                <a:latin typeface="Times New Roman"/>
              </a:rPr>
              <a:t>17:49:3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76EE-B624-42DB-8700-B3671634D5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6BB3-BB28-46C4-9EB3-93848B847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5A84DD29-7120-4E4E-9D51-BFD20364614B}" type="datetime11">
              <a:rPr b="0" lang="en-US" sz="1400" spc="-1" strike="noStrike">
                <a:solidFill>
                  <a:srgbClr val="ffffff"/>
                </a:solidFill>
                <a:latin typeface="Times New Roman"/>
              </a:rPr>
              <a:t>17:49:32</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7A76849-0075-4821-B0F4-80FAD4092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B46CE97-5198-4EC7-B126-F7D0718BF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3527E51-1C13-4C4B-B6BA-E0395817E3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FE789E1-7A0A-41F8-970F-ABF72306A5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A06F1DE4-BF3E-4301-A157-07B52E24E7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A004DA2-E677-4DA4-80A5-81CD250129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91367E6-65C7-4D61-9AF5-3D739EE2F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A386663-3570-4D12-9356-FCD80B226E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B21F9A60-E749-4E77-ADA7-E6C0B3743671}"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0BD1AA2-0680-43C9-87F7-0DCC51B5CD6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998505F-CB17-4A7D-BE93-952D739809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6597892-EBFD-40CA-8715-7FE5B317E1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41E2D9-55C0-47FF-BD89-FDD692F0F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041EE00-B011-435B-9B9E-797C93FC6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0491556-2E4F-4EB5-92D2-A5C279EF4D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95737AF-6759-4F94-8735-26225EB71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9A77414-8215-413C-B3BE-84CC10FAF5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