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4D8F-0581-4ABE-A163-A7A72A69DE2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EFDD-A0BD-4422-A951-1F8F21DA2A5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AAF2-09B2-41B4-9D82-250AF0324382}" type="datetime">
              <a:rPr b="0" lang="en-US" sz="1200" spc="-1" strike="noStrike">
                <a:solidFill>
                  <a:srgbClr val="ffffff"/>
                </a:solidFill>
                <a:latin typeface="Verdana"/>
              </a:rPr>
              <a:t>07/29/26</a:t>
            </a:fld>
            <a:r>
              <a:rPr b="0" lang="en-US" sz="1200" spc="-1" strike="noStrike">
                <a:solidFill>
                  <a:srgbClr val="ffffff"/>
                </a:solidFill>
                <a:latin typeface="Verdana"/>
              </a:rPr>
              <a:t> </a:t>
            </a:r>
            <a:fld id="{94BB0162-5420-4981-A20B-91DDE8B4E03A}"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D67D-BC82-423F-B35B-284AC525410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3F7C-3B91-43D3-99DD-74D571F80426}" type="datetime">
              <a:rPr b="0" lang="en-US" sz="1200" spc="-1" strike="noStrike">
                <a:solidFill>
                  <a:srgbClr val="ffffff"/>
                </a:solidFill>
                <a:latin typeface="Verdana"/>
              </a:rPr>
              <a:t>07/29/26</a:t>
            </a:fld>
            <a:r>
              <a:rPr b="0" lang="en-US" sz="1200" spc="-1" strike="noStrike">
                <a:solidFill>
                  <a:srgbClr val="ffffff"/>
                </a:solidFill>
                <a:latin typeface="Verdana"/>
              </a:rPr>
              <a:t> </a:t>
            </a:r>
            <a:fld id="{8D25CCCF-7BB0-4A74-8427-139DCE1BECA8}"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69FC-5695-477F-ADFD-3ED3ABC93AC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1AE1-5BAF-495C-9D60-E5618BCDB6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A507-651E-4ED8-B28E-32431206E0E6}" type="datetime">
              <a:rPr b="0" lang="en-US" sz="1200" spc="-1" strike="noStrike">
                <a:solidFill>
                  <a:srgbClr val="ffffff"/>
                </a:solidFill>
                <a:latin typeface="Verdana"/>
              </a:rPr>
              <a:t>07/29/26</a:t>
            </a:fld>
            <a:r>
              <a:rPr b="0" lang="en-US" sz="1200" spc="-1" strike="noStrike">
                <a:solidFill>
                  <a:srgbClr val="ffffff"/>
                </a:solidFill>
                <a:latin typeface="Verdana"/>
              </a:rPr>
              <a:t> </a:t>
            </a:r>
            <a:fld id="{853626F4-5647-4FFB-9BF9-823756E10169}"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C331-18FB-461A-B5D6-4DA4DC8563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F125-119F-4534-811A-95E57021AC20}" type="datetime">
              <a:rPr b="0" lang="en-US" sz="1200" spc="-1" strike="noStrike">
                <a:solidFill>
                  <a:srgbClr val="ffffff"/>
                </a:solidFill>
                <a:latin typeface="Verdana"/>
              </a:rPr>
              <a:t>07/29/26</a:t>
            </a:fld>
            <a:r>
              <a:rPr b="0" lang="en-US" sz="1200" spc="-1" strike="noStrike">
                <a:solidFill>
                  <a:srgbClr val="ffffff"/>
                </a:solidFill>
                <a:latin typeface="Verdana"/>
              </a:rPr>
              <a:t> </a:t>
            </a:r>
            <a:fld id="{210CEC8A-B3E5-4EAA-A6D0-C6E0BB986C40}"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132D-1E26-4E30-BE49-FE920175AB7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4F2F-43F8-4512-AFE6-F0C7FB9411A3}" type="datetime">
              <a:rPr b="0" lang="en-US" sz="1200" spc="-1" strike="noStrike">
                <a:solidFill>
                  <a:srgbClr val="ffffff"/>
                </a:solidFill>
                <a:latin typeface="Verdana"/>
              </a:rPr>
              <a:t>07/29/26</a:t>
            </a:fld>
            <a:r>
              <a:rPr b="0" lang="en-US" sz="1200" spc="-1" strike="noStrike">
                <a:solidFill>
                  <a:srgbClr val="ffffff"/>
                </a:solidFill>
                <a:latin typeface="Verdana"/>
              </a:rPr>
              <a:t> </a:t>
            </a:r>
            <a:fld id="{B5F61B36-8EB9-4F0D-B91D-7BFD966B5CA6}"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B085-8BD8-4064-8414-501C0F185D1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457D-2A64-42DF-9680-DE6E856E8B27}" type="datetime">
              <a:rPr b="0" lang="en-US" sz="1200" spc="-1" strike="noStrike">
                <a:solidFill>
                  <a:srgbClr val="ffffff"/>
                </a:solidFill>
                <a:latin typeface="Verdana"/>
              </a:rPr>
              <a:t>07/29/26</a:t>
            </a:fld>
            <a:r>
              <a:rPr b="0" lang="en-US" sz="1200" spc="-1" strike="noStrike">
                <a:solidFill>
                  <a:srgbClr val="ffffff"/>
                </a:solidFill>
                <a:latin typeface="Verdana"/>
              </a:rPr>
              <a:t> </a:t>
            </a:r>
            <a:fld id="{8452D8FF-F457-4F25-AAD1-9B0EB5B02297}"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29EE-5BDE-40A3-A49E-5AF0A0A4421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FAF5-EEDD-41F4-99D1-FD8D444181CE}" type="datetime">
              <a:rPr b="0" lang="en-US" sz="1200" spc="-1" strike="noStrike">
                <a:solidFill>
                  <a:srgbClr val="ffffff"/>
                </a:solidFill>
                <a:latin typeface="Verdana"/>
              </a:rPr>
              <a:t>07/29/26</a:t>
            </a:fld>
            <a:r>
              <a:rPr b="0" lang="en-US" sz="1200" spc="-1" strike="noStrike">
                <a:solidFill>
                  <a:srgbClr val="ffffff"/>
                </a:solidFill>
                <a:latin typeface="Verdana"/>
              </a:rPr>
              <a:t> </a:t>
            </a:r>
            <a:fld id="{DE601F20-021D-4779-8275-85660B817CD9}"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0FF5-F0D6-49C9-A1D6-A91B3549721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A36D-9D99-4571-BC58-8A35DB839BFA}" type="datetime">
              <a:rPr b="0" lang="en-US" sz="1200" spc="-1" strike="noStrike">
                <a:solidFill>
                  <a:srgbClr val="ffffff"/>
                </a:solidFill>
                <a:latin typeface="Verdana"/>
              </a:rPr>
              <a:t>07/29/26</a:t>
            </a:fld>
            <a:r>
              <a:rPr b="0" lang="en-US" sz="1200" spc="-1" strike="noStrike">
                <a:solidFill>
                  <a:srgbClr val="ffffff"/>
                </a:solidFill>
                <a:latin typeface="Verdana"/>
              </a:rPr>
              <a:t> </a:t>
            </a:r>
            <a:fld id="{1912693D-BA33-4E60-B3B6-EFF3C40E22C9}"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E2F4-A1DC-4A69-BB8C-8E0A6CF0E2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11C8-290D-46BB-8DA1-1A3E31AC887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6748-7CCD-4F81-9A5B-3F5E276BFA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B302-0B30-4049-B33C-49BF2A9CD8F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8BA4-CF53-428E-A7EC-EBB85DFAF4F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2B77-2DF7-406F-990A-BAC8603514A3}" type="datetime">
              <a:rPr b="0" lang="en-US" sz="1200" spc="-1" strike="noStrike">
                <a:solidFill>
                  <a:srgbClr val="ffffff"/>
                </a:solidFill>
                <a:latin typeface="Verdana"/>
              </a:rPr>
              <a:t>07/29/26</a:t>
            </a:fld>
            <a:r>
              <a:rPr b="0" lang="en-US" sz="1200" spc="-1" strike="noStrike">
                <a:solidFill>
                  <a:srgbClr val="ffffff"/>
                </a:solidFill>
                <a:latin typeface="Verdana"/>
              </a:rPr>
              <a:t> </a:t>
            </a:r>
            <a:fld id="{E71B725B-9460-4571-BD01-60E1C2B13310}"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4CF9-0E20-4733-8524-E4FBDF98BE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1457-72C5-4D5E-863A-9E545E97FC3A}" type="datetime">
              <a:rPr b="0" lang="en-US" sz="1200" spc="-1" strike="noStrike">
                <a:solidFill>
                  <a:srgbClr val="ffffff"/>
                </a:solidFill>
                <a:latin typeface="Verdana"/>
              </a:rPr>
              <a:t>07/29/26</a:t>
            </a:fld>
            <a:r>
              <a:rPr b="0" lang="en-US" sz="1200" spc="-1" strike="noStrike">
                <a:solidFill>
                  <a:srgbClr val="ffffff"/>
                </a:solidFill>
                <a:latin typeface="Verdana"/>
              </a:rPr>
              <a:t> </a:t>
            </a:r>
            <a:fld id="{64EB7948-1890-48A3-9911-7AFAF9D7A199}"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FF65-F16D-45E1-910D-BAFF7B5DFFD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3774-FD1C-40FA-A61A-509258FDC823}" type="datetime">
              <a:rPr b="0" lang="en-US" sz="1200" spc="-1" strike="noStrike">
                <a:solidFill>
                  <a:srgbClr val="ffffff"/>
                </a:solidFill>
                <a:latin typeface="Verdana"/>
              </a:rPr>
              <a:t>07/29/26</a:t>
            </a:fld>
            <a:r>
              <a:rPr b="0" lang="en-US" sz="1200" spc="-1" strike="noStrike">
                <a:solidFill>
                  <a:srgbClr val="ffffff"/>
                </a:solidFill>
                <a:latin typeface="Verdana"/>
              </a:rPr>
              <a:t> </a:t>
            </a:r>
            <a:fld id="{C1EF76B2-853D-444E-ADBD-D2021CDF9EAC}"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0A30-DAFA-49B8-8AC8-19AE93C689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9D32D-28DE-4826-9193-B5D731221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53BC5-F8C6-4C42-AD91-7A3AD9CE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81FB4-FAB6-4722-854F-A004F7509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5FB69-2965-4367-8B1F-20A42F663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E9A53-B657-4FCC-968A-D57ED7448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D3571-D043-43D2-AC84-108A2F81F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0BB9A-C697-4D55-A3E8-4782B002D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02528-23B8-4105-B4DA-76A9302AE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5A088-0B18-45F2-8487-414B864CA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6DD39-7ABB-493D-83D6-388CAF3BA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2B455-101A-415A-B575-C657259B1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1F35-BD0A-45F8-9C33-6061A8BC2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5CCC7-3CA0-4091-BEB8-C05AF9D80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152D1-623C-488E-8F70-76A0AC58F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B563C-6CC2-44DB-9FE7-F32AB9E57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CB8A3-C2EA-4C87-8132-0BC666F88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0617E-4275-4307-8048-DD85D35E7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6028E-5689-4922-BFBF-1709E330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76D99-98DD-4D88-915E-1B71E508F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9EBFE-A78D-4EA5-BFA5-CF0A9F1ED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B9D89-B39C-4D18-AFE8-436D98422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C4DE5-2B5F-4D03-A410-63587B887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93F0-18E2-482D-80EE-C7661EB70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8491-1B49-44DB-B9B9-85C44F2E9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335E-92C7-4723-8D00-B7EDF39AA28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C70E-6B51-475F-A8A6-F56341B3F7C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915D-521A-4508-9F14-A3EA08F49DCA}"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