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6EE4F-05F7-4A1C-ADC8-133436E9953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1D8A1-7A4B-4D2C-9117-6386D3DB8A5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2F5E4-7B51-47D5-AC94-D46F4B99F449}" type="datetime">
              <a:rPr b="0" lang="en-US" sz="1200" spc="-1" strike="noStrike">
                <a:solidFill>
                  <a:srgbClr val="ffffff"/>
                </a:solidFill>
                <a:latin typeface="Verdana"/>
              </a:rPr>
              <a:t>07/30/26</a:t>
            </a:fld>
            <a:r>
              <a:rPr b="0" lang="en-US" sz="1200" spc="-1" strike="noStrike">
                <a:solidFill>
                  <a:srgbClr val="ffffff"/>
                </a:solidFill>
                <a:latin typeface="Verdana"/>
              </a:rPr>
              <a:t> </a:t>
            </a:r>
            <a:fld id="{8D257E26-A575-4AAD-9817-FBCB62D97043}"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095D4-7D4B-46C2-BEA2-319C9388B1B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5E030-AF56-45A3-931D-EF1775A0E999}" type="datetime">
              <a:rPr b="0" lang="en-US" sz="1200" spc="-1" strike="noStrike">
                <a:solidFill>
                  <a:srgbClr val="ffffff"/>
                </a:solidFill>
                <a:latin typeface="Verdana"/>
              </a:rPr>
              <a:t>07/30/26</a:t>
            </a:fld>
            <a:r>
              <a:rPr b="0" lang="en-US" sz="1200" spc="-1" strike="noStrike">
                <a:solidFill>
                  <a:srgbClr val="ffffff"/>
                </a:solidFill>
                <a:latin typeface="Verdana"/>
              </a:rPr>
              <a:t> </a:t>
            </a:r>
            <a:fld id="{D50886BD-0284-4A8A-A939-90DF8F143BEE}"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99F06-5553-47ED-AE38-561124BD751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35EA6-5BED-4062-B132-62498FA6A1D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7D12A-184F-4C55-B548-1C8A7DF6DA91}" type="datetime">
              <a:rPr b="0" lang="en-US" sz="1200" spc="-1" strike="noStrike">
                <a:solidFill>
                  <a:srgbClr val="ffffff"/>
                </a:solidFill>
                <a:latin typeface="Verdana"/>
              </a:rPr>
              <a:t>07/30/26</a:t>
            </a:fld>
            <a:r>
              <a:rPr b="0" lang="en-US" sz="1200" spc="-1" strike="noStrike">
                <a:solidFill>
                  <a:srgbClr val="ffffff"/>
                </a:solidFill>
                <a:latin typeface="Verdana"/>
              </a:rPr>
              <a:t> </a:t>
            </a:r>
            <a:fld id="{FBF9D82B-437F-4588-AF91-88F7787106C6}"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465F7-B105-44BD-8802-F93AE8EE7F5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A14C0-A083-4EAA-9E5E-5EAB9B5225E5}" type="datetime">
              <a:rPr b="0" lang="en-US" sz="1200" spc="-1" strike="noStrike">
                <a:solidFill>
                  <a:srgbClr val="ffffff"/>
                </a:solidFill>
                <a:latin typeface="Verdana"/>
              </a:rPr>
              <a:t>07/30/26</a:t>
            </a:fld>
            <a:r>
              <a:rPr b="0" lang="en-US" sz="1200" spc="-1" strike="noStrike">
                <a:solidFill>
                  <a:srgbClr val="ffffff"/>
                </a:solidFill>
                <a:latin typeface="Verdana"/>
              </a:rPr>
              <a:t> </a:t>
            </a:r>
            <a:fld id="{E1E11A13-F71A-4CCD-8C5F-2AA90315DE45}"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D2758-A546-4425-9594-9FBE55DCA8D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69265-5EE0-4D99-AA2E-FE154F5B0B8D}" type="datetime">
              <a:rPr b="0" lang="en-US" sz="1200" spc="-1" strike="noStrike">
                <a:solidFill>
                  <a:srgbClr val="ffffff"/>
                </a:solidFill>
                <a:latin typeface="Verdana"/>
              </a:rPr>
              <a:t>07/30/26</a:t>
            </a:fld>
            <a:r>
              <a:rPr b="0" lang="en-US" sz="1200" spc="-1" strike="noStrike">
                <a:solidFill>
                  <a:srgbClr val="ffffff"/>
                </a:solidFill>
                <a:latin typeface="Verdana"/>
              </a:rPr>
              <a:t> </a:t>
            </a:r>
            <a:fld id="{B0CBEA09-D451-4A91-9545-5834D9D620F6}"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51D6F-8B6F-4B5D-93CE-DBB665542E4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8660E-2C9A-4810-B155-17A34AE1A070}" type="datetime">
              <a:rPr b="0" lang="en-US" sz="1200" spc="-1" strike="noStrike">
                <a:solidFill>
                  <a:srgbClr val="ffffff"/>
                </a:solidFill>
                <a:latin typeface="Verdana"/>
              </a:rPr>
              <a:t>07/30/26</a:t>
            </a:fld>
            <a:r>
              <a:rPr b="0" lang="en-US" sz="1200" spc="-1" strike="noStrike">
                <a:solidFill>
                  <a:srgbClr val="ffffff"/>
                </a:solidFill>
                <a:latin typeface="Verdana"/>
              </a:rPr>
              <a:t> </a:t>
            </a:r>
            <a:fld id="{D948796E-064F-4823-A119-0B399AA8456E}"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A6472-80F5-47F7-B63A-A2D3656D593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8D8AC-83BB-4271-80E7-EF98A424E1B0}" type="datetime">
              <a:rPr b="0" lang="en-US" sz="1200" spc="-1" strike="noStrike">
                <a:solidFill>
                  <a:srgbClr val="ffffff"/>
                </a:solidFill>
                <a:latin typeface="Verdana"/>
              </a:rPr>
              <a:t>07/30/26</a:t>
            </a:fld>
            <a:r>
              <a:rPr b="0" lang="en-US" sz="1200" spc="-1" strike="noStrike">
                <a:solidFill>
                  <a:srgbClr val="ffffff"/>
                </a:solidFill>
                <a:latin typeface="Verdana"/>
              </a:rPr>
              <a:t> </a:t>
            </a:r>
            <a:fld id="{A26763B0-2E3C-4927-9B85-E4FBCEB343A1}"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8C390-D7BD-4814-81E4-32EA3AAB0A8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C4721-64F7-4835-8EC6-2D5349CB7952}" type="datetime">
              <a:rPr b="0" lang="en-US" sz="1200" spc="-1" strike="noStrike">
                <a:solidFill>
                  <a:srgbClr val="ffffff"/>
                </a:solidFill>
                <a:latin typeface="Verdana"/>
              </a:rPr>
              <a:t>07/30/26</a:t>
            </a:fld>
            <a:r>
              <a:rPr b="0" lang="en-US" sz="1200" spc="-1" strike="noStrike">
                <a:solidFill>
                  <a:srgbClr val="ffffff"/>
                </a:solidFill>
                <a:latin typeface="Verdana"/>
              </a:rPr>
              <a:t> </a:t>
            </a:r>
            <a:fld id="{84F87CDE-E82D-41EB-955A-0FB0CC88B18D}"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C5BCC-BC5B-4B52-8EAD-31404125D1A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B43FC-BBA2-4E83-BC4B-CDAEA14A0C8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3C3AF-2E7A-497C-A14A-5411653AA6C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D7139-DC89-4527-A649-B7731F9725E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4C7D6-C05C-4FC0-A621-84F345623C1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2632B-20AA-433E-93DC-E234E2CE36E8}" type="datetime">
              <a:rPr b="0" lang="en-US" sz="1200" spc="-1" strike="noStrike">
                <a:solidFill>
                  <a:srgbClr val="ffffff"/>
                </a:solidFill>
                <a:latin typeface="Verdana"/>
              </a:rPr>
              <a:t>07/30/26</a:t>
            </a:fld>
            <a:r>
              <a:rPr b="0" lang="en-US" sz="1200" spc="-1" strike="noStrike">
                <a:solidFill>
                  <a:srgbClr val="ffffff"/>
                </a:solidFill>
                <a:latin typeface="Verdana"/>
              </a:rPr>
              <a:t> </a:t>
            </a:r>
            <a:fld id="{2AF0BF09-DE20-4A5F-89D8-2BFCAD636835}"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773E2-849D-48F2-97E2-E5E68AAC333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03167-1D01-431D-9881-246CB0CF8294}" type="datetime">
              <a:rPr b="0" lang="en-US" sz="1200" spc="-1" strike="noStrike">
                <a:solidFill>
                  <a:srgbClr val="ffffff"/>
                </a:solidFill>
                <a:latin typeface="Verdana"/>
              </a:rPr>
              <a:t>07/30/26</a:t>
            </a:fld>
            <a:r>
              <a:rPr b="0" lang="en-US" sz="1200" spc="-1" strike="noStrike">
                <a:solidFill>
                  <a:srgbClr val="ffffff"/>
                </a:solidFill>
                <a:latin typeface="Verdana"/>
              </a:rPr>
              <a:t> </a:t>
            </a:r>
            <a:fld id="{5153653B-C2A5-46C0-92D6-D59E60C79ED3}"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6395D-FB67-4A1D-A845-99512F465A7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87F94-BFAC-4550-8B79-B97DEDDA419B}" type="datetime">
              <a:rPr b="0" lang="en-US" sz="1200" spc="-1" strike="noStrike">
                <a:solidFill>
                  <a:srgbClr val="ffffff"/>
                </a:solidFill>
                <a:latin typeface="Verdana"/>
              </a:rPr>
              <a:t>07/30/26</a:t>
            </a:fld>
            <a:r>
              <a:rPr b="0" lang="en-US" sz="1200" spc="-1" strike="noStrike">
                <a:solidFill>
                  <a:srgbClr val="ffffff"/>
                </a:solidFill>
                <a:latin typeface="Verdana"/>
              </a:rPr>
              <a:t> </a:t>
            </a:r>
            <a:fld id="{C2D5A381-D054-49AD-88FF-6FBD64A61095}"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CE304-54D8-4A52-BBCA-CDEF2F946AA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498D4E-0DAB-4CEC-A4B3-6D6492F3C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AFCDA-89C7-4193-A5B5-A6120BECB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97992-C862-4E2B-9926-F9A070733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EDCD84-18CD-4A47-A991-7F9DD81469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D320B4-4863-46AB-9AD8-45279D4E99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153BC4-214F-4242-AFC7-EB7E26FFD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BFA190-3979-4246-9ECC-0145E9016A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D4BF04-A58A-4B8B-A106-DABF7942BA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E70A5D-AC01-4846-B69B-12769EE7DD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844E6A-443E-4A09-9D34-4567F6DA3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08A0D7-1DE6-4C13-80F2-A060C0A92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1CD1B-B259-4EF2-A914-64E7DB196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A72E6-7A18-4DD7-9B5E-E5D82405D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EB3B6-7658-4C3E-820C-8D5110C5E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547F99-5C16-435E-9F12-3D072A414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4C0876-B734-449B-A3C5-6BA6267316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CC29C5-2CEB-4FD3-82E2-5A6492E83E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D5295-865E-4B2B-AFDB-D0891B949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BA3E4-0149-4921-B0F6-1609246E9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EE2AD-BEBD-412E-8FB8-8796B38DA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B0B9E-C1A1-4D42-A553-13F1FE0F7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9341B-73D7-4DE3-881B-16BDA55C5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9E6FA-6B94-4C8B-8F37-A85C9CB8B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F1010-A1AA-4619-BD74-8865A25457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92AFB-4584-401F-B146-061C1AB0FCB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07DB8-CB18-4D88-9C9E-0B791872619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EB23A-5BE1-499D-B0EB-7A094111A10D}"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