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FEF2-5C77-4889-8E3B-BEB87F7875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5D58-1D48-4550-B40F-DCCAC9B269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19B0-2212-4186-95AE-DFA67969E4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4393-0DEA-4AEB-83DF-D96AC1DB2B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9273-97EA-4554-9DCA-D6FBBD8A6F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83D3-51BF-4DB5-A6F9-8D3FC8F13C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AD86-3773-4AF5-AF4C-B9E06AF5A9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68B0-A569-436D-8030-8104AB0005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34AA-E457-4ED0-930A-E8BDDA269E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1B46-4BA9-4EF7-8CAE-36B1D476FD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6D45-5131-4FD9-B79D-19150151D9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0A7C-E004-424C-8932-840B936A70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13D4-3B97-4C1E-9D95-D33DF5A57F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B411-5F5D-4FFA-8B3D-9015957EF0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96A9-9DEE-4919-955E-5B9321699D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A69A-66A3-46D7-B41D-1806D7A743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A97D-9196-4EBD-B9E5-D11A369782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25D1-D137-44BB-A051-102A43381E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1166-4615-43EB-945E-769FC4DDEE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6096-7941-45E0-8616-66C8E937DE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C9F5-1036-438C-AAE3-D6162A4EE9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014B-141B-4596-8BF3-D4C2A3DD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3876-375E-4FCC-92C5-488D6639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E9A9-79AD-42F2-A245-8A8984D15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0462-4AFD-4A71-8208-CE36A99FD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9F82-2777-45CF-93A7-C6E84C47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1263-DE1D-4F78-B644-BF36012C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7DB2-C2BF-4FEA-9DA2-1BFFB48D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933C-9C3C-4154-9C92-810B4F78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C3E8-A176-4CD5-86C2-ADB0823F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2CEC-EC6B-4FF6-A945-FBE90268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D800-1DC4-4043-9B4F-BD997F20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24C5-883D-4198-B1FB-CEA8D2F6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2A50-E104-498C-B59B-E4530B1469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567E-0306-44B2-8D89-21F3994335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642960" y="357120"/>
            <a:ext cx="80722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8ed5"/>
                </a:solidFill>
                <a:latin typeface="Calibri"/>
              </a:rPr>
              <a:t>Water Services Trust Fu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Urban Projects Concept (UP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859c"/>
                </a:solidFill>
                <a:latin typeface="Calibri"/>
              </a:rPr>
              <a:t>Fast-tracking &amp; up scaling provision of water and sanitation services to the urban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42960" y="2071800"/>
            <a:ext cx="78166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Eng. Jacqueline Musyo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CEO of the WS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4714920" y="2924280"/>
            <a:ext cx="3844800" cy="3097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4E0F-E9CA-4330-ACB5-7875041B5D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0AE8-971A-4190-B9E4-FBD97C4DB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85840" y="214200"/>
            <a:ext cx="47862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1000080"/>
            <a:ext cx="79009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al and awarding of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implementation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P and the W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Field Monitors of the WSTF provide support and are part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ulti-Stakeholder Project Task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5. Proposal Awarding by WSTF.jpg"/>
          <p:cNvPicPr/>
          <p:nvPr/>
        </p:nvPicPr>
        <p:blipFill>
          <a:blip r:embed="rId2"/>
          <a:stretch/>
        </p:blipFill>
        <p:spPr>
          <a:xfrm>
            <a:off x="5286240" y="214200"/>
            <a:ext cx="32306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27" name="Picture 8" descr="6b.Project Implementaton (Community Sensitisation).jpg"/>
          <p:cNvPicPr/>
          <p:nvPr/>
        </p:nvPicPr>
        <p:blipFill>
          <a:blip r:embed="rId3"/>
          <a:stretch/>
        </p:blipFill>
        <p:spPr>
          <a:xfrm>
            <a:off x="5214960" y="2786040"/>
            <a:ext cx="3286080" cy="2428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0FB3-FDCB-45E3-A0E6-1276C8189F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42920" y="142920"/>
            <a:ext cx="4572000" cy="706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5286240" y="571680"/>
            <a:ext cx="3356280" cy="25714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5" name="Picture 8" descr="8. Project Evaluation.jpg"/>
          <p:cNvPicPr/>
          <p:nvPr/>
        </p:nvPicPr>
        <p:blipFill>
          <a:blip r:embed="rId3"/>
          <a:stretch/>
        </p:blipFill>
        <p:spPr>
          <a:xfrm>
            <a:off x="5283360" y="3500280"/>
            <a:ext cx="33494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36" name="Rectangle 3"/>
          <p:cNvSpPr/>
          <p:nvPr/>
        </p:nvSpPr>
        <p:spPr>
          <a:xfrm>
            <a:off x="142920" y="92880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ration of the pro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.    Evaluation of the project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TF or by external evalua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valuation should be participativ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volve the residents  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541D-DB70-4686-80BC-85D95155CA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500040" y="214200"/>
            <a:ext cx="800100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28760" y="1071720"/>
            <a:ext cx="790092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WSTF has developed a number support produ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UPC Brochure &amp; UPC 8-Step Ch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Water Supply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Public Sanitation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ource -  the water and sanitation literature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quaPix  -    the urban pictures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In-situ Water Kiosk Construction Man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Sanitation Pro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number of urban community sensitisation posters. Focus, fetching at the kiosk, on water storage &amp; use, hand washing and HIV/AIDS (laminated, size A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AAD7-73DC-4394-A8AA-CA7E8BAB0A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85840" y="1285920"/>
            <a:ext cx="853272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a project to mainstream HIV/AIDS and to address gender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rganis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easy accessible modu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ll mainly be used by the Field monitors and by WSP and WSB staff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as developed with three  WSPs (Oloolaiser Water and Sewerage Company, Mavoko WSC and Naivasha Water, Sewerage and Sanitation Company) during the implementation of the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Kiosk Pilot Project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(funded by GT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ll lessons learned resulted in numerous improvements and adap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he pilot project currently supplies more than 2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3DC7-C847-4709-B3D3-89C0DAE673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5720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all tools needed to plan, implement &amp; operate an urban water supply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vers all phases of the project cy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STF Application For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well as data collection and project evaluation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s all necessa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rawin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ills of quantiti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ccompanying measur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a water supply project (community mobilisation, sensitisation and participation, training of staff and kiosk operators, etc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9B6F-4091-497A-BD79-2DED0B9267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285840" y="214200"/>
            <a:ext cx="81439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: Field Monitor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85840" y="1071720"/>
            <a:ext cx="790092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project receives the support from a (1) Engineering-, (2) Social- and an (3) Financial Field Moni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Field Moni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specialists contracted by the WST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attached to WSTF-funded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ist, facilitate, advice &amp; build capacity at WSP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monitor progress and quality on behalf of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closely together with the WSP and WSB and are part of the Project Task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ject Task Team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consists of: WSP and WSB staff, Council staff, the Public Health Officer (PHO),  the Chief, residents and the Field Mon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0E9B-85A7-4E6D-AE43-7BD89F26BA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71280" y="71280"/>
            <a:ext cx="864396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57200" y="128592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a number of technical options (drawings, BoQs, etc.)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closed water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closed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bamboo eco kio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 kiosk (covered and not cove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yard t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yard 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id  public tap (being develop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er chambers (for up to 25 me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SP can also choose to implement a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ixed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kiosks and yard taps or kiosk and domestic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DSC02807.JPG"/>
          <p:cNvPicPr/>
          <p:nvPr/>
        </p:nvPicPr>
        <p:blipFill>
          <a:blip r:embed="rId2"/>
          <a:stretch/>
        </p:blipFill>
        <p:spPr>
          <a:xfrm>
            <a:off x="4809960" y="2928960"/>
            <a:ext cx="41911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7A03-AB5E-4C8A-B875-B157197855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71280" y="142920"/>
            <a:ext cx="871560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142920" y="142884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nal version 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Sanitation Proje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will contain a number of technical options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ublic sanitation facility (link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ewer or to a bio-dige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lot-level (shared fac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household level sanitation fac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n increasing number of residents of low income areas are renting their accommodation. They live on a plot together with other tenants and share the available toilet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image 01.jpg"/>
          <p:cNvPicPr/>
          <p:nvPr/>
        </p:nvPicPr>
        <p:blipFill>
          <a:blip r:embed="rId2"/>
          <a:stretch/>
        </p:blipFill>
        <p:spPr>
          <a:xfrm>
            <a:off x="4429080" y="2567160"/>
            <a:ext cx="42861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69E9-FBD7-4097-B315-3D570DB829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285840" y="21420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t but not least: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85840" y="116064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STF, at the request of the Ministry of Water and irrigation, is conducting a pro-poor mapping exerc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ailed data is collected in and 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l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income urban areas of Keny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on population, current water supply &amp; sanitation (WSS) situation, housing, solid waste, socio-economic activities &amp; infrastructure, land ownership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PS readings are taken of area boundaries, existing WSS infrastructure and of the “area characterisation pictures” 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data will be used to create a database: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Maji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ajiData  is supported and implemented together with Google.org, Un-Habitat and Kf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FDFE-951E-4DA8-A330-89637F080A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42876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ves of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5712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ing water supply &amp; sanitation (WSS) in urban low income ar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able Water Services Providers (WSPs) to prepare realistic project proposals for the WST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WSTF to evaluate and prioritise proposals (value for mon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engthen the capacity of WSPs to manage WSS sche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Kenyan water sector to assess the current WSS situation and monitor the impact of programmes and their contribution to the achievement of MDGs &amp; Vision 2030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eam has completed data collection in 6 Water Services Boards regions. Data collection will be complete in November. The Team has collected data on more than 1,100  low income urban a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CFDD-9CF9-41E2-BB79-5B850112EA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50004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00040" y="1357200"/>
            <a:ext cx="792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large proportion of the urban population in Kenya does not have access 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fe wate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adequate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1010648.JPG"/>
          <p:cNvPicPr/>
          <p:nvPr/>
        </p:nvPicPr>
        <p:blipFill>
          <a:blip r:embed="rId2"/>
          <a:stretch/>
        </p:blipFill>
        <p:spPr>
          <a:xfrm>
            <a:off x="857160" y="2874960"/>
            <a:ext cx="3500640" cy="2625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P1010664.JPG"/>
          <p:cNvPicPr/>
          <p:nvPr/>
        </p:nvPicPr>
        <p:blipFill>
          <a:blip r:embed="rId3"/>
          <a:stretch/>
        </p:blipFill>
        <p:spPr>
          <a:xfrm>
            <a:off x="4786200" y="2874960"/>
            <a:ext cx="35006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ACE8-1427-445A-B55A-2D1616F64B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14200" y="214200"/>
            <a:ext cx="4500720" cy="1071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2"/>
          <a:stretch/>
        </p:blipFill>
        <p:spPr>
          <a:xfrm>
            <a:off x="5076720" y="216000"/>
            <a:ext cx="3346560" cy="2511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P1020493.JPG"/>
          <p:cNvPicPr/>
          <p:nvPr/>
        </p:nvPicPr>
        <p:blipFill>
          <a:blip r:embed="rId3"/>
          <a:stretch/>
        </p:blipFill>
        <p:spPr>
          <a:xfrm>
            <a:off x="5072040" y="3071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P1020484.JPG"/>
          <p:cNvPicPr/>
          <p:nvPr/>
        </p:nvPicPr>
        <p:blipFill>
          <a:blip r:embed="rId4"/>
          <a:stretch/>
        </p:blipFill>
        <p:spPr>
          <a:xfrm>
            <a:off x="214200" y="228600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C239-E019-4B83-A3C0-9953F9E0D8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00040" y="142920"/>
            <a:ext cx="7858080" cy="714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spon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000080"/>
            <a:ext cx="821844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 respond to this challenge, the Water Services Trust Fund (WSTF) established an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Window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to finance sustainable urban water supply and sanitation projects in low income urban a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Window is supported by the European Union (EU) and by the German Development Bank (KfW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vailable funds :  € 15.5 million (approx KSh 1.5 Bill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KfW will continue supporting the UPC after the current phase          (€ 5.5. million) with an additional € 12 mi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echnical support is provided by the German Technical Cooperation (GTZ) and by Kf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WSTF has developed the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Projects Concept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(UPC) to provide support and opportunities to the Water Service Providers (WSPs) &amp; Water Services Boards (WSB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ADFF-7CF8-40D6-A911-318CF5233D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57200" y="1143000"/>
            <a:ext cx="797256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oes the WSTF intend to achie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ing sustainable safe water and adequate sanitation accessible to a large number of urban po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roving public 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tributing to the improvement of urban livelih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ild capacity at provider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Objective of the WSTF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:  reaching the poor…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upply:    1.4 million residents (500,000 in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anitation: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40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etween January 2009 and December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8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3887-D377-4468-B828-13B12559B8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00040" y="214200"/>
            <a:ext cx="8001000" cy="642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57200" y="100008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 Euro 5 – Euro 17 (depending on the required technical works and social constraints) of urban liv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P1010655.JPG"/>
          <p:cNvPicPr/>
          <p:nvPr/>
        </p:nvPicPr>
        <p:blipFill>
          <a:blip r:embed="rId2"/>
          <a:stretch/>
        </p:blipFill>
        <p:spPr>
          <a:xfrm>
            <a:off x="4238640" y="3498840"/>
            <a:ext cx="39052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9A26-432C-46DE-84C8-53051CB973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500040" y="214200"/>
            <a:ext cx="80010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92880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KSh 500 (funded by WSTF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TF will offer innovativ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ublic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lot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household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sanitation solutions: KSh 8,000 for a single household facility and KSh 40,000 – 70,000; for a shared facility (4 – 20 households living on the same pl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Sanitation, in most cases, the outcome of a household decision... or a decision made by the landl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P1010737.JPG"/>
          <p:cNvPicPr/>
          <p:nvPr/>
        </p:nvPicPr>
        <p:blipFill>
          <a:blip r:embed="rId2"/>
          <a:stretch/>
        </p:blipFill>
        <p:spPr>
          <a:xfrm>
            <a:off x="571680" y="4071960"/>
            <a:ext cx="3524040" cy="221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image 01.jpg"/>
          <p:cNvPicPr/>
          <p:nvPr/>
        </p:nvPicPr>
        <p:blipFill>
          <a:blip r:embed="rId3"/>
          <a:stretch/>
        </p:blipFill>
        <p:spPr>
          <a:xfrm>
            <a:off x="4500720" y="4071960"/>
            <a:ext cx="40719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4CA8-9244-4B90-ACD1-16B29E71D0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ppr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2"/>
          <a:stretch/>
        </p:blipFill>
        <p:spPr>
          <a:xfrm>
            <a:off x="1473120" y="3481560"/>
            <a:ext cx="3527640" cy="26445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457200" y="1428840"/>
            <a:ext cx="80438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funds of the WSTF can only be accessed by licensed Water Service Providers (WS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Ps are responsible for the management of project funds as well as for the successful implementation and sustainable operation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1420-0EB5-4176-8D6D-F0CD205A43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214200" y="214200"/>
            <a:ext cx="835848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rban Projects Concept has eight (8)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14200" y="1214280"/>
            <a:ext cx="814392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unch of the Call for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ection of data 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opulation demand for wat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1. Announcing the Call for Proposals .jpg"/>
          <p:cNvPicPr/>
          <p:nvPr/>
        </p:nvPicPr>
        <p:blipFill>
          <a:blip r:embed="rId2"/>
          <a:stretch/>
        </p:blipFill>
        <p:spPr>
          <a:xfrm>
            <a:off x="5357880" y="1143000"/>
            <a:ext cx="321480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9" name="Picture 8" descr="2. Data Collection.jpg"/>
          <p:cNvPicPr/>
          <p:nvPr/>
        </p:nvPicPr>
        <p:blipFill>
          <a:blip r:embed="rId3"/>
          <a:stretch/>
        </p:blipFill>
        <p:spPr>
          <a:xfrm>
            <a:off x="5357880" y="3643200"/>
            <a:ext cx="3286080" cy="2336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8733-FD8E-4FFB-B811-BB44178806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28760" y="214200"/>
            <a:ext cx="814392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ation of project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WSPs and WS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Appraisal of project propos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WS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3. Proposal Preparation.jpg"/>
          <p:cNvPicPr/>
          <p:nvPr/>
        </p:nvPicPr>
        <p:blipFill>
          <a:blip r:embed="rId2"/>
          <a:stretch/>
        </p:blipFill>
        <p:spPr>
          <a:xfrm>
            <a:off x="5286240" y="1071720"/>
            <a:ext cx="328644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8" name="Picture 8" descr="4. Proposal Evaluation by WSTF.jpg"/>
          <p:cNvPicPr/>
          <p:nvPr/>
        </p:nvPicPr>
        <p:blipFill>
          <a:blip r:embed="rId3"/>
          <a:stretch/>
        </p:blipFill>
        <p:spPr>
          <a:xfrm>
            <a:off x="5286240" y="3643200"/>
            <a:ext cx="3321360" cy="2314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02:34Z</dcterms:created>
  <dc:creator>dell client</dc:creator>
  <dc:description/>
  <dc:language>en-US</dc:language>
  <cp:lastModifiedBy>rolendo</cp:lastModifiedBy>
  <dcterms:modified xsi:type="dcterms:W3CDTF">2010-10-18T04:54:57Z</dcterms:modified>
  <cp:revision>123</cp:revision>
  <dc:subject/>
  <dc:title>Slide 1</dc:title>
</cp:coreProperties>
</file>