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7.wmf" ContentType="image/x-wmf"/>
  <Override PartName="/ppt/media/image16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5.png" ContentType="image/png"/>
  <Override PartName="/ppt/media/image28.jpeg" ContentType="image/jpeg"/>
  <Override PartName="/ppt/media/image18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3495-F599-4D94-BB4F-E427FCCAE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FB64-965F-49FD-BAFF-046D109114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9E6D-0B89-4024-B88A-66E6031592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CAFF-3E55-4D58-89AC-F5293CD8D0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CAF9-0ED3-41AC-9B1F-028AE181FD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3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ECEA-526D-40C0-B52C-0D9C962DD1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31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9FC6-005F-4159-8CFA-13106979257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7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831F-E748-4C23-9B1E-B88E05F0312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Guli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E171-9331-44B5-A835-8F856D1C52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F9AE-F8B8-4EAA-9256-9FB1CE531C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0280" cy="3706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78440" cy="447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AFBE-021B-42F7-8EF3-9B9D2DAD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6024-A310-49E2-9F47-FA4FA65E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F801-0A97-40DC-9FFF-3E1097F4F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4395-E662-4A5B-938B-FA0DCE096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0CF9-0ED4-4CDA-86A7-B451E887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0682-1989-4E66-8C7C-F610F420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8A6C-0895-412B-8BF7-F37F7A4A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724D-92A9-4C43-8330-62180286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31B6-B313-4C46-8988-A09EDD9C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3129-25D2-4A4F-B77E-1C1A03E4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A407-8FE9-472F-9C29-2403E239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C56A-F2E5-4139-A9C7-6E87E7CD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0920" y="6453000"/>
            <a:ext cx="252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72360" y="6633720"/>
            <a:ext cx="252072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24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95E1-9ADD-4C83-BD15-CD12727ABD17}" type="slidenum">
              <a:rPr b="0" lang="en-GB" sz="1000" spc="-1" strike="noStrike">
                <a:solidFill>
                  <a:srgbClr val="0024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Timo.voipio@formin.fi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4284720" y="0"/>
            <a:ext cx="48592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lin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2009) 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uture work 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. Timo Voip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FA-Fin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cc13"/>
                </a:solidFill>
                <a:uFillTx/>
                <a:latin typeface="Arial"/>
                <a:hlinkClick r:id="rId2"/>
              </a:rPr>
              <a:t>timo.voipio@formin.fi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/EU Partner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Social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irobi 10-11 March,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5661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Millennium Development Goal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= Multi-dimensi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4CFC-1440-4D69-BE80-F05001609E7A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4981-21A3-4E98-ADAD-D1A25CE82A93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traight Connector 7"/>
          <p:cNvSpPr/>
          <p:nvPr/>
        </p:nvSpPr>
        <p:spPr>
          <a:xfrm>
            <a:off x="6084720" y="4941720"/>
            <a:ext cx="19432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traight Connector 8"/>
          <p:cNvSpPr/>
          <p:nvPr/>
        </p:nvSpPr>
        <p:spPr>
          <a:xfrm>
            <a:off x="4067280" y="5516640"/>
            <a:ext cx="40338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traight Connector 10"/>
          <p:cNvSpPr/>
          <p:nvPr/>
        </p:nvSpPr>
        <p:spPr>
          <a:xfrm>
            <a:off x="4140360" y="6093000"/>
            <a:ext cx="2376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traight Connector 12"/>
          <p:cNvSpPr/>
          <p:nvPr/>
        </p:nvSpPr>
        <p:spPr>
          <a:xfrm>
            <a:off x="6659640" y="3141720"/>
            <a:ext cx="144144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traight Connector 13"/>
          <p:cNvSpPr/>
          <p:nvPr/>
        </p:nvSpPr>
        <p:spPr>
          <a:xfrm>
            <a:off x="3780000" y="1125360"/>
            <a:ext cx="216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6D83-2EE2-48CE-8329-3E60955911C8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1026"/>
          <p:cNvSpPr/>
          <p:nvPr/>
        </p:nvSpPr>
        <p:spPr>
          <a:xfrm>
            <a:off x="4572000" y="2743200"/>
            <a:ext cx="3657600" cy="3429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5880" y="-360"/>
            <a:ext cx="859284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EVELOPMENT and PovReduction ? 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growth + redistribution, if any...?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redistribution of opportunity...?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LD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N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All the other se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where poor people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1029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030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031"/>
          <p:cNvSpPr/>
          <p:nvPr/>
        </p:nvSpPr>
        <p:spPr>
          <a:xfrm>
            <a:off x="5105520" y="3276720"/>
            <a:ext cx="2590560" cy="243828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032"/>
          <p:cNvSpPr/>
          <p:nvPr/>
        </p:nvSpPr>
        <p:spPr>
          <a:xfrm rot="13623600">
            <a:off x="6561720" y="3030840"/>
            <a:ext cx="1057320" cy="1611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033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034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035"/>
          <p:cNvSpPr/>
          <p:nvPr/>
        </p:nvSpPr>
        <p:spPr>
          <a:xfrm rot="19941000">
            <a:off x="5715000" y="31237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036"/>
          <p:cNvSpPr/>
          <p:nvPr/>
        </p:nvSpPr>
        <p:spPr>
          <a:xfrm rot="16048200">
            <a:off x="4952880" y="403848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037"/>
          <p:cNvSpPr/>
          <p:nvPr/>
        </p:nvSpPr>
        <p:spPr>
          <a:xfrm rot="6979200">
            <a:off x="7390440" y="4571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038"/>
          <p:cNvSpPr/>
          <p:nvPr/>
        </p:nvSpPr>
        <p:spPr>
          <a:xfrm rot="11289600">
            <a:off x="6019920" y="533340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039"/>
          <p:cNvSpPr/>
          <p:nvPr/>
        </p:nvSpPr>
        <p:spPr>
          <a:xfrm rot="2715000">
            <a:off x="6933600" y="342900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040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041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127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21"/>
          <p:cNvSpPr/>
          <p:nvPr/>
        </p:nvSpPr>
        <p:spPr>
          <a:xfrm>
            <a:off x="3203640" y="256536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tor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23"/>
          <p:cNvSpPr/>
          <p:nvPr/>
        </p:nvSpPr>
        <p:spPr>
          <a:xfrm flipH="1">
            <a:off x="2916360" y="2997360"/>
            <a:ext cx="576000" cy="7128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traight Connector 25"/>
          <p:cNvSpPr/>
          <p:nvPr/>
        </p:nvSpPr>
        <p:spPr>
          <a:xfrm flipH="1" flipV="1">
            <a:off x="2123640" y="5300280"/>
            <a:ext cx="144360" cy="57636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P-strategies of Africa + POVNE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unis, 27-30 June, 200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11C9-B609-456D-A14F-C94771496BF8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Oval 2"/>
          <p:cNvSpPr/>
          <p:nvPr/>
        </p:nvSpPr>
        <p:spPr>
          <a:xfrm>
            <a:off x="3733920" y="2133720"/>
            <a:ext cx="5257800" cy="4419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6240" y="304920"/>
            <a:ext cx="648648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with trust and social protection, people dare to move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5029200" y="3124080"/>
            <a:ext cx="2590920" cy="243864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8"/>
          <p:cNvSpPr/>
          <p:nvPr/>
        </p:nvSpPr>
        <p:spPr>
          <a:xfrm rot="13623600">
            <a:off x="6543000" y="2446920"/>
            <a:ext cx="1595520" cy="23018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 rot="19941000">
            <a:off x="5022720" y="2133360"/>
            <a:ext cx="1432080" cy="1690560"/>
          </a:xfrm>
          <a:prstGeom prst="upArrow">
            <a:avLst>
              <a:gd name="adj1" fmla="val 50000"/>
              <a:gd name="adj2" fmla="val 2951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 rot="16048200">
            <a:off x="3986640" y="3395880"/>
            <a:ext cx="1305000" cy="1675080"/>
          </a:xfrm>
          <a:prstGeom prst="upArrow">
            <a:avLst>
              <a:gd name="adj1" fmla="val 50000"/>
              <a:gd name="adj2" fmla="val 3209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3"/>
          <p:cNvSpPr/>
          <p:nvPr/>
        </p:nvSpPr>
        <p:spPr>
          <a:xfrm rot="6979200">
            <a:off x="7299720" y="4137480"/>
            <a:ext cx="1493640" cy="1508400"/>
          </a:xfrm>
          <a:prstGeom prst="upArrow">
            <a:avLst>
              <a:gd name="adj1" fmla="val 50000"/>
              <a:gd name="adj2" fmla="val 25247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4"/>
          <p:cNvSpPr/>
          <p:nvPr/>
        </p:nvSpPr>
        <p:spPr>
          <a:xfrm rot="11289600">
            <a:off x="5616360" y="5365440"/>
            <a:ext cx="1617480" cy="13111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5"/>
          <p:cNvSpPr/>
          <p:nvPr/>
        </p:nvSpPr>
        <p:spPr>
          <a:xfrm rot="2715000">
            <a:off x="6927120" y="2481840"/>
            <a:ext cx="1339560" cy="1859040"/>
          </a:xfrm>
          <a:prstGeom prst="upArrow">
            <a:avLst>
              <a:gd name="adj1" fmla="val 50000"/>
              <a:gd name="adj2" fmla="val 34695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16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Straight Arrow Connector 21"/>
          <p:cNvCxnSpPr/>
          <p:nvPr/>
        </p:nvCxnSpPr>
        <p:spPr>
          <a:xfrm flipV="1">
            <a:off x="6515640" y="4005000"/>
            <a:ext cx="648360" cy="172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3" name="Straight Arrow Connector 22"/>
          <p:cNvCxnSpPr/>
          <p:nvPr/>
        </p:nvCxnSpPr>
        <p:spPr>
          <a:xfrm>
            <a:off x="5435640" y="2997360"/>
            <a:ext cx="1729440" cy="57636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4" name="Straight Arrow Connector 23"/>
          <p:cNvCxnSpPr/>
          <p:nvPr/>
        </p:nvCxnSpPr>
        <p:spPr>
          <a:xfrm flipH="1" flipV="1">
            <a:off x="5002920" y="4436280"/>
            <a:ext cx="1513800" cy="136908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5" name="Straight Arrow Connector 24"/>
          <p:cNvCxnSpPr/>
          <p:nvPr/>
        </p:nvCxnSpPr>
        <p:spPr>
          <a:xfrm flipV="1">
            <a:off x="5219280" y="3933360"/>
            <a:ext cx="1801080" cy="504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6" name="Straight Arrow Connector 30"/>
          <p:cNvCxnSpPr/>
          <p:nvPr/>
        </p:nvCxnSpPr>
        <p:spPr>
          <a:xfrm flipH="1" flipV="1">
            <a:off x="5002920" y="4365360"/>
            <a:ext cx="2233080" cy="28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sp>
        <p:nvSpPr>
          <p:cNvPr id="217" name="TextBox 33"/>
          <p:cNvSpPr/>
          <p:nvPr/>
        </p:nvSpPr>
        <p:spPr>
          <a:xfrm>
            <a:off x="6948360" y="189000"/>
            <a:ext cx="226224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African sm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lder agric.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 potenti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6 x larger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mestic mark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an in overseas export marke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35"/>
          <p:cNvSpPr/>
          <p:nvPr/>
        </p:nvSpPr>
        <p:spPr>
          <a:xfrm>
            <a:off x="324000" y="2637000"/>
            <a:ext cx="18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ny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36"/>
          <p:cNvSpPr/>
          <p:nvPr/>
        </p:nvSpPr>
        <p:spPr>
          <a:xfrm>
            <a:off x="0" y="5805360"/>
            <a:ext cx="58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ynamic structural change           from sector to s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traight Connector 38"/>
          <p:cNvSpPr/>
          <p:nvPr/>
        </p:nvSpPr>
        <p:spPr>
          <a:xfrm flipV="1">
            <a:off x="4647600" y="5157360"/>
            <a:ext cx="1003320" cy="862200"/>
          </a:xfrm>
          <a:prstGeom prst="line">
            <a:avLst/>
          </a:prstGeom>
          <a:ln w="38160">
            <a:solidFill>
              <a:srgbClr val="001b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4102-1C14-4F83-B177-9D3F41A5EC4B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6"/>
          <p:cNvSpPr/>
          <p:nvPr/>
        </p:nvSpPr>
        <p:spPr>
          <a:xfrm>
            <a:off x="611280" y="55897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Credible Social Protection needed for poor people to be able to participate in and contribute to grow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traight Connector 8"/>
          <p:cNvSpPr/>
          <p:nvPr/>
        </p:nvSpPr>
        <p:spPr>
          <a:xfrm>
            <a:off x="826920" y="2421000"/>
            <a:ext cx="180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D938-EA56-44A7-B77A-ACA84931F18E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2"/>
          <a:stretch/>
        </p:blipFill>
        <p:spPr>
          <a:xfrm>
            <a:off x="228600" y="5638680"/>
            <a:ext cx="3809880" cy="762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3"/>
          <a:stretch/>
        </p:blipFill>
        <p:spPr>
          <a:xfrm>
            <a:off x="4724280" y="5943600"/>
            <a:ext cx="403884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8"/>
          <p:cNvSpPr/>
          <p:nvPr/>
        </p:nvSpPr>
        <p:spPr>
          <a:xfrm>
            <a:off x="0" y="1268280"/>
            <a:ext cx="3348000" cy="39344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ECD-POVNE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cial Prote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 Good for Pro-Po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C488-7267-4E98-A7ED-8D3325787223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820728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hy Social Protection ?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52280" y="1071720"/>
            <a:ext cx="4496040" cy="62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ro-poor grow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s avoid shocks that derail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motes innovation,    risk taking and entrepreneu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nteracts irreversible asset deple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t accumulation + broadening tax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gregate demand in the economy/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4572000" y="1071720"/>
            <a:ext cx="4572000" cy="67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Rights-ba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t.22-28 UDH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DGs, basic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uman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bal socio-economic ‘floor’ /’compact’ (minimum standard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ocratic particip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inable dev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cycle and inter-generational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395280" y="6093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+ Fastest way to achieve MD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50104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Universal Declaration of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Human Rights (1948)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341000"/>
            <a:ext cx="861084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Everyone, as a member of society, has the 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ocial security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” (Art 2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ork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 freely chosen...under just conditions and remuneration...and to join unions..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and to a decent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andard of living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7"/>
          <p:cNvSpPr/>
          <p:nvPr/>
        </p:nvSpPr>
        <p:spPr>
          <a:xfrm>
            <a:off x="5651640" y="2924280"/>
            <a:ext cx="33130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Straight Connector 8"/>
          <p:cNvSpPr/>
          <p:nvPr/>
        </p:nvSpPr>
        <p:spPr>
          <a:xfrm>
            <a:off x="3564000" y="3645000"/>
            <a:ext cx="46800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4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6"/>
          <p:cNvSpPr/>
          <p:nvPr/>
        </p:nvSpPr>
        <p:spPr>
          <a:xfrm>
            <a:off x="2771640" y="0"/>
            <a:ext cx="70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Straight Connector 8"/>
          <p:cNvSpPr/>
          <p:nvPr/>
        </p:nvSpPr>
        <p:spPr>
          <a:xfrm>
            <a:off x="4500720" y="476280"/>
            <a:ext cx="0" cy="6381720"/>
          </a:xfrm>
          <a:prstGeom prst="line">
            <a:avLst/>
          </a:prstGeom>
          <a:ln w="93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nor policy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 Guidelines on:</a:t>
            </a: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 PROT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   Cash trans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wth-imp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Inform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ford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-cycle ri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, HIV/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agile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mate change adap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Disaster Risk Reduct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6"/>
          <p:cNvSpPr/>
          <p:nvPr/>
        </p:nvSpPr>
        <p:spPr>
          <a:xfrm>
            <a:off x="5580000" y="0"/>
            <a:ext cx="42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3"/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1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47d"/>
                </a:solidFill>
                <a:latin typeface="Bauhaus Hv BT"/>
              </a:rPr>
              <a:t>The ILO Campaign on Social Security and Coverage for 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-468360" y="1052640"/>
            <a:ext cx="10296720" cy="64087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0" y="189000"/>
            <a:ext cx="914400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Social Protection </a:t>
            </a:r>
            <a:r>
              <a:rPr b="1" lang="en-US" sz="4400" spc="-1" strike="noStrike" u="sng">
                <a:solidFill>
                  <a:srgbClr val="fae073"/>
                </a:solidFill>
                <a:uFillTx/>
                <a:latin typeface="Calibri"/>
                <a:ea typeface="Gulim"/>
              </a:rPr>
              <a:t>Floor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</a:t>
            </a:r>
            <a:r>
              <a:rPr b="1" lang="en-US" sz="4400" spc="-1" strike="noStrike">
                <a:solidFill>
                  <a:srgbClr val="fae073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towards higher level services and protection…</a:t>
            </a:r>
            <a:br>
              <a:rPr sz="28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ey: Our Concept of Development and Progres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50920" y="1341360"/>
            <a:ext cx="8642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ould we measure progress in terms of GDP  grow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in terms of numbers of women and men, young, old and disabled who have gained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decent jobs, sustainable livelihoods or reliable social prote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who are therefore able to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participate as active citizens and economic actor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e ’transformative’ processe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50920" y="1557360"/>
            <a:ext cx="8642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>
              <a:spcAft>
                <a:spcPts val="700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idelines on EMPOWERMENT and Pro-Poor Growth soon…(2009-20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 Making Green Growth Pro-Poor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Food Security/Access to Food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4) Social Protection Flo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Task Team 2011-1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Coordinate with EU/AU + UN-SPF-I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olicy / social protection analytic capacity + staff training 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rotection statistics (DAC-code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0" descr="pov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2916360" y="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</a:rPr>
              <a:t>POVNET WORK 2009-20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8217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"/>
          <p:cNvSpPr/>
          <p:nvPr/>
        </p:nvSpPr>
        <p:spPr>
          <a:xfrm>
            <a:off x="0" y="1557360"/>
            <a:ext cx="9144000" cy="58226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VING TOWARDS 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ortant now to show DEMAND and require BUDGETS and ACTION by EUC/AUC + M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+ Network of EU and African Experts (+ POVNET + UN SocProtFloor Initiativ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ICSW Global Conference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Brasilia 16-19 July, 2006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Entry points for ICSW to promot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ocial Justice in PRS-process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6F3F-1C54-464D-81D5-A12039271F37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52578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SOC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NOM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876312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IO-1992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IO-2012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stainable dev’t =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Balanced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dev’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505320" y="9907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419720" y="1523880"/>
            <a:ext cx="304560" cy="4114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 rot="5397000">
            <a:off x="4419360" y="-761760"/>
            <a:ext cx="304920" cy="4876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133720" y="182880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858000" y="175248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457200" y="5562720"/>
            <a:ext cx="8229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LOGIC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457200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4572000" y="0"/>
            <a:ext cx="144360" cy="6858000"/>
          </a:xfrm>
          <a:prstGeom prst="rect">
            <a:avLst/>
          </a:prstGeom>
          <a:solidFill>
            <a:srgbClr val="88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4505400" y="0"/>
            <a:ext cx="46386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332000" y="544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-D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6094800" y="5300640"/>
            <a:ext cx="15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RIS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6200" y="836640"/>
            <a:ext cx="842652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8360" y="0"/>
            <a:ext cx="846144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ich Country Club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961 - 2011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C = ’Donor brainstorming forum’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.g. 0,7% GDP, aid untying, ’ownership’, ’aid coordination’, ’aid harmonization’, (Paris/Acc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100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VNET = Poverty Network 1998 – 201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DERNET + ENVIRONET +  GOV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cid:image001.gif@01CB536A.B5658840"/>
          <p:cNvPicPr/>
          <p:nvPr/>
        </p:nvPicPr>
        <p:blipFill>
          <a:blip r:embed="rId1"/>
          <a:stretch/>
        </p:blipFill>
        <p:spPr>
          <a:xfrm>
            <a:off x="0" y="0"/>
            <a:ext cx="3203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3564000" y="1484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403280" y="6237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Poverty is context-specific, a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641160"/>
          </a:xfrm>
          <a:prstGeom prst="rect">
            <a:avLst/>
          </a:prstGeom>
          <a:solidFill>
            <a:srgbClr val="ffff00"/>
          </a:solidFill>
          <a:ln w="9360">
            <a:solidFill>
              <a:srgbClr val="fae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…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Poverty is </a:t>
            </a:r>
            <a:r>
              <a:rPr b="1" lang="en-US" sz="3600" spc="-1" strike="noStrike" u="sng">
                <a:solidFill>
                  <a:srgbClr val="00247d"/>
                </a:solidFill>
                <a:uFillTx/>
                <a:latin typeface="Arial"/>
                <a:ea typeface="Arial Unicode MS"/>
              </a:rPr>
              <a:t>multi-dimensional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 (OECD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352680" y="838080"/>
            <a:ext cx="259092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ROTECTIVE</a:t>
            </a:r>
            <a:br>
              <a:rPr sz="28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sk, vulnerability             social protection / social risk manag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238880" y="2208240"/>
            <a:ext cx="1905120" cy="1738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OLITIC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ghts        freedoms        voice &amp;     influ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791320" y="5049720"/>
            <a:ext cx="1828800" cy="1555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SOCIO-CULTUR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status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espect, dig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2208240"/>
            <a:ext cx="198144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ECONOMIC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consump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income            ass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600200" y="5035680"/>
            <a:ext cx="1695600" cy="15926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ealth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educa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unger, th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3733920" y="2743200"/>
            <a:ext cx="167616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GENDER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NVIRON-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1371600" y="1219320"/>
            <a:ext cx="1828800" cy="838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5943600" y="1219320"/>
            <a:ext cx="1905120" cy="9144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3444840" y="572616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1219320" y="3429000"/>
            <a:ext cx="1044360" cy="1496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2286000" y="24382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6773760" y="3771720"/>
            <a:ext cx="1046160" cy="1143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5257800" y="2362320"/>
            <a:ext cx="1022400" cy="25621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 flipV="1">
            <a:off x="2849400" y="2286000"/>
            <a:ext cx="1036800" cy="2689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 flipV="1">
            <a:off x="3352680" y="3349440"/>
            <a:ext cx="3587760" cy="1795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H="1" flipV="1">
            <a:off x="2133720" y="3192120"/>
            <a:ext cx="3527280" cy="18399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ähän maapallo ja  laps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ctr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beleni - Future - Tulevaisu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" descr="http://www.unbotswana.org.bw/img/photo/system_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Oval 4"/>
          <p:cNvSpPr/>
          <p:nvPr/>
        </p:nvSpPr>
        <p:spPr>
          <a:xfrm>
            <a:off x="3857760" y="4000680"/>
            <a:ext cx="642960" cy="2643120"/>
          </a:xfrm>
          <a:prstGeom prst="ellips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2000 – Millennium Declaration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and MD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4429080" y="6072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s. Tarja  Halonen, President of Fin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hair of the Millennium Sum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2859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1:51:28Z</dcterms:created>
  <dc:creator>kilpiha</dc:creator>
  <dc:description/>
  <dc:language>en-US</dc:language>
  <cp:lastModifiedBy>Timo Voipio</cp:lastModifiedBy>
  <dcterms:modified xsi:type="dcterms:W3CDTF">2011-03-10T09:29:51Z</dcterms:modified>
  <cp:revision>499</cp:revision>
  <dc:subject/>
  <dc:title>COMMUNCATION Ministry for Foreign Affairs Finla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dditional information">
    <vt:lpwstr/>
  </property>
  <property fmtid="{D5CDD505-2E9C-101B-9397-08002B2CF9AE}" pid="3" name="Creator">
    <vt:lpwstr/>
  </property>
  <property fmtid="{D5CDD505-2E9C-101B-9397-08002B2CF9AE}" pid="4" name="Date">
    <vt:lpwstr>2009-02-17T00:00:00Z</vt:lpwstr>
  </property>
  <property fmtid="{D5CDD505-2E9C-101B-9397-08002B2CF9AE}" pid="5" name="Unit">
    <vt:lpwstr/>
  </property>
</Properties>
</file>