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543B5A-B891-4B4C-BDE6-5B74C51626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6433FE-FB82-4824-8853-3E395B7D88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54FC52-8EAB-4915-9EF2-A763585907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273235-AB97-458A-BBBA-CBFFB64144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E7FE28-41F5-4D3D-A73D-6BAEEF0168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A40601-B786-4EE2-B8C6-825E0632C5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22A34B-1086-4B9E-A69B-9F33A51F06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A46B6D-CDC4-4726-9ED7-582F36E4A1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D26674-C83D-40DA-A5C3-7C8535BD1B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E4274D-5135-4AB8-891E-32458BDC7B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098190-59B5-42CE-914D-A12EEBC93F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B1E61C-48C8-468A-988A-96E8897FAC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7867B-B4C0-43C3-BEC5-A5F20307838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2057400"/>
            <a:ext cx="6400800" cy="4572000"/>
          </a:xfrm>
          <a:prstGeom prst="rect">
            <a:avLst/>
          </a:prstGeom>
          <a:noFill/>
          <a:ln w="0">
            <a:noFill/>
          </a:ln>
        </p:spPr>
        <p:txBody>
          <a:bodyPr lIns="90000" rIns="90000" tIns="46800" bIns="46800" anchor="t">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EAST AFRICAN COMMUNITY</a:t>
            </a: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HARMONISATIN OF SOCIAL PROTECTION POLICIES AND PROGRAMMES IN THE EAST AFRICAN COMMUNITY</a:t>
            </a:r>
            <a:endParaRPr b="0" lang="en-US" sz="24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by</a:t>
            </a:r>
            <a:endParaRPr b="0" lang="en-US" sz="24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Mrs. Perpetue Miganda</a:t>
            </a: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Principal Gender and Community Development Officer</a:t>
            </a: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Nairobi, 10th March, 2011</a:t>
            </a: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AC Secretaria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 Box 1096</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rusha-Tanzania</a:t>
            </a:r>
            <a:endParaRPr b="0" lang="en-US" sz="1400" spc="-1" strike="noStrike">
              <a:solidFill>
                <a:srgbClr val="000000"/>
              </a:solidFill>
              <a:latin typeface="Arial"/>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42" name="Picture 2" descr="logo new EAC"/>
          <p:cNvPicPr/>
          <p:nvPr/>
        </p:nvPicPr>
        <p:blipFill>
          <a:blip r:embed="rId1"/>
          <a:stretch/>
        </p:blipFill>
        <p:spPr>
          <a:xfrm>
            <a:off x="3733920" y="304920"/>
            <a:ext cx="2227320" cy="2003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457200" y="990720"/>
            <a:ext cx="8229600" cy="452592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right of establishment and the right of residence for nationals of the Partner States therefore require measures to avoid any disadvantages in relation to social security which might otherwise arise from moving from one Partner State to another</a:t>
            </a:r>
            <a:endParaRPr b="0" lang="en-US" sz="3200" spc="-1" strike="noStrike">
              <a:solidFill>
                <a:srgbClr val="000000"/>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457200" y="533160"/>
            <a:ext cx="8229600" cy="55926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his regard, there is an annex on Social Security which is still being negotiated in order to harmonise the social security systems in Partner States and fully realize the free movement of persons and work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457200" y="685800"/>
            <a:ext cx="8229600" cy="54403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ollowing branches of social security are considered:</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dical car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ckness benefits;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ernity benefit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validity benefit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ld‑age benefit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rvivors’ benefit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nefits in respect of occupational injuries and diseases; or</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 other benefi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457200" y="609120"/>
            <a:ext cx="8229600" cy="5821560"/>
          </a:xfrm>
          <a:prstGeom prst="rect">
            <a:avLst/>
          </a:prstGeom>
          <a:noFill/>
          <a:ln w="0">
            <a:noFill/>
          </a:ln>
        </p:spPr>
        <p:txBody>
          <a:bodyPr lIns="90000" rIns="90000" tIns="46800" bIns="46800" anchor="t">
            <a:normAutofit/>
          </a:bodyPr>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3200" spc="-1" strike="noStrike">
                <a:solidFill>
                  <a:srgbClr val="000000"/>
                </a:solidFill>
                <a:latin typeface="Arial"/>
              </a:rPr>
              <a:t>EAC Gender and Community Development Framework</a:t>
            </a:r>
            <a:endParaRPr b="0" lang="en-US" sz="32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400" spc="-1" strike="noStrike">
                <a:solidFill>
                  <a:srgbClr val="000000"/>
                </a:solidFill>
                <a:latin typeface="Arial"/>
              </a:rPr>
              <a:t>The EAC Gender and Community Development was adopted by EAC in November 2006. It lays on the BPFA, the  Convention on the Elimination of All Forms of Discrimination (CEDAW) which was adopted in 1979 by the UN General Assembly, often described as an international bill of rights for  Women, commits member states to undertake a series of measures to end discrimination against women in all forms. </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 the area of community development, the international guiding instrument is the Copenhagen Declaration on Social Development which recognizes the significance of social development and human well-being for all. This Declaration commits Governments and States to undertake interventions that focus on poverty eradication, employment creation and social integr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457200"/>
            <a:ext cx="8229600" cy="960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orum of Ministers responsible for Social Development</a:t>
            </a:r>
            <a:endParaRPr b="0" lang="en-US" sz="40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uncil of Ministers established in 2007 a Forum of Ministers responsible for Social Development in order to “</a:t>
            </a:r>
            <a:r>
              <a:rPr b="1" lang="en-US" sz="2800" spc="-1" strike="noStrike">
                <a:solidFill>
                  <a:srgbClr val="000000"/>
                </a:solidFill>
                <a:latin typeface="Arial"/>
              </a:rPr>
              <a:t>provide a platform for East African Ministers of Social Development to share experience and to harmonize policies and approaches in management of cross-cutting social concerns, such as poverty eradication and overall management of Millennium Development Goals (MDG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457200" y="533160"/>
            <a:ext cx="8229600" cy="55926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ncept of Social Protection was first Clearly defined during the Forum of Ministers during its meeting held in Kigali in September 2008 and became one of the key priority areas of cooperation in Social Development, alongside </a:t>
            </a:r>
            <a:r>
              <a:rPr b="0" lang="en-GB" sz="3200" spc="-1" strike="noStrike">
                <a:solidFill>
                  <a:srgbClr val="000000"/>
                </a:solidFill>
                <a:latin typeface="Arial"/>
              </a:rPr>
              <a:t>Gender, youth, children and community development, the other priority areas being  Health and Social Services, Education, Science and Technology, Culture and Sports and, Environment and Natural Resources. </a:t>
            </a:r>
            <a:endParaRPr b="0" lang="en-US" sz="3200" spc="-1" strike="noStrike">
              <a:solidFill>
                <a:srgbClr val="000000"/>
              </a:solidFill>
              <a:latin typeface="Arial"/>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457200" y="762120"/>
            <a:ext cx="8229600" cy="53640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Ministers agreed, among others, on the promotion of social protection interventions targeting the poor and vulnerable groups; development of appropriate structures, policies and laws to improve youth participation; increased opportunities for vocational education and training; establishment of vulnerability indices; and capacity building for communiti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457200" y="762120"/>
            <a:ext cx="8229600" cy="5364000"/>
          </a:xfrm>
          <a:prstGeom prst="rect">
            <a:avLst/>
          </a:prstGeom>
          <a:noFill/>
          <a:ln w="0">
            <a:noFill/>
          </a:ln>
        </p:spPr>
        <p:txBody>
          <a:bodyPr lIns="90000" rIns="90000" tIns="46800" bIns="46800" anchor="t">
            <a:normAutofit/>
          </a:bodyPr>
          <a:p>
            <a:pPr marL="660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0" lang="en-GB" sz="2400" spc="-1" strike="noStrike">
                <a:solidFill>
                  <a:srgbClr val="000000"/>
                </a:solidFill>
                <a:latin typeface="Arial"/>
              </a:rPr>
              <a:t>The Forum of Ministers recommended to Council, through the relevant Sectoral Councils, to : </a:t>
            </a:r>
            <a:endParaRPr b="0" lang="en-US" sz="2400" spc="-1" strike="noStrike">
              <a:solidFill>
                <a:srgbClr val="000000"/>
              </a:solidFill>
              <a:latin typeface="Arial"/>
            </a:endParaRPr>
          </a:p>
          <a:p>
            <a:pPr marL="660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      “ </a:t>
            </a:r>
            <a:r>
              <a:rPr b="0" i="1" lang="en-GB" sz="2400" spc="-1" strike="noStrike">
                <a:solidFill>
                  <a:srgbClr val="000000"/>
                </a:solidFill>
                <a:latin typeface="Arial"/>
              </a:rPr>
              <a:t>approve the establishment of a Sectoral Council on Gender, Youth, Children, Social Protection and Community Development, considering that under the existing arrangement these important areas are not individually being adequately addressed; </a:t>
            </a:r>
            <a:endParaRPr b="0" lang="en-US" sz="2400" spc="-1" strike="noStrike">
              <a:solidFill>
                <a:srgbClr val="000000"/>
              </a:solidFill>
              <a:latin typeface="Arial"/>
            </a:endParaRPr>
          </a:p>
          <a:p>
            <a:pPr marL="660240" indent="-6602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require that social protection be fully harmonised and mainstreamed in all social development programmes of the EAC and Partner States; </a:t>
            </a:r>
            <a:endParaRPr b="0" lang="en-US" sz="2400" spc="-1" strike="noStrike">
              <a:solidFill>
                <a:srgbClr val="000000"/>
              </a:solidFill>
              <a:latin typeface="Arial"/>
            </a:endParaRPr>
          </a:p>
          <a:p>
            <a:pPr marL="660240" indent="-6602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require that social protection for the older persons and people with disabilities be included as part of the social development programmes of the EAC and Partner Stat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3200" spc="-1" strike="noStrike">
                <a:solidFill>
                  <a:srgbClr val="000000"/>
                </a:solidFill>
                <a:latin typeface="Arial"/>
              </a:rPr>
              <a:t>PROPOSED EAC SOCIAL DEVELOPMENT FRAMEWORK</a:t>
            </a:r>
            <a:endParaRPr b="0" lang="en-US" sz="32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uring their second meeting held in Bujumbura from 2th to 7</a:t>
            </a:r>
            <a:r>
              <a:rPr b="0" lang="en-US" sz="3200" spc="-1" strike="noStrike" baseline="30000">
                <a:solidFill>
                  <a:srgbClr val="000000"/>
                </a:solidFill>
                <a:latin typeface="Arial"/>
              </a:rPr>
              <a:t>th</a:t>
            </a:r>
            <a:r>
              <a:rPr b="0" lang="en-US" sz="3200" spc="-1" strike="noStrike">
                <a:solidFill>
                  <a:srgbClr val="000000"/>
                </a:solidFill>
                <a:latin typeface="Arial"/>
              </a:rPr>
              <a:t> October 2009, the Ministers responsible for Social Development agreed on key priority areas to compose the EAC Social Development Framework.</a:t>
            </a:r>
            <a:endParaRPr b="0" lang="en-US" sz="32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 Draft was developed in August 2010 which will be presented to the 3</a:t>
            </a:r>
            <a:r>
              <a:rPr b="0" lang="en-US" sz="3200" spc="-1" strike="noStrike" baseline="30000">
                <a:solidFill>
                  <a:srgbClr val="000000"/>
                </a:solidFill>
                <a:latin typeface="Arial"/>
              </a:rPr>
              <a:t>rd</a:t>
            </a:r>
            <a:r>
              <a:rPr b="0" lang="en-US" sz="3200" spc="-1" strike="noStrike">
                <a:solidFill>
                  <a:srgbClr val="000000"/>
                </a:solidFill>
                <a:latin typeface="Arial"/>
              </a:rPr>
              <a:t> Meeting of the FMS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rrent achievements </a:t>
            </a:r>
            <a:endParaRPr b="0" lang="en-US" sz="4400" spc="-1" strike="noStrike">
              <a:solidFill>
                <a:srgbClr val="000000"/>
              </a:solidFill>
              <a:latin typeface="Arial"/>
            </a:endParaRPr>
          </a:p>
        </p:txBody>
      </p:sp>
      <p:sp>
        <p:nvSpPr>
          <p:cNvPr id="6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tablishment of a Sectoral Council on Gender, Youth, Children, Social protection and Community Developmen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mprehensive Policy and Plan of Action on Food Security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rehensive Climate Change Policy; (</a:t>
            </a:r>
            <a:r>
              <a:rPr b="1" lang="en-US" sz="2400" spc="-1" strike="noStrike">
                <a:solidFill>
                  <a:srgbClr val="000000"/>
                </a:solidFill>
                <a:latin typeface="Arial"/>
              </a:rPr>
              <a:t>the two policies are under the auspices of Heads of States</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rehensive Regional Strategic Plan on HIV and Aid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roduction</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ast African Community is an Inter- governmental Organisation composed of the Republics of Burundi, Kenya, Rwanda, the United Republic of Tanzania and Uganda.</a:t>
            </a:r>
            <a:endParaRPr b="0" lang="en-US" sz="2800" spc="-1" strike="noStrike">
              <a:solidFill>
                <a:srgbClr val="000000"/>
              </a:solidFill>
              <a:latin typeface="Arial"/>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reaty for the Establishment of the East African Community was signed in November 1999 by the Heads of State of Kenya, Tanzania and Uganda. Burundi and Rwanda joined the Community in July 2007.</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457200" y="837720"/>
            <a:ext cx="8229600" cy="528804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rehensive Draft Strategic Plan on Social Protection with the following targets:</a:t>
            </a:r>
            <a:endParaRPr b="0" lang="en-US" sz="3200" spc="-1" strike="noStrike">
              <a:solidFill>
                <a:srgbClr val="000000"/>
              </a:solidFill>
              <a:latin typeface="Arial"/>
            </a:endParaRPr>
          </a:p>
          <a:p>
            <a:pPr marL="343080" indent="-343080" algn="just">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appropriate Social protection  Policy and legal framework by 2012;</a:t>
            </a:r>
            <a:endParaRPr b="0" lang="en-US" sz="3200" spc="-1" strike="noStrike">
              <a:solidFill>
                <a:srgbClr val="000000"/>
              </a:solidFill>
              <a:latin typeface="Arial"/>
            </a:endParaRPr>
          </a:p>
          <a:p>
            <a:pPr marL="343080" indent="-343080" algn="just">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cio- Economic transformation by 2015;</a:t>
            </a:r>
            <a:endParaRPr b="0" lang="en-US" sz="3200" spc="-1" strike="noStrike">
              <a:solidFill>
                <a:srgbClr val="000000"/>
              </a:solidFill>
              <a:latin typeface="Arial"/>
            </a:endParaRPr>
          </a:p>
          <a:p>
            <a:pPr marL="343080" indent="-343080" algn="just">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cial Protection mainstreamed into Macro sector policies and programmes by 2012</a:t>
            </a:r>
            <a:endParaRPr b="0" lang="en-US" sz="3200" spc="-1" strike="noStrike">
              <a:solidFill>
                <a:srgbClr val="000000"/>
              </a:solidFill>
              <a:latin typeface="Arial"/>
            </a:endParaRPr>
          </a:p>
          <a:p>
            <a:pPr marL="343080" indent="-343080" algn="just">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and Information available by 2012</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p:nvPr>
        </p:nvSpPr>
        <p:spPr>
          <a:xfrm>
            <a:off x="457200" y="685800"/>
            <a:ext cx="8229600" cy="544032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1" lang="en-US" sz="3600" spc="-1" strike="noStrike">
                <a:solidFill>
                  <a:srgbClr val="000000"/>
                </a:solidFill>
                <a:latin typeface="Arial"/>
              </a:rPr>
              <a:t>Challenges</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endency to limit Social Protection in the context of the Common Market Protocol;</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ustainability of the EAC Forum for Ministers responsible for Social Development; </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y policies waiting for approval: e.g. Draft EAC Social Development Framework;</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457200" y="914400"/>
            <a:ext cx="8229600" cy="4906800"/>
          </a:xfrm>
          <a:prstGeom prst="rect">
            <a:avLst/>
          </a:prstGeom>
          <a:noFill/>
          <a:ln w="0">
            <a:noFill/>
          </a:ln>
        </p:spPr>
        <p:txBody>
          <a:bodyPr lIns="90000" rIns="90000" tIns="46800" bIns="46800"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aft Youth Policy;</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aft Policy on Persons with Disability; and</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aft Strategic Plan with 5 Components:</a:t>
            </a:r>
            <a:endParaRPr b="0" lang="en-US" sz="3200" spc="-1" strike="noStrike">
              <a:solidFill>
                <a:srgbClr val="000000"/>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Gender</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th;</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ildren;</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cial Protection ; </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d Community Develop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457200" y="914040"/>
            <a:ext cx="8229600" cy="52117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Thank you</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Key Pillars of regional integration </a:t>
            </a:r>
            <a:endParaRPr b="0" lang="en-US" sz="40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gn="just">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Customs Union</a:t>
            </a:r>
            <a:r>
              <a:rPr b="1" lang="en-US" sz="2400" spc="-1" strike="noStrike">
                <a:solidFill>
                  <a:srgbClr val="000000"/>
                </a:solidFill>
                <a:latin typeface="Arial"/>
              </a:rPr>
              <a:t> - </a:t>
            </a:r>
            <a:r>
              <a:rPr b="0" lang="en-GB" sz="2400" spc="-1" strike="noStrike">
                <a:solidFill>
                  <a:srgbClr val="000000"/>
                </a:solidFill>
                <a:latin typeface="Arial"/>
              </a:rPr>
              <a:t>Joint administration of a Common External Tariff (CET) and elimination of all non-tariff barriers to cross-border trade (commenced on 1</a:t>
            </a:r>
            <a:r>
              <a:rPr b="0" lang="en-GB" sz="2400" spc="-1" strike="noStrike" baseline="30000">
                <a:solidFill>
                  <a:srgbClr val="000000"/>
                </a:solidFill>
                <a:latin typeface="Arial"/>
              </a:rPr>
              <a:t>st</a:t>
            </a:r>
            <a:r>
              <a:rPr b="0" lang="en-GB" sz="2400" spc="-1" strike="noStrike">
                <a:solidFill>
                  <a:srgbClr val="000000"/>
                </a:solidFill>
                <a:latin typeface="Arial"/>
              </a:rPr>
              <a:t> January 2005 and currently fully fledged). </a:t>
            </a:r>
            <a:endParaRPr b="0" lang="en-US" sz="2400" spc="-1" strike="noStrike">
              <a:solidFill>
                <a:srgbClr val="000000"/>
              </a:solidFill>
              <a:latin typeface="Arial"/>
            </a:endParaRPr>
          </a:p>
          <a:p>
            <a:pPr marL="609480" indent="-609480" algn="just">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Common Market</a:t>
            </a:r>
            <a:r>
              <a:rPr b="1" lang="en-US" sz="2400" spc="-1" strike="noStrike">
                <a:solidFill>
                  <a:srgbClr val="000000"/>
                </a:solidFill>
                <a:latin typeface="Arial"/>
              </a:rPr>
              <a:t> - </a:t>
            </a:r>
            <a:r>
              <a:rPr b="0" lang="en-GB" sz="2400" spc="-1" strike="noStrike">
                <a:solidFill>
                  <a:srgbClr val="000000"/>
                </a:solidFill>
                <a:latin typeface="Arial"/>
              </a:rPr>
              <a:t>Free movement of goods and services and all factors of production. The Common Market Protocol was signed by EAC Heads of State in November 2009</a:t>
            </a:r>
            <a:r>
              <a:rPr b="0" lang="en-US" sz="2400" spc="-1" strike="noStrike">
                <a:solidFill>
                  <a:srgbClr val="000000"/>
                </a:solidFill>
                <a:latin typeface="Arial"/>
              </a:rPr>
              <a:t>).</a:t>
            </a:r>
            <a:endParaRPr b="0" lang="en-US" sz="2400" spc="-1" strike="noStrike">
              <a:solidFill>
                <a:srgbClr val="000000"/>
              </a:solidFill>
              <a:latin typeface="Arial"/>
            </a:endParaRPr>
          </a:p>
          <a:p>
            <a:pPr marL="609480" indent="-609480" algn="just">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Monetary Union</a:t>
            </a:r>
            <a:r>
              <a:rPr b="1" lang="en-US" sz="2400" spc="-1" strike="noStrike">
                <a:solidFill>
                  <a:srgbClr val="000000"/>
                </a:solidFill>
                <a:latin typeface="Arial"/>
              </a:rPr>
              <a:t> - </a:t>
            </a:r>
            <a:r>
              <a:rPr b="0" lang="en-GB" sz="2400" spc="-1" strike="noStrike">
                <a:solidFill>
                  <a:srgbClr val="000000"/>
                </a:solidFill>
                <a:latin typeface="Arial"/>
              </a:rPr>
              <a:t>Establishment of a single currency area : the Task Force in charge of Monetary Union negotiations has started its meetings.</a:t>
            </a:r>
            <a:endParaRPr b="0" lang="en-US" sz="2400" spc="-1" strike="noStrike">
              <a:solidFill>
                <a:srgbClr val="000000"/>
              </a:solidFill>
              <a:latin typeface="Arial"/>
            </a:endParaRPr>
          </a:p>
          <a:p>
            <a:pPr marL="609480" indent="-609480" algn="just">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Arial"/>
              </a:rPr>
              <a:t>P</a:t>
            </a:r>
            <a:r>
              <a:rPr b="1" lang="en-US" sz="2400" spc="-1" strike="noStrike" u="sng">
                <a:solidFill>
                  <a:srgbClr val="000000"/>
                </a:solidFill>
                <a:uFillTx/>
                <a:latin typeface="Arial"/>
              </a:rPr>
              <a:t>olitical Federation</a:t>
            </a:r>
            <a:r>
              <a:rPr b="1" lang="en-US" sz="2400" spc="-1" strike="noStrike">
                <a:solidFill>
                  <a:srgbClr val="000000"/>
                </a:solidFill>
                <a:latin typeface="Arial"/>
              </a:rPr>
              <a:t> - </a:t>
            </a:r>
            <a:r>
              <a:rPr b="0" lang="en-GB" sz="2400" spc="-1" strike="noStrike">
                <a:solidFill>
                  <a:srgbClr val="000000"/>
                </a:solidFill>
                <a:latin typeface="Arial"/>
              </a:rPr>
              <a:t>This is the last stage of the regional integration process. </a:t>
            </a:r>
            <a:endParaRPr b="0" lang="en-US" sz="2400" spc="-1" strike="noStrike">
              <a:solidFill>
                <a:srgbClr val="000000"/>
              </a:solidFill>
              <a:latin typeface="Arial"/>
            </a:endParaRPr>
          </a:p>
          <a:p>
            <a:pPr marL="6094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533520" y="0"/>
            <a:ext cx="8229600" cy="1249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Arial"/>
              </a:rPr>
              <a:t>Legal Framework for Social Protection in EAC</a:t>
            </a:r>
            <a:endParaRPr b="0" lang="en-US" sz="40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t. 7 of the EAC Treaty spells out principles that shall govern the practical achievement of the objectives of the Community which include people-centered and market-driven co-operation. </a:t>
            </a:r>
            <a:endParaRPr b="0" lang="en-US" sz="2800" spc="-1" strike="noStrike">
              <a:solidFill>
                <a:srgbClr val="000000"/>
              </a:solidFill>
              <a:latin typeface="Arial"/>
            </a:endParaRPr>
          </a:p>
          <a:p>
            <a:pPr marL="339480" indent="-3394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artner States undertake to abide by the principles of good governance, including adherence to the principles of democracy, the rule of law, social justice and the maintenance of universally accepted standards of human righ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457200" y="1143000"/>
            <a:ext cx="8229600" cy="498312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ticle 120 related to Social Welfare provides for the development and adoption of a common approach towards the disadvantaged and marginalized groups, including children, the youth, the elderly and persons with disabilities through education and training.</a:t>
            </a:r>
            <a:endParaRPr b="0" lang="en-US" sz="3200" spc="-1" strike="noStrike">
              <a:solidFill>
                <a:srgbClr val="000000"/>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304920" y="456840"/>
            <a:ext cx="8229600" cy="55926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mmon Market Protocol signed in November 2009, in its Article 39, outlines the harmonization of Social Policies where the Partner States undertake to coordinate and harmonise their social policies to promote and protect decent work and improve the living conditions of the citizens of the Partner States for the development of the Common Market. </a:t>
            </a:r>
            <a:endParaRPr b="0" lang="en-US" sz="3200" spc="-1" strike="noStrike">
              <a:solidFill>
                <a:srgbClr val="000000"/>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457200" y="380520"/>
            <a:ext cx="8229600" cy="57452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artner States shall coordinate and harmonise their social policies relating to: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od governance, the rule of law and social justic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motion and protection of human and peoples’ right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motion of equal opportunities and gender equality;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457200" y="533160"/>
            <a:ext cx="8229600" cy="5592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motion and protection of the rights of marginalised and vulnerable group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motion of African moral values, social values and ethics; and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motion of unity and cohesion among the people in the Community.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762120"/>
            <a:ext cx="822960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cial Protection in the Context of the Common Market</a:t>
            </a:r>
            <a:endParaRPr b="0" lang="en-US" sz="40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Common Market allow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ee movement of goo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ee movement of pers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ee movement of labou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ght of establishmen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ght of residence; an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ee movement of servic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0T16:10:10Z</dcterms:created>
  <dc:creator>PMiganda</dc:creator>
  <dc:description/>
  <dc:language>en-US</dc:language>
  <cp:lastModifiedBy>PMiganda</cp:lastModifiedBy>
  <dcterms:modified xsi:type="dcterms:W3CDTF">2011-03-10T12:13:00Z</dcterms:modified>
  <cp:revision>18</cp:revision>
  <dc:subject/>
  <dc:title>Slide 1</dc:title>
</cp:coreProperties>
</file>