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FBF3-5F83-421F-98E6-7DA0A79BCA5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1F5B-8C7D-4561-AEBE-D892E9A1F2D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473E-0696-4B4E-9DBD-9B7A38B3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604A-0940-414D-B8BC-796EE24D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2153-D5E9-4C72-A653-6DE9B4F56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188B-E456-4B79-AB67-9994FDBF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E343-04CA-4E83-A69F-8C50C5F5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3F89-0E7B-432B-B1DB-2CBC620A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7E8D-6B10-465F-990A-20CE7C2B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055A-1120-4419-B5F9-61E70A81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F340-01FC-4BA2-97D1-DFA29CF6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5797-2724-4252-866B-C2BD538E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9700-C8B7-419F-A7CF-49CFB4FB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EE15-DA2A-425E-A3F5-2CDB90A8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519A-5C57-4E39-95BF-329147136CB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CSOs’ Experiences in Social Prot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AUC/AU Worksh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Pan Afric Hotel, Nairob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10-11  March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Tavengwa M Nhon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Africa Platform for Social Prot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757224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AP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Africa Platform for Social Protection (APSP) was established by a group of national and regional organisations from across the African continent as a response to the growing demand for “voice” and more active engagement of African civil society in the shaping of Social Protection policies, programmes, and practices in Africa. It is a network of individuals and organizations operating at national and regional levels, with a commitment to promoting and strengthening the social contract between states and citize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xperiences of CSO’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fining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grassroots grou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organised groups and registered locally or national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big national/regional organis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large international NGO’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presentation looks at 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O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made huge contributions to raising awareness on Social Prot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efforts to generate evidence through pilots, reviews,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training/capacity building of those in government and the NGO’s (e.g. EPRI cour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funded and supported programmes on S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t Franchophone West Africa has not had the same level of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SO’s – national level and grassroots organis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remained out of the wider action on Social Pro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not managed to push the demand for SP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not engaged with the policy  dialogue at the local and national government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alue the contributions of the CSO’s and involve them (donors, govts, UN, AU, RECS, e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and along governments since their ownership of programmes will ensure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collaborate -not compete/duplicate eff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smaller organisations as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grassroots organisations to increase demand of SP from the bott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clude Franchophone Africa in the 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vernment action and buy in                     S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  <p:sp>
        <p:nvSpPr>
          <p:cNvPr id="69" name="Down Arrow 4"/>
          <p:cNvSpPr/>
          <p:nvPr/>
        </p:nvSpPr>
        <p:spPr>
          <a:xfrm>
            <a:off x="7286760" y="207180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Up Arrow 6"/>
          <p:cNvSpPr/>
          <p:nvPr/>
        </p:nvSpPr>
        <p:spPr>
          <a:xfrm>
            <a:off x="7358040" y="4286160"/>
            <a:ext cx="484200" cy="978120"/>
          </a:xfrm>
          <a:prstGeom prst="upArrow">
            <a:avLst>
              <a:gd name="adj1" fmla="val 50000"/>
              <a:gd name="adj2" fmla="val 500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7"/>
          <p:cNvSpPr/>
          <p:nvPr/>
        </p:nvSpPr>
        <p:spPr>
          <a:xfrm>
            <a:off x="6500880" y="3429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8:44:29Z</dcterms:created>
  <dc:creator>user</dc:creator>
  <dc:description/>
  <dc:language>en-US</dc:language>
  <cp:lastModifiedBy>tnhongo</cp:lastModifiedBy>
  <dcterms:modified xsi:type="dcterms:W3CDTF">2011-03-09T18:16:16Z</dcterms:modified>
  <cp:revision>51</cp:revision>
  <dc:subject/>
  <dc:title>KENYA PLATFORM ON SOCIAL PROTECTION  STRATEGIC PLAN WORKSHOP 25TH -26TH JANUARY 2011  PANAFRIC HOTEL, NAIROBI.</dc:title>
</cp:coreProperties>
</file>