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6360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6360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A4358-3093-4F7C-BDEE-D0CA39B7234D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AC3A7-D8FC-4F74-9AA0-439B1E2CD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383EF-8FC9-462E-A964-FD34EB6C4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EAFA2-3FB0-4763-9A2C-F34CDC35D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4AB30-29D9-49E2-AB3B-39E48A78C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1BA75-DDD2-4242-801D-D931414A7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D4CF6-3242-4B88-8C0A-CDE6FD9DF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B474A-D711-4F54-823A-2A9F1839C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AE10E-43E4-4B6F-A688-DE710B5F4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3510C-D4A6-4FE8-8A5B-21352406F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A2FA6-A120-436D-8D03-DB09FC19B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493D0-BE23-49E4-92B0-D0E68B66F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A85A1-98AC-4AAB-9E56-105F1B99F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5C09B-5F0A-439F-9266-CB1E6B834EC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c000"/>
                </a:solidFill>
                <a:latin typeface="Arial"/>
              </a:rPr>
              <a:t>Delegation of the European Union to Alge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c000"/>
                </a:solidFill>
                <a:latin typeface="Arial"/>
              </a:rPr>
              <a:t>Economic s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ntroducing Sector Budget Support on Sanitation in Algeria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Key challeng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ENPI REGIONAL WATER SEMINAR 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AMMAN 21-24 MAR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" descr=""/>
          <p:cNvPicPr/>
          <p:nvPr/>
        </p:nvPicPr>
        <p:blipFill>
          <a:blip r:embed="rId1"/>
          <a:stretch/>
        </p:blipFill>
        <p:spPr>
          <a:xfrm>
            <a:off x="7821720" y="0"/>
            <a:ext cx="1328760" cy="9334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289160" cy="7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fr-FR" sz="3600" spc="-1" strike="noStrike">
                <a:solidFill>
                  <a:srgbClr val="ffc000"/>
                </a:solidFill>
                <a:latin typeface="Arial"/>
              </a:rPr>
              <a:t>Temporary results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Better ownership and involvment through the national system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Establishing a common platform for a policy dialogue between the line ministr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A better understanding of the financing modality (SBS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Strategic discussion from operational to policy level (Cabinet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Understanding the rationale behind a logical framework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Positive side effects on PFM with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-Succesful PEFA with participative approach and acceptation by the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MoF of the weakness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-A new EC programme (€ 5 mln) on a strategic reform of budget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system (minister level), crucial because public expenditure is the main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source of growth in Alge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Arial"/>
              </a:rPr>
              <a:t>…</a:t>
            </a:r>
            <a:r>
              <a:rPr b="0" lang="fr-FR" sz="2400" spc="-1" strike="noStrike">
                <a:solidFill>
                  <a:srgbClr val="ff0000"/>
                </a:solidFill>
                <a:latin typeface="Arial"/>
              </a:rPr>
              <a:t>..those results before disbursing the first tranch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cc00"/>
                </a:solidFill>
                <a:latin typeface="Arial"/>
              </a:rPr>
              <a:t>Lessons lear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17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SBS plays the role of cataly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Stimulates policy dialogue: EC/Algerian partner and between line ministr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pens new opportunities on PFM re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Better ownership and effectiveness using national system (State budg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ot to be dogmatic but sector specif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Money is not the issue… but the strategic vision, level of dialogue and quality of spe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4"/>
          <p:cNvSpPr/>
          <p:nvPr/>
        </p:nvSpPr>
        <p:spPr>
          <a:xfrm>
            <a:off x="324000" y="404640"/>
            <a:ext cx="83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cc00"/>
                </a:solidFill>
                <a:latin typeface="Arial"/>
              </a:rPr>
              <a:t>Context in Alge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7"/>
          <p:cNvSpPr/>
          <p:nvPr/>
        </p:nvSpPr>
        <p:spPr>
          <a:xfrm>
            <a:off x="395280" y="1258920"/>
            <a:ext cx="8209080" cy="62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Relative macroeconomic stability, huge reserve funds, repayment of external deb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Economy based on hydrocarb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Very dependant of external shock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Closed economy (large state sector, including financial sector), limited impact of the financial crisis, move towards protectionist policies (Complementary financial law 2009-2010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Algeria has massive investment plan: USD 286 bn for the next 5 year Pla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Public expenditures as the main source of growth</a:t>
            </a: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with marginal role for the private sector</a:t>
            </a: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Focus on investment, no incentive for refor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Arial"/>
              </a:rPr>
              <a:t>Unusual context to promote budgetary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c000"/>
                </a:solidFill>
                <a:latin typeface="Arial"/>
              </a:rPr>
              <a:t>Problems with EU coope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34160" indent="-434160">
              <a:spcBef>
                <a:spcPts val="55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Algeria not part of EC Neighbourhood Policy, but using Neighbourhood instru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spcBef>
                <a:spcPts val="55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Key policy context is the Association Agreement (signed in 2005), very controversial, institutional set-up exists (sub-committe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spcBef>
                <a:spcPts val="55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Development cooperation with EU covering all sectors, smaller amount than with Morocco and Tunisia (about 54 mio per year), instruments limited to technical assistance (twinning started in 200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spcBef>
                <a:spcPts val="55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Limited absorption capacity leading to recoveries of old programmes, important cuts decided in the 2008 and 2009 programming (about 50 mio euro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spcBef>
                <a:spcPts val="55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Political stability: no real revolution expected until date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c000"/>
                </a:solidFill>
                <a:latin typeface="Arial"/>
              </a:rPr>
              <a:t>Challenges to implement the first S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Sector budget support in a wealthy country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= limited financial leverage on Algeria (20 mio for 286 bn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= critcism of some Member Sta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Commission is the only donor pushing for budget support, others not present or without experie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Complexity of involving different ministries (Foreign Affairs, Finance, Water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Ministry of Foreign Affairs is favorable but for the wrong reas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Lack of understanding by Water ministry of the full contents and implications of sector budget sup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0000"/>
                </a:solidFill>
                <a:latin typeface="Arial"/>
              </a:rPr>
              <a:t>Not an easy start…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cc00"/>
                </a:solidFill>
                <a:latin typeface="Arial"/>
              </a:rPr>
              <a:t>Why a SBS in Algeria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Limited absorption capacity for TA and important decommi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Problem of coordination: need for a common platform between line ministries (MRE, National Office on Sanitation, MoF, MAE, etc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Why Algeria is the lone partner not benefitting from this financial modality (Marocco, Tunisia, Egypt, etc.)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Improve ownership and deliver aid through national system (Aid effectivenes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Upgrade policy dialogue at a higher decision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Eligible criteria are met in this particular sector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but is not systematic/dogmatic (Cf Transport II: sector not mature for SB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ff0000"/>
                </a:solidFill>
                <a:latin typeface="Arial"/>
              </a:rPr>
              <a:t>Money is not the problem …but the strategic vision and quality of spen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c000"/>
                </a:solidFill>
                <a:latin typeface="Arial"/>
              </a:rPr>
              <a:t>Challenges in the WS sect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Weak links between the ministries (Water and Finan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o economic (cost/benefit analysis) approach in the se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Difficulties to evaluate and perform state programme on costly invest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Sustainability of budget resources to cover the sanitation office (ON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Weak management of Human Resources and level of training for the executive and middle management on sani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Limited management and planning tools to organize the se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o participation of users, or consum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cc00"/>
                </a:solidFill>
                <a:latin typeface="Arial"/>
              </a:rPr>
              <a:t>Why a SBS on water and sanita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A key priority in the 5 years state pla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Continuity in the EC programming (EAU I = 20 mln Euro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Relatively good institutional capacity in the Ministry and in the National Sanitation Offi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Solid legal framework (Water law 2005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Sector strategy exists although scattered, incomplete and not well formalised (Plan National de l’Eau, Schema Directeur de l’Eau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Very few donors in the sect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Focus on investment but not on services and manage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Ministry of water resources pilot for sector MTEF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cc00"/>
                </a:solidFill>
                <a:latin typeface="Arial"/>
              </a:rPr>
              <a:t>Priorities of the SBS EAU I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Strenghten a strategic integrated approach on sanitation in the water sec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Focus on management and services (regulatory function) instead of inves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evelop management skills an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mplement mid term budget planning based on performance and transpar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mprove quality of water and impact on public heal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c000"/>
                </a:solidFill>
                <a:latin typeface="Arial"/>
              </a:rPr>
              <a:t>Hybrid SBS with TA (€30 mln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21428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769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200" spc="-1" strike="noStrike">
                <a:solidFill>
                  <a:srgbClr val="ff6600"/>
                </a:solidFill>
                <a:latin typeface="Arial"/>
              </a:rPr>
              <a:t>Budget sector support: €20 mill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200" spc="-1" strike="noStrike">
                <a:solidFill>
                  <a:srgbClr val="ffffff"/>
                </a:solidFill>
                <a:latin typeface="Arial"/>
              </a:rPr>
              <a:t>Validation of the national strategy and budget plann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200" spc="-1" strike="noStrike">
                <a:solidFill>
                  <a:srgbClr val="ffffff"/>
                </a:solidFill>
                <a:latin typeface="Arial"/>
              </a:rPr>
              <a:t>With indicators focused on qualitative changes in the sanitation sect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200" spc="-1" strike="noStrike">
                <a:solidFill>
                  <a:srgbClr val="ffffff"/>
                </a:solidFill>
                <a:latin typeface="Arial"/>
              </a:rPr>
              <a:t>Improved sanitation investments, including maintena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200" spc="-1" strike="noStrike">
                <a:solidFill>
                  <a:srgbClr val="ffffff"/>
                </a:solidFill>
                <a:latin typeface="Arial"/>
              </a:rPr>
              <a:t>Key public finance management issues in the water sector (cost recovery for the Sanitation Office, performance audit, MTEF, etc.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9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9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200" spc="-1" strike="noStrike">
                <a:solidFill>
                  <a:srgbClr val="ff6600"/>
                </a:solidFill>
                <a:latin typeface="Arial"/>
              </a:rPr>
              <a:t>Technical assistance: €10 mill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200" spc="-1" strike="noStrike">
                <a:solidFill>
                  <a:srgbClr val="ffffff"/>
                </a:solidFill>
                <a:latin typeface="Arial"/>
              </a:rPr>
              <a:t>Preparation of a strategic Sanitation Pla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200" spc="-1" strike="noStrike">
                <a:solidFill>
                  <a:srgbClr val="ffffff"/>
                </a:solidFill>
                <a:latin typeface="Arial"/>
              </a:rPr>
              <a:t>Technical training center for sanitation (national training center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200" spc="-1" strike="noStrike">
                <a:solidFill>
                  <a:srgbClr val="ffffff"/>
                </a:solidFill>
                <a:latin typeface="Arial"/>
              </a:rPr>
              <a:t>Specialised equipment for laboratories (Quality of water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2T08:48:46Z</dcterms:created>
  <dc:creator>elstane</dc:creator>
  <dc:description/>
  <dc:language>en-US</dc:language>
  <cp:lastModifiedBy>philippe</cp:lastModifiedBy>
  <dcterms:modified xsi:type="dcterms:W3CDTF">2011-03-21T12:01:02Z</dcterms:modified>
  <cp:revision>268</cp:revision>
  <dc:subject/>
  <dc:title>Diapositive 1</dc:title>
</cp:coreProperties>
</file>