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248-AC47-4EB1-909B-E742380D2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DE04-1D57-4DC9-AC08-20C590619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27CA-532C-45EA-A4C2-62FCBB9B9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61EB-DCF7-44AA-B663-C536421B2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A145-EDE4-4139-9659-78CF37C7B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36EC-3C73-400A-BBA1-D5993EA8E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18F9-E3CA-479D-8909-7688887FC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217D-EEE8-497B-B9C0-0935C5501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E509-E844-4EFA-A36C-747A7491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7250-4EE9-44AE-8329-30CEC2399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75F4-AF80-4532-B265-F714AD794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Al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Project area should include lower-income settlements where the non-served re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fford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Demand-driven services, Targeted subsi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stainabilit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stitutional, financial, operational environmental &amp;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ale-u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Build on local successful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wnership/Particip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: Dialogue with all stakeholders including local PS &amp; previously excluded vulnerabl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6BB6-C737-4DED-A91E-C3337A86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5B4C-1DA9-4CE5-BA8A-6797435F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E68D-6FFF-46F8-90D0-B1479661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184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25856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7928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184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42200"/>
            <a:ext cx="2364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580E-BE40-43F6-B9AD-F3216E98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E498-AA80-43CB-91E9-B74172CE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EBA2-71C6-4FE5-97C4-27F27102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87ED-A9E0-4AF8-B1C0-3B63A072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968E-D827-4818-A95D-F155B834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404640"/>
            <a:ext cx="7201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0079-E42F-42C3-8E63-68B02615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B480-1B77-4DE5-AA8F-2C9AA883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1640" y="374220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F48F-9905-4D85-91F0-80EB1AC3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1640" y="1258560"/>
            <a:ext cx="35827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742200"/>
            <a:ext cx="73422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8A3A-7960-4ED5-8A39-1D367497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5ca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564B-D2A3-4C29-9F6B-8A156C84D7BE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72400" y="6524640"/>
            <a:ext cx="990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E1EC-EDE8-4FB0-87CE-80F49858C1B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403280" y="6524640"/>
            <a:ext cx="6337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1920"/>
            <a:ext cx="856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3200" spc="-1" strike="noStrike">
                <a:solidFill>
                  <a:srgbClr val="015cab"/>
                </a:solidFill>
                <a:latin typeface="Arial"/>
              </a:rPr>
              <a:t>Water and Sanitation EC-EIB Seminar</a:t>
            </a:r>
            <a:br>
              <a:rPr sz="1800"/>
            </a:br>
            <a:br>
              <a:rPr sz="1800"/>
            </a:br>
            <a:r>
              <a:rPr b="1" i="1" lang="en-GB" sz="2400" spc="-1" strike="noStrike">
                <a:solidFill>
                  <a:srgbClr val="015cab"/>
                </a:solidFill>
                <a:latin typeface="Arial"/>
              </a:rPr>
              <a:t>Session 3: Sanitation “supply”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a12f0b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Malawi Peri-Urban Water and Sanitation Project -</a:t>
            </a:r>
            <a:br>
              <a:rPr sz="2800"/>
            </a:br>
            <a:r>
              <a:rPr b="1" i="1" lang="en-GB" sz="2800" spc="-1" strike="noStrike">
                <a:solidFill>
                  <a:srgbClr val="a12f0b"/>
                </a:solidFill>
                <a:latin typeface="Arial"/>
              </a:rPr>
              <a:t>Working with NGO’s to increase W&amp;S coverage </a:t>
            </a:r>
            <a:br>
              <a:rPr sz="2800"/>
            </a:br>
            <a:br>
              <a:rPr sz="2800"/>
            </a:br>
            <a:r>
              <a:rPr b="0" i="1" lang="en-GB" sz="2400" spc="-1" strike="noStrike">
                <a:solidFill>
                  <a:srgbClr val="015cab"/>
                </a:solidFill>
                <a:latin typeface="Arial"/>
              </a:rPr>
              <a:t>Brussels, 6 July 2010</a:t>
            </a: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63D9-B922-47F4-8337-C99F27A073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D54A-C4C6-4F6F-8B67-8AEE9C0BCE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6480" y="847800"/>
            <a:ext cx="9156960" cy="5162400"/>
            <a:chOff x="-6480" y="847800"/>
            <a:chExt cx="9156960" cy="5162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-6480" y="847800"/>
              <a:ext cx="9156960" cy="51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2768760"/>
              <a:ext cx="2633400" cy="14842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CEC2-F339-4C19-BBDB-6003C30899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0CA4A-38A9-4539-A489-504702E2A3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7880" cy="551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14840" cy="55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2A12-69A9-499F-9427-1768925087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541840" y="4248000"/>
            <a:ext cx="14781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L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5360" y="1722600"/>
            <a:ext cx="1476360" cy="6984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E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63840" y="2852640"/>
            <a:ext cx="2217960" cy="698760"/>
          </a:xfrm>
          <a:prstGeom prst="flowChartProcess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16080" y="4186080"/>
            <a:ext cx="1476360" cy="69876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ffff"/>
                </a:solidFill>
                <a:latin typeface="Tahoma"/>
              </a:rPr>
              <a:t>BW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5360" y="620640"/>
            <a:ext cx="1476360" cy="698400"/>
          </a:xfrm>
          <a:prstGeom prst="flowChartProcess">
            <a:avLst/>
          </a:prstGeom>
          <a:solidFill>
            <a:srgbClr val="015c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EU ACP 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2"/>
            <a:endCxn id="84" idx="0"/>
          </p:cNvCxnSpPr>
          <p:nvPr/>
        </p:nvCxnSpPr>
        <p:spPr>
          <a:xfrm>
            <a:off x="4473360" y="1318680"/>
            <a:ext cx="1080" cy="4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5" idx="2"/>
            <a:endCxn id="83" idx="0"/>
          </p:cNvCxnSpPr>
          <p:nvPr/>
        </p:nvCxnSpPr>
        <p:spPr>
          <a:xfrm flipH="1" rot="16200000">
            <a:off x="5029200" y="2995200"/>
            <a:ext cx="697320" cy="1808640"/>
          </a:xfrm>
          <a:prstGeom prst="bentConnector3">
            <a:avLst>
              <a:gd name="adj1" fmla="val 69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2"/>
            <a:endCxn id="86" idx="0"/>
          </p:cNvCxnSpPr>
          <p:nvPr/>
        </p:nvCxnSpPr>
        <p:spPr>
          <a:xfrm rot="5400000">
            <a:off x="3346200" y="3058920"/>
            <a:ext cx="635400" cy="1620000"/>
          </a:xfrm>
          <a:prstGeom prst="bentConnector3">
            <a:avLst>
              <a:gd name="adj1" fmla="val 76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64000" y="13413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tribu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5467320"/>
            <a:ext cx="147780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5" idx="0"/>
            <a:endCxn id="84" idx="2"/>
          </p:cNvCxnSpPr>
          <p:nvPr/>
        </p:nvCxnSpPr>
        <p:spPr>
          <a:xfrm flipV="1">
            <a:off x="4473360" y="2420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62640" y="2421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an/ grant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57336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On-lending agre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00068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rtnership 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2" idx="0"/>
            <a:endCxn id="83" idx="3"/>
          </p:cNvCxnSpPr>
          <p:nvPr/>
        </p:nvCxnSpPr>
        <p:spPr>
          <a:xfrm flipV="1" rot="16200000">
            <a:off x="7043400" y="4573080"/>
            <a:ext cx="870480" cy="91836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66560" y="5467320"/>
            <a:ext cx="1478160" cy="698400"/>
          </a:xfrm>
          <a:prstGeom prst="flowChartProcess">
            <a:avLst/>
          </a:prstGeom>
          <a:solidFill>
            <a:srgbClr val="071d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Water For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6" idx="1"/>
            <a:endCxn id="98" idx="0"/>
          </p:cNvCxnSpPr>
          <p:nvPr/>
        </p:nvCxnSpPr>
        <p:spPr>
          <a:xfrm flipV="1" rot="10800000">
            <a:off x="1205640" y="4535280"/>
            <a:ext cx="910440" cy="932400"/>
          </a:xfrm>
          <a:prstGeom prst="bentConnector2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989440" y="5467320"/>
            <a:ext cx="3159000" cy="698400"/>
          </a:xfrm>
          <a:prstGeom prst="flowChartProcess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Tahoma"/>
              </a:rPr>
              <a:t>Private Service Contr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6" idx="2"/>
            <a:endCxn id="100" idx="0"/>
          </p:cNvCxnSpPr>
          <p:nvPr/>
        </p:nvCxnSpPr>
        <p:spPr>
          <a:xfrm flipH="1" rot="16200000">
            <a:off x="3420360" y="4318560"/>
            <a:ext cx="583200" cy="1715040"/>
          </a:xfrm>
          <a:prstGeom prst="bentConnector3">
            <a:avLst>
              <a:gd name="adj1" fmla="val 55281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3" idx="2"/>
            <a:endCxn id="100" idx="0"/>
          </p:cNvCxnSpPr>
          <p:nvPr/>
        </p:nvCxnSpPr>
        <p:spPr>
          <a:xfrm rot="5400000">
            <a:off x="5164200" y="4350600"/>
            <a:ext cx="521280" cy="1713600"/>
          </a:xfrm>
          <a:prstGeom prst="bentConnector3">
            <a:avLst>
              <a:gd name="adj1" fmla="val 49965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056040" y="48736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rformance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39337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mplementation agre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25E2-E605-4D03-86B6-6A279AFEE7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caling up NGO’s service enabler role through projec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3422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kiosk sites in GIS system for PSP to construct 700 kio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t up associated WU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l out 70,000 latr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awareness building and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lab bui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private pit latrine emptying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lper; Ni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we have the NGO’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ongwe: WaterAid –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ntyre: -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6588000" y="2276640"/>
            <a:ext cx="2016360" cy="35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95E8-CDC0-4588-A894-A4BBF20A58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20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Procuring an NGO for Blantyre 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identified 3 potential NGO’s at outs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’s need local grass-root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CBO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they bid competitively (WaterAid no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to consul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playing fiel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00720" y="2276640"/>
            <a:ext cx="35701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50EE-55C1-4BE1-95BA-BF3EDDF591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stricted tender carried out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tender for Expression of Interest (E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expressions of interest from int’l &amp; lo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V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re-qualified bi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win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4P, on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gnature in 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Big help: </a:t>
            </a:r>
            <a:r>
              <a:rPr b="0" lang="fr-CH" sz="2400" spc="-1" strike="noStrike">
                <a:solidFill>
                  <a:srgbClr val="cc3300"/>
                </a:solidFill>
                <a:latin typeface="Arial"/>
              </a:rPr>
              <a:t>Transaction Advisory Services (Fichtner Consulting) to prepare tender documents, raise market awareness, manage proc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BC9B-FE1E-44FD-AA39-17109B1C6C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ome early conclusions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 can play a very important role in reaching the MDG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specially crucial on the sanitation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cluding NGO’s in the project structure simply adds mode parties and thus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f sanitation is out of Water Supplier’s remit, even more parties (city council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e walked a thin line to procure competitively, but market is thin: Would other bidders have done as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Winning bidder confirmed sanitation marketing approa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o complaints received from bidders other than tigh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4C0A-7D8E-4363-8275-27CCA24687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095B-898A-48FA-A130-05DC982D02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9280" y="1258560"/>
            <a:ext cx="7342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828720" y="-531720"/>
            <a:ext cx="10693440" cy="75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3141720"/>
            <a:ext cx="2016000" cy="649080"/>
          </a:xfrm>
          <a:prstGeom prst="wedgeRectCallout">
            <a:avLst>
              <a:gd name="adj1" fmla="val 57638"/>
              <a:gd name="adj2" fmla="val 85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0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2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797360"/>
            <a:ext cx="2016000" cy="649440"/>
          </a:xfrm>
          <a:prstGeom prst="wedgeRectCallout">
            <a:avLst>
              <a:gd name="adj1" fmla="val 79449"/>
              <a:gd name="adj2" fmla="val 556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15k inhab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% WS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73DBC-FAE0-4CBD-8D26-49A050E9E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ain Project Objectives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low income areas of the cities of Blantyre and Lilongwe by September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GO/CB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-hour water supply for 408,000 people in Blantyre who currently receive it intermit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competent and sustainable Wat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Sector Service Contractor with Performance 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14B9-BB55-43BB-9929-17E09BCDCA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Stakeholders and project budget?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258560"/>
            <a:ext cx="359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takeholders bef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longw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ntyre Wat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isatio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WD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PIU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, C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Income Area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y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800" y="1258560"/>
            <a:ext cx="3741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Budget in EURO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U grant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14.9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B lo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ter Boards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 1.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1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gible EUW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.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hich for LIA’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7.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4111-10A9-426A-A844-F87A8CE987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356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Most challenging task is the water and sanitation delivery in the LIA’s:</a:t>
            </a:r>
            <a:br>
              <a:rPr sz="2800"/>
            </a:b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drinking water to 723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35 Kio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sanitation to 468,000 addition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,000 VIP la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LI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land ten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payment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rine investment hu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0429-2001-4AB2-BDB4-41FD54429A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1466-75BA-4251-8A88-F075924F04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480" y="847800"/>
            <a:ext cx="91569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48F4-7749-4042-8B7B-64ACFC596C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5cab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633760" y="-9360"/>
            <a:ext cx="3643200" cy="64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ECA4-AB31-450F-B9D3-982A946133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5cab"/>
                </a:solidFill>
                <a:latin typeface="Arial"/>
              </a:rPr>
              <a:t>Replicating successful models: WaterAid</a:t>
            </a:r>
            <a:endParaRPr b="0" lang="en-US" sz="2800" spc="-1" strike="noStrike">
              <a:solidFill>
                <a:srgbClr val="015c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Aid (in partnership with LWB) demonstrated a succesful local kiosk management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ter User Association” built on a strong social/community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UA’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 up to 100 kio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customer interface for Water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UA’s: charge slightly increased fe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 kiosk operators &amp; WUA 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 prior de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osk design with “superstructure” against vandals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ccess has sensitised WaterBoards who now have special LIA unit to deal with WU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nitation marketing vs slab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ing small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ab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 latrine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92720" y="4554360"/>
            <a:ext cx="3384720" cy="19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homas van Gilst                  European Investment Ban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30B6-10CC-415C-8F17-69748CDC3B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09:30:31Z</dcterms:created>
  <dc:creator>CLIFFOR</dc:creator>
  <dc:description/>
  <dc:language>en-US</dc:language>
  <cp:lastModifiedBy>VANGILST</cp:lastModifiedBy>
  <dcterms:modified xsi:type="dcterms:W3CDTF">2010-07-05T19:49:59Z</dcterms:modified>
  <cp:revision>290</cp:revision>
  <dc:subject/>
  <dc:title>PowerPoint Presentation</dc:title>
</cp:coreProperties>
</file>