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678F6-C1D0-46D3-A328-4A7CF0195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E059-6808-48D3-8FA6-D435E804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5A356-D820-4A20-9410-C80DCDF26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B7289-BDB4-4E83-8859-353767E2C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CED36-92FD-4AD8-BAA4-951BD895CC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2B495-8145-4174-9897-48029B22EF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06EC3-5D34-4576-9947-6F7E5168A5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CE381-446E-487A-A61C-BBF9414DCD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5CD95-B667-4D6E-BD6F-4FF7B407CE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A0823-4E65-4DDA-8B58-A9EBAEC421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3C2E5-99C3-4FAD-BFFB-873E684093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AACD-8820-4F13-A0B7-FBE9BAC2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29049-A4E9-4F73-8FB3-E7B83C2F52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3A953-FA7A-41EF-A6BC-AB64264E21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AFA74-1F4B-4D37-AE4E-113AC06016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E4E59B-6003-4B54-9B32-F071BE8E0B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F6FD4C-FC98-4DD6-826B-DE1FA52859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96134-E336-438E-9832-D7FFDADD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2F8B-9A8B-4F81-B8D6-22617B747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86BC-12A0-402A-8855-92EA796A5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BF71F-2E3A-4015-B385-21151A4F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7CB6-03F2-40F0-AD23-A27227EF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9B5A-B11B-4233-8AD6-E6CDD6829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1F89-D9CC-4014-B365-B1775E4C7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EFB48632-4A5F-4F80-8AE7-A481EE13DA3E}" type="datetime11">
              <a:rPr b="0" lang="en-US" sz="1400" spc="-1" strike="noStrike">
                <a:solidFill>
                  <a:srgbClr val="ffffff"/>
                </a:solidFill>
                <a:latin typeface="Times New Roman"/>
              </a:rPr>
              <a:t>17:58:5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74D5-66B1-417D-96CB-0682F88FB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80A3-0306-4A05-849F-25A7D34BD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18924C39-37A0-405D-B724-7757FE519774}" type="datetime11">
              <a:rPr b="0" lang="en-US" sz="1400" spc="-1" strike="noStrike">
                <a:solidFill>
                  <a:srgbClr val="ffffff"/>
                </a:solidFill>
                <a:latin typeface="Times New Roman"/>
              </a:rPr>
              <a:t>17:58:59</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9DC336F-CFA7-4E46-9806-43C89E81F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0C0916C-99A0-4DB3-92DE-7B5194591C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4B1ED5A-5C32-4F27-B7E9-E7D0768EF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DE8ABE1-550E-4781-AF57-2C5151118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A2B82109-B5E6-417F-BBA4-D36754DDD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EAD8A2F-F0C1-4723-BF99-C8A8C6966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930DAAD-FC65-48C6-B3DD-AEDD83234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CA0274E-71A9-4E84-810B-2DD6FB543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9C01E910-6D78-4E18-97EE-100BC0881BE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BCB33CA-F4E1-4FC7-A470-D03D0D4E422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20BE6A6-1A78-45BD-A755-2F74592535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3667F09-81A9-4587-8E78-37041FF698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DE851B0-910B-4812-A2F6-597759E8F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1B09DF9-6312-4846-9984-4564731C5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EE4659D-6C2A-42FB-8AAF-4E98725525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11D2976-0C50-443F-9184-289A36760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E719A33-7039-490F-8CF6-B280B29E2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