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94D21-6E46-4229-868F-7FF761989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61C91-318B-44AB-90C7-06D01EA57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7EAA5-AECC-4B95-90EE-EFE894554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6B6B7-5E00-4E6A-B9A2-A15972509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96CAC7-E564-4DA4-BE2C-EBA00A2E02F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B12931-BECE-4256-8901-A88C163D7A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9C84E7-A360-4E2E-90AB-A4AD573F621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587AB0-C5EF-4ABA-9246-57297E5FCA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5DD0F8-FD74-49FA-87BA-6EF63E53B8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83D56C-5621-4EF8-9077-7368936750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394147-133A-41E5-A027-D752B74E51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0C0EA-E1FD-4D59-9D9C-529D12770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BE1AE-B7DE-4CA1-AAFC-984CAB7EE4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67F57D-2C85-4087-876C-328BB03E16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13267-FB1B-4ED3-B9BC-7051018018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7D720A-00FB-453F-9A49-EA06C8B9306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42AFA7-8576-42C4-B8A3-59947552CA9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AFF0F-B077-4664-B22C-BFFA7943D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10875-73DD-4F42-AAE3-69A9495C9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2175E-9453-4134-AD5F-F642843FF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AD794-C98C-4614-BB19-22A3E4261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51524-F8F8-4DED-8F60-3F50A1476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87E2-9BF3-4402-AEA7-B88923BB2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889D5-DBA6-4B53-A539-E80357192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9D1B2A86-AC02-44C8-82D7-222D8AB7E977}" type="datetime11">
              <a:rPr b="0" lang="en-US" sz="1400" spc="-1" strike="noStrike">
                <a:solidFill>
                  <a:srgbClr val="ffffff"/>
                </a:solidFill>
                <a:latin typeface="Times New Roman"/>
              </a:rPr>
              <a:t>17:58:5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82FF-11A9-4466-87C2-BFD6FDF7AA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4F9B-D27F-4561-ADAF-98620432DD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1410654C-67F7-4A79-B5E4-1292FAA81E81}" type="datetime11">
              <a:rPr b="0" lang="en-US" sz="1400" spc="-1" strike="noStrike">
                <a:solidFill>
                  <a:srgbClr val="ffffff"/>
                </a:solidFill>
                <a:latin typeface="Times New Roman"/>
              </a:rPr>
              <a:t>17:58:58</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329C45D-9543-4F6C-9769-B32CBD1B5D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C288E2B-1CB0-4C4A-B4EE-15F14EFDF6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0A29CDD-C3C6-4074-949F-7D28654469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CAE8789-BD1F-413F-BA30-BC2B7F528A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B4F39330-17C8-4514-B4B4-AEBB2C0C43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171B416-769D-4732-964A-848758AC07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C357F83-1580-4FCC-B955-4FC1BD10D0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656141A-30F3-4EE2-9BF2-D30A9EDF84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13FEAA0F-D0E9-42AF-8394-5E64D486674D}"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A264956-F837-4399-9B31-D4F1AE1387B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564AD45-8304-4BC5-9DB9-25EE3C82B3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CA04DAB-5F65-4CC7-8AE5-6E386FF5AD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5A25A50-52CE-4C5E-9689-F3A0A5BBB7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465EBE7-25E4-46E5-A01B-F783F92459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B8F836F-0732-4920-9282-8D3B0D96D7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CCC6927-9DA0-4E8C-BDA1-E698D5338D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949C137-96B2-4A24-A781-7E0F70144C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