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8778-9B77-410A-A26C-1B535F823BB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9236-746E-4057-BDB4-3EC09E0699D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6E27-7ACA-445C-9EDF-2B13E8BD25CB}" type="datetime">
              <a:rPr b="0" lang="en-US" sz="1200" spc="-1" strike="noStrike">
                <a:solidFill>
                  <a:srgbClr val="ffffff"/>
                </a:solidFill>
                <a:latin typeface="Verdana"/>
              </a:rPr>
              <a:t>07/29/26</a:t>
            </a:fld>
            <a:r>
              <a:rPr b="0" lang="en-US" sz="1200" spc="-1" strike="noStrike">
                <a:solidFill>
                  <a:srgbClr val="ffffff"/>
                </a:solidFill>
                <a:latin typeface="Verdana"/>
              </a:rPr>
              <a:t> </a:t>
            </a:r>
            <a:fld id="{B7BC73D3-2F65-4074-B0DC-B86F0B5B255D}"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875C-4B22-4C94-A5B1-25A3893AEF7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A79C-33E2-43AF-A147-3A601EDADE7E}" type="datetime">
              <a:rPr b="0" lang="en-US" sz="1200" spc="-1" strike="noStrike">
                <a:solidFill>
                  <a:srgbClr val="ffffff"/>
                </a:solidFill>
                <a:latin typeface="Verdana"/>
              </a:rPr>
              <a:t>07/29/26</a:t>
            </a:fld>
            <a:r>
              <a:rPr b="0" lang="en-US" sz="1200" spc="-1" strike="noStrike">
                <a:solidFill>
                  <a:srgbClr val="ffffff"/>
                </a:solidFill>
                <a:latin typeface="Verdana"/>
              </a:rPr>
              <a:t> </a:t>
            </a:r>
            <a:fld id="{3D02F079-2289-4CC2-B33E-20DC2D9F0F66}"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BDDE-4F4F-4F86-A29C-412C2A4CB29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C4D6-3033-45BF-BCBD-95261EEEDF3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BF86-85C6-4B53-831D-FF7B222CE073}" type="datetime">
              <a:rPr b="0" lang="en-US" sz="1200" spc="-1" strike="noStrike">
                <a:solidFill>
                  <a:srgbClr val="ffffff"/>
                </a:solidFill>
                <a:latin typeface="Verdana"/>
              </a:rPr>
              <a:t>07/29/26</a:t>
            </a:fld>
            <a:r>
              <a:rPr b="0" lang="en-US" sz="1200" spc="-1" strike="noStrike">
                <a:solidFill>
                  <a:srgbClr val="ffffff"/>
                </a:solidFill>
                <a:latin typeface="Verdana"/>
              </a:rPr>
              <a:t> </a:t>
            </a:r>
            <a:fld id="{46B89588-C66B-4C66-AAB8-715922AC6F1E}"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4CFE-DF46-404F-BE71-8A14ED2F058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F1DE-7AAC-4DBA-90FF-CD38D66C44C7}" type="datetime">
              <a:rPr b="0" lang="en-US" sz="1200" spc="-1" strike="noStrike">
                <a:solidFill>
                  <a:srgbClr val="ffffff"/>
                </a:solidFill>
                <a:latin typeface="Verdana"/>
              </a:rPr>
              <a:t>07/29/26</a:t>
            </a:fld>
            <a:r>
              <a:rPr b="0" lang="en-US" sz="1200" spc="-1" strike="noStrike">
                <a:solidFill>
                  <a:srgbClr val="ffffff"/>
                </a:solidFill>
                <a:latin typeface="Verdana"/>
              </a:rPr>
              <a:t> </a:t>
            </a:r>
            <a:fld id="{988EFAF4-B152-4073-B11B-C0785AF742AA}"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635C-CD61-4D01-97E2-6443E4977AF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1D12-0CC3-4ADD-AAA1-B57C9FDB0562}" type="datetime">
              <a:rPr b="0" lang="en-US" sz="1200" spc="-1" strike="noStrike">
                <a:solidFill>
                  <a:srgbClr val="ffffff"/>
                </a:solidFill>
                <a:latin typeface="Verdana"/>
              </a:rPr>
              <a:t>07/29/26</a:t>
            </a:fld>
            <a:r>
              <a:rPr b="0" lang="en-US" sz="1200" spc="-1" strike="noStrike">
                <a:solidFill>
                  <a:srgbClr val="ffffff"/>
                </a:solidFill>
                <a:latin typeface="Verdana"/>
              </a:rPr>
              <a:t> </a:t>
            </a:r>
            <a:fld id="{B3E80B83-F624-4DB7-B593-908980EBA1C2}"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B1F9-DAE8-45A1-959B-E03BDDF0A70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838D-1695-4467-843C-8EA381023696}" type="datetime">
              <a:rPr b="0" lang="en-US" sz="1200" spc="-1" strike="noStrike">
                <a:solidFill>
                  <a:srgbClr val="ffffff"/>
                </a:solidFill>
                <a:latin typeface="Verdana"/>
              </a:rPr>
              <a:t>07/29/26</a:t>
            </a:fld>
            <a:r>
              <a:rPr b="0" lang="en-US" sz="1200" spc="-1" strike="noStrike">
                <a:solidFill>
                  <a:srgbClr val="ffffff"/>
                </a:solidFill>
                <a:latin typeface="Verdana"/>
              </a:rPr>
              <a:t> </a:t>
            </a:r>
            <a:fld id="{6493E6B3-81AB-44C3-9CBE-FB04BCE054BF}"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BA3A-8861-4BEE-AAB8-AB9FC407B36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91B4-9449-45DE-8FC7-598C20C575D0}" type="datetime">
              <a:rPr b="0" lang="en-US" sz="1200" spc="-1" strike="noStrike">
                <a:solidFill>
                  <a:srgbClr val="ffffff"/>
                </a:solidFill>
                <a:latin typeface="Verdana"/>
              </a:rPr>
              <a:t>07/29/26</a:t>
            </a:fld>
            <a:r>
              <a:rPr b="0" lang="en-US" sz="1200" spc="-1" strike="noStrike">
                <a:solidFill>
                  <a:srgbClr val="ffffff"/>
                </a:solidFill>
                <a:latin typeface="Verdana"/>
              </a:rPr>
              <a:t> </a:t>
            </a:r>
            <a:fld id="{AF81B570-02B2-4807-8096-DB17A65EF350}"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875C-1C00-4759-AF0D-4F58630DE8A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BA4D-3CE9-468D-8AC5-88BD2E17F89B}" type="datetime">
              <a:rPr b="0" lang="en-US" sz="1200" spc="-1" strike="noStrike">
                <a:solidFill>
                  <a:srgbClr val="ffffff"/>
                </a:solidFill>
                <a:latin typeface="Verdana"/>
              </a:rPr>
              <a:t>07/29/26</a:t>
            </a:fld>
            <a:r>
              <a:rPr b="0" lang="en-US" sz="1200" spc="-1" strike="noStrike">
                <a:solidFill>
                  <a:srgbClr val="ffffff"/>
                </a:solidFill>
                <a:latin typeface="Verdana"/>
              </a:rPr>
              <a:t> </a:t>
            </a:r>
            <a:fld id="{9DC611F6-6D47-49D4-982F-DAC89CE910D9}"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657B-BCBB-4FE2-9DC5-B996F8298F2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93EA-FC3F-424A-941E-1CCB3A31A00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F6B0-B511-46B5-A8D8-DE39A554CB3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2FBE-0CDA-455D-BFB6-1FCB8FDB3D6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C7B3-DC79-448B-BAE0-01CBB188E59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F049-E0EF-4B52-8003-762F038846E1}" type="datetime">
              <a:rPr b="0" lang="en-US" sz="1200" spc="-1" strike="noStrike">
                <a:solidFill>
                  <a:srgbClr val="ffffff"/>
                </a:solidFill>
                <a:latin typeface="Verdana"/>
              </a:rPr>
              <a:t>07/29/26</a:t>
            </a:fld>
            <a:r>
              <a:rPr b="0" lang="en-US" sz="1200" spc="-1" strike="noStrike">
                <a:solidFill>
                  <a:srgbClr val="ffffff"/>
                </a:solidFill>
                <a:latin typeface="Verdana"/>
              </a:rPr>
              <a:t> </a:t>
            </a:r>
            <a:fld id="{1D2ED74F-12C6-49C7-AAED-B5685F03A4B3}"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36DA-7B27-4480-91D7-0CE457E38E7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1573-A75F-4CEC-9981-0B4A3C4012CF}" type="datetime">
              <a:rPr b="0" lang="en-US" sz="1200" spc="-1" strike="noStrike">
                <a:solidFill>
                  <a:srgbClr val="ffffff"/>
                </a:solidFill>
                <a:latin typeface="Verdana"/>
              </a:rPr>
              <a:t>07/29/26</a:t>
            </a:fld>
            <a:r>
              <a:rPr b="0" lang="en-US" sz="1200" spc="-1" strike="noStrike">
                <a:solidFill>
                  <a:srgbClr val="ffffff"/>
                </a:solidFill>
                <a:latin typeface="Verdana"/>
              </a:rPr>
              <a:t> </a:t>
            </a:r>
            <a:fld id="{6F3F4FE0-F4CC-4D57-8532-AF73F0A531CC}"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0DEE-A7B7-4A1D-80B6-EE8E038925E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A7AF-A575-45E5-9A2A-ABA1C24ECEBC}" type="datetime">
              <a:rPr b="0" lang="en-US" sz="1200" spc="-1" strike="noStrike">
                <a:solidFill>
                  <a:srgbClr val="ffffff"/>
                </a:solidFill>
                <a:latin typeface="Verdana"/>
              </a:rPr>
              <a:t>07/29/26</a:t>
            </a:fld>
            <a:r>
              <a:rPr b="0" lang="en-US" sz="1200" spc="-1" strike="noStrike">
                <a:solidFill>
                  <a:srgbClr val="ffffff"/>
                </a:solidFill>
                <a:latin typeface="Verdana"/>
              </a:rPr>
              <a:t> </a:t>
            </a:r>
            <a:fld id="{F298FAE9-6378-41CC-BED7-07E280FD7F0F}" type="datetime10">
              <a:rPr b="0" lang="en-US" sz="1200" spc="-1" strike="noStrike">
                <a:solidFill>
                  <a:srgbClr val="ffffff"/>
                </a:solidFill>
                <a:latin typeface="Verdana"/>
              </a:rPr>
              <a:t>17:52</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07CB-2233-4879-BBE5-123CD4BC445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B0FFF-E54E-490B-91C9-07B0AD603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8FA2D-76AD-4616-A2A4-4C1F1713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1DD95-796C-44C5-BDDB-DF199A6F4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46315-CEF2-482C-B5C7-BD7E89939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40CDE-9085-440E-A182-D852A013D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9EE96-EBDB-498E-9792-47A9C6FBC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0C0E5-E9B1-4017-B9C2-F44C7890E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8957C-046F-40D4-9ED0-AF23B35EC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EE91F-1CA9-49D4-93A6-314A10B6F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1E383-F6EA-45FA-A392-1B8231F04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26967-0A05-476C-8375-797595A83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26AD0-7C4D-4F60-A4AB-F61C7F393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D86F3-7C4B-4877-8156-3EA2AF137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7617C-D5CC-4943-8F2A-7B058929B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D62E3-EE1D-462C-8EAB-844754CEC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AC38D-0E85-4E4D-98BD-AD5CC3517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FAD9C-9803-4FFF-A9EC-41A0D4F56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C67A7-0598-4A28-B3A3-E20C8E8F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E1E4F-44AF-4C75-A10B-AD3279C7D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5961C-DFBC-46FE-B95B-BEB4CF76B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9E2B4-95A0-4ACC-A174-064B5667B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61FB6-0F19-4209-9F99-1BB87948C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BB67-7830-4774-88EA-C3B2FEB7F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B289-E754-4C51-8C34-DE75B3CAB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09AA-2B47-463E-9A4D-394D6A15935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956A-CC38-465B-83A8-F5F8EF52AD4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7D43-398A-4E8A-9154-6EE6B4BEEB63}"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