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80BB-ABEC-4D8B-9C8C-6A1F959489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185-1C46-4C7A-BFD2-7DBD8B4034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094B-AB80-44E5-9B72-56F6FD49E163}" type="datetime">
              <a:rPr b="0" lang="en-US" sz="1200" spc="-1" strike="noStrike">
                <a:solidFill>
                  <a:srgbClr val="ffffff"/>
                </a:solidFill>
                <a:latin typeface="Verdana"/>
              </a:rPr>
              <a:t>07/30/26</a:t>
            </a:fld>
            <a:r>
              <a:rPr b="0" lang="en-US" sz="1200" spc="-1" strike="noStrike">
                <a:solidFill>
                  <a:srgbClr val="ffffff"/>
                </a:solidFill>
                <a:latin typeface="Verdana"/>
              </a:rPr>
              <a:t> </a:t>
            </a:r>
            <a:fld id="{50EBB86B-B867-4F45-B50A-2FC00F4AA86B}"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3973-5115-43F5-BE2D-399E66FE1F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3AA9-3A77-4868-A1A3-B9E6C7FFC3BD}" type="datetime">
              <a:rPr b="0" lang="en-US" sz="1200" spc="-1" strike="noStrike">
                <a:solidFill>
                  <a:srgbClr val="ffffff"/>
                </a:solidFill>
                <a:latin typeface="Verdana"/>
              </a:rPr>
              <a:t>07/30/26</a:t>
            </a:fld>
            <a:r>
              <a:rPr b="0" lang="en-US" sz="1200" spc="-1" strike="noStrike">
                <a:solidFill>
                  <a:srgbClr val="ffffff"/>
                </a:solidFill>
                <a:latin typeface="Verdana"/>
              </a:rPr>
              <a:t> </a:t>
            </a:r>
            <a:fld id="{BFDCA022-BBB5-4162-BF47-562AAD0F9640}"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14B-D1BF-45F4-BBCF-37054E17B7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64B6-759B-46BB-BE0A-E6DB161614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158B-FC67-443F-BE66-4A9F0B823852}" type="datetime">
              <a:rPr b="0" lang="en-US" sz="1200" spc="-1" strike="noStrike">
                <a:solidFill>
                  <a:srgbClr val="ffffff"/>
                </a:solidFill>
                <a:latin typeface="Verdana"/>
              </a:rPr>
              <a:t>07/30/26</a:t>
            </a:fld>
            <a:r>
              <a:rPr b="0" lang="en-US" sz="1200" spc="-1" strike="noStrike">
                <a:solidFill>
                  <a:srgbClr val="ffffff"/>
                </a:solidFill>
                <a:latin typeface="Verdana"/>
              </a:rPr>
              <a:t> </a:t>
            </a:r>
            <a:fld id="{1EF2CC75-E52F-4F2C-887E-C03EF18C1346}"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57CD-FC05-4C3C-AA7B-522C0D5C6CB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2FE8-5A5B-4D8D-BD84-63B49D02134C}" type="datetime">
              <a:rPr b="0" lang="en-US" sz="1200" spc="-1" strike="noStrike">
                <a:solidFill>
                  <a:srgbClr val="ffffff"/>
                </a:solidFill>
                <a:latin typeface="Verdana"/>
              </a:rPr>
              <a:t>07/30/26</a:t>
            </a:fld>
            <a:r>
              <a:rPr b="0" lang="en-US" sz="1200" spc="-1" strike="noStrike">
                <a:solidFill>
                  <a:srgbClr val="ffffff"/>
                </a:solidFill>
                <a:latin typeface="Verdana"/>
              </a:rPr>
              <a:t> </a:t>
            </a:r>
            <a:fld id="{46D67DA8-A689-41AC-9CC0-FC8291E9B2FE}"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0011-BF6F-4F59-97D2-C7A25B81449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5F54-B865-4A95-983C-77E4EA81BA49}" type="datetime">
              <a:rPr b="0" lang="en-US" sz="1200" spc="-1" strike="noStrike">
                <a:solidFill>
                  <a:srgbClr val="ffffff"/>
                </a:solidFill>
                <a:latin typeface="Verdana"/>
              </a:rPr>
              <a:t>07/30/26</a:t>
            </a:fld>
            <a:r>
              <a:rPr b="0" lang="en-US" sz="1200" spc="-1" strike="noStrike">
                <a:solidFill>
                  <a:srgbClr val="ffffff"/>
                </a:solidFill>
                <a:latin typeface="Verdana"/>
              </a:rPr>
              <a:t> </a:t>
            </a:r>
            <a:fld id="{90E62C27-46C7-4B80-9237-D6F1AA9F8B94}"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3013-EE9F-40FD-B110-B5B279F488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917F-2239-4BAD-88C6-C72BCD17B965}" type="datetime">
              <a:rPr b="0" lang="en-US" sz="1200" spc="-1" strike="noStrike">
                <a:solidFill>
                  <a:srgbClr val="ffffff"/>
                </a:solidFill>
                <a:latin typeface="Verdana"/>
              </a:rPr>
              <a:t>07/30/26</a:t>
            </a:fld>
            <a:r>
              <a:rPr b="0" lang="en-US" sz="1200" spc="-1" strike="noStrike">
                <a:solidFill>
                  <a:srgbClr val="ffffff"/>
                </a:solidFill>
                <a:latin typeface="Verdana"/>
              </a:rPr>
              <a:t> </a:t>
            </a:r>
            <a:fld id="{6AD9CE9F-089B-4FF4-8A00-AF23D7FBD964}"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1A1E-5F1B-45B5-83DF-DAC3E2DD9A9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9060-5D8E-4DCA-930A-55306C4BB154}" type="datetime">
              <a:rPr b="0" lang="en-US" sz="1200" spc="-1" strike="noStrike">
                <a:solidFill>
                  <a:srgbClr val="ffffff"/>
                </a:solidFill>
                <a:latin typeface="Verdana"/>
              </a:rPr>
              <a:t>07/30/26</a:t>
            </a:fld>
            <a:r>
              <a:rPr b="0" lang="en-US" sz="1200" spc="-1" strike="noStrike">
                <a:solidFill>
                  <a:srgbClr val="ffffff"/>
                </a:solidFill>
                <a:latin typeface="Verdana"/>
              </a:rPr>
              <a:t> </a:t>
            </a:r>
            <a:fld id="{6ABBEEFA-B5BD-44C7-AE50-F7C87FAC3248}"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5B5E-C0DB-432F-B4B7-0410E3CB19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ED6B-A677-41F8-A5EF-B2ADFD5D94B3}" type="datetime">
              <a:rPr b="0" lang="en-US" sz="1200" spc="-1" strike="noStrike">
                <a:solidFill>
                  <a:srgbClr val="ffffff"/>
                </a:solidFill>
                <a:latin typeface="Verdana"/>
              </a:rPr>
              <a:t>07/30/26</a:t>
            </a:fld>
            <a:r>
              <a:rPr b="0" lang="en-US" sz="1200" spc="-1" strike="noStrike">
                <a:solidFill>
                  <a:srgbClr val="ffffff"/>
                </a:solidFill>
                <a:latin typeface="Verdana"/>
              </a:rPr>
              <a:t> </a:t>
            </a:r>
            <a:fld id="{B4938A5F-8C31-4792-B5D0-ED60AC6F82D0}"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7761-4D3A-4188-AB1A-9BF07CA3AB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2C0-A214-47EE-9BCE-80D94D8A9A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4C5D-CC1A-49A1-9D98-92427EA9EF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7ABB-EBEA-4C40-9C3C-4B9BC2FBE7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9B6A-587B-4B84-A902-CCFEAFA80A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7DF1-1B64-4937-940D-F693220213CA}" type="datetime">
              <a:rPr b="0" lang="en-US" sz="1200" spc="-1" strike="noStrike">
                <a:solidFill>
                  <a:srgbClr val="ffffff"/>
                </a:solidFill>
                <a:latin typeface="Verdana"/>
              </a:rPr>
              <a:t>07/30/26</a:t>
            </a:fld>
            <a:r>
              <a:rPr b="0" lang="en-US" sz="1200" spc="-1" strike="noStrike">
                <a:solidFill>
                  <a:srgbClr val="ffffff"/>
                </a:solidFill>
                <a:latin typeface="Verdana"/>
              </a:rPr>
              <a:t> </a:t>
            </a:r>
            <a:fld id="{0E3530B8-1DD4-4B5F-9999-4FA35B3DFF1C}"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1EE3-38E7-45F8-A8DC-30019E51E91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64F1-E1F3-48C7-A7E8-939E2C6897F8}" type="datetime">
              <a:rPr b="0" lang="en-US" sz="1200" spc="-1" strike="noStrike">
                <a:solidFill>
                  <a:srgbClr val="ffffff"/>
                </a:solidFill>
                <a:latin typeface="Verdana"/>
              </a:rPr>
              <a:t>07/30/26</a:t>
            </a:fld>
            <a:r>
              <a:rPr b="0" lang="en-US" sz="1200" spc="-1" strike="noStrike">
                <a:solidFill>
                  <a:srgbClr val="ffffff"/>
                </a:solidFill>
                <a:latin typeface="Verdana"/>
              </a:rPr>
              <a:t> </a:t>
            </a:r>
            <a:fld id="{504844F6-3DBA-4C5A-88D4-3924A2E07E92}"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194F-AE06-4783-A893-20950C018B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B199-5F4B-40C4-A5EE-B2859E4D9AD6}" type="datetime">
              <a:rPr b="0" lang="en-US" sz="1200" spc="-1" strike="noStrike">
                <a:solidFill>
                  <a:srgbClr val="ffffff"/>
                </a:solidFill>
                <a:latin typeface="Verdana"/>
              </a:rPr>
              <a:t>07/30/26</a:t>
            </a:fld>
            <a:r>
              <a:rPr b="0" lang="en-US" sz="1200" spc="-1" strike="noStrike">
                <a:solidFill>
                  <a:srgbClr val="ffffff"/>
                </a:solidFill>
                <a:latin typeface="Verdana"/>
              </a:rPr>
              <a:t> </a:t>
            </a:r>
            <a:fld id="{9CA06DD3-FFCA-4060-94FA-3D90D539BFB4}" type="datetime10">
              <a:rPr b="0" lang="en-US" sz="1200" spc="-1" strike="noStrike">
                <a:solidFill>
                  <a:srgbClr val="ffffff"/>
                </a:solidFill>
                <a:latin typeface="Verdana"/>
              </a:rPr>
              <a:t>17:49</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81C6-F37C-4D3D-AC30-6EF7F9F502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A1BBA-0669-479A-9E89-68EAD6F9A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3D524-8C6B-459F-A82A-9CD9D6D2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40B82-C893-4E6E-810C-E52E70B74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D47CE-EE9C-4DE1-BAF2-BD40506C3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4164D-3B60-46DA-A3E0-AFB2FA8BD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D6A40-EE91-4C1B-82D3-582BC3F26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17847-2A36-4AF6-B9F5-B73BB576F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21FC7-E102-48DC-9A1F-86F47F4F2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AE381-07B6-47B1-83F0-3EB448388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EFBB0-13AE-45F6-93B3-A7620E45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BB5A5-7435-4181-9693-310CE7B7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514B2-98D5-425C-9BC0-3C3B7E3DB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CB859-9B76-4D49-82CA-9A96F4B8B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8D0FE-6B89-4DFB-8395-361F8820F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3B665-81B2-4C4E-8682-94893C23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32AC0-54AA-4F0D-8DAD-E9EABFA1A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57EA8-94CB-4AB1-B620-5B3434BB8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884B-7CCF-4C89-921E-1E4E64A7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70863-D286-4235-9E6E-494CC40C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7A0A-DA51-4AC6-B647-75D6EB2E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C3D3-A0E4-461C-BF33-E5E6FD2C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9EB3-8A55-48E9-AE8A-7DD7DF13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6CB0-3533-4FB9-93CA-F52245FF9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B5E3-A8BE-4783-959B-688B543B5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A21D-96BA-43C6-BDCD-B0AB364B66E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F7FA-71AE-4EAF-8898-FAA9233CA6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FF3F-D6BA-4D70-9C46-C91F51FC9B38}"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