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5AD-84CA-4463-97E5-64D7354A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683-508D-4942-8B34-F52DD76C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B89-8113-432B-9F81-E498B81B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911-A017-4BB1-9783-7EC2846C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F722-945E-4C6A-833A-5618B254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F3FA-EE58-48CF-979B-6B6279AD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E062-040F-4B49-92D8-59673BA3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4EE9-7899-4065-BF15-B37C653A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E9E2-C822-4040-8282-278E7578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1B17-92BF-479F-B9A0-F28F82E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22B6-1D3D-4FD3-8AA5-1D69D95B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291-DF2E-464E-8A49-BBC8A554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B52A-4D64-43A6-B2C6-E0DF07D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6241-6FB5-461B-83FE-D454EEC7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C562-1E02-4269-BFAF-72F4631C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9C48-FCB4-4DCA-8CBD-A217F800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DBD-D9A6-4DE2-977E-253E7B97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925-155F-4D36-904F-118B7717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A43-C9C2-47CB-B499-7071EFF9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6CD-4F7B-4EA4-A17E-5258789B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4B6-6454-491A-930E-0ACC6AF2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576-22C1-4287-B209-11F6708F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883-6597-49B1-8BE4-7D34539D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AB6-D084-4B54-A7E7-38248AC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12BC-8485-4CCF-B4BD-D90A5C6A2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0E47-24C8-436F-967A-C4A68171C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airobi Water and Sanitation, Workshop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ctor Budget Support: Lesotho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Fairview Hote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Nairobi, 18 - 21 October,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by: E. M. Les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VENTION BY SB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cted results and activ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capacity address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institutional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water supply and sanitation service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urban and rural areas im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dialogu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or Communic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 improved services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among others importan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Coordination Mee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Youth Water and Action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otho Water Partner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 le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s learned when introducing change and implementing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fully map-up direction you want to tak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stakeholders involved in influencing decisions support reform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fu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started reforms for good course go stra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lly everybody aroun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e effectivel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the chang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open-up good opportunities for all stakeholde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background until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ring 1986-1995 the followings were do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partment of Water Affairs was establish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pleted Lesotho Highlands Water Proje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DRWS and SWAP for rural setting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bined Ministry of Lesotho Water Project with Ministry of Water, Energy, and Mining and formed Ministry of Natural Resourc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ctor situation analysis for 1996-199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sector fragmentation became obstacle for project apprais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ced Lesotho Highlands Water Phase-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After-Care-Strate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road for water sect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Resources Management Policy – 1999 was endorsed by Cabi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y Wastewater Management Policy endor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Sector Improvement Program develop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lands Water Supply Unit was established i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, Planning, and Strategy Unit was established to advise formulation and develop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2003 Commissioner of Water recruited and tasked to driver the reform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binet endorsed Water and  Sanitatio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or coordination, various missions were rece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ly develo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sector progra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was based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Poli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strateg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 budget and medium-term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balanced Steering Committee (SC)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and Sanitation 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19810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ter Sector endorsed feedback from stakehold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 developed IWSS aiming 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ing Water and Sanitation Policy (WSP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ng funding for Water Sector developmen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tor also developing Financing Strategy for further implementation of IW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te IWSS by end of March 2010, and Cabinet endor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 IWSS for financial years: 2010 to 2012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, complete, and endorse a Five year sector strategy by end of 2011 for period: 2012 to 2017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cess (roadmap) for developmen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im Water and Sanitation Sector Strategy (IWSS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SELINE AND TARGET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SUES OF WATER SERVICE DELIVERY TO MEET MDGs</a:t>
            </a: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of SBS is to address Policy statements: 2 and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2995560"/>
            <a:ext cx="8763120" cy="37861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C975-2A4A-43E3-863C-A4BA0EE6B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1644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tor Policy Suppor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Budget Support and Technical Assistance – centralized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bursement (in Fixed tranche and Variable tranche) is foreseen for first quarter of Financial Year following joint revi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Conditions for disbursement of each tran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Conditions for tranche release of variable tran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evaluation arrangements for variable tranch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≥100%, ≥50%, &lt;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indicators will be used to measure urban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access to water supp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rules for tariffs and connection fees allowing for free basic water to vulnerable households developed, tested and approved by the Reg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 new public standpipes serving about 15,000 persons established for providing access to water in areas with low connection rates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 new domestic connections installed serving about 30,000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operating effici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r policy and strategy for meter calibration and replacement developed and being implemen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fW reduced to an average of 27% overall by March 2012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educed by 20% from M9.3m/annum in 2008/09 to M7.44m/annum in the 2011/12 financial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d700"/>
                </a:solidFill>
                <a:latin typeface="Arial"/>
              </a:rPr>
              <a:t>Improving production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SA’s production capacity increased by 29.52ML/day by March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lization of Institutional Arran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A is now a registered Water and Sewage Company (WASC) and shall be regulate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 has become multi-sector regulator.  Lesotho Electricity and Water  Authority (LEW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t management agency will be created during 2010/11 Financial Yea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ulk Water Authority will also be created during this Financial Year 2010/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Windows User</cp:lastModifiedBy>
  <dcterms:modified xsi:type="dcterms:W3CDTF">2010-10-20T05:52:49Z</dcterms:modified>
  <cp:revision>378</cp:revision>
  <dc:subject/>
  <dc:title>Slide 1</dc:title>
</cp:coreProperties>
</file>