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gif" ContentType="image/gif"/>
  <Override PartName="/ppt/media/image7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</p:sldIdLst>
  <p:sldSz cx="9907588" cy="6858000"/>
  <p:notesSz cx="6742113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742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2248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2"/>
          </p:nvPr>
        </p:nvSpPr>
        <p:spPr>
          <a:xfrm>
            <a:off x="3820680" y="-360"/>
            <a:ext cx="292284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D8BAF5-8D47-4BD1-B83B-EA30A3C56C7E}" type="datetime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66C0ED56-3BB1-4806-9607-F170FBF5435D}" type="datetime10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18:03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698040" y="741240"/>
            <a:ext cx="5348520" cy="3703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720" rIns="9072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a67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898200" y="4690800"/>
            <a:ext cx="4946760" cy="4443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3"/>
          </p:nvPr>
        </p:nvSpPr>
        <p:spPr>
          <a:xfrm>
            <a:off x="0" y="9381960"/>
            <a:ext cx="2922480" cy="49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4"/>
          </p:nvPr>
        </p:nvSpPr>
        <p:spPr>
          <a:xfrm>
            <a:off x="3820680" y="9381960"/>
            <a:ext cx="2922840" cy="49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B584FE-D227-4B62-8E48-3F578A4F7342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21040" y="9381960"/>
            <a:ext cx="29228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5D7647-476F-4149-B218-CEAAE3D196E9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698400" y="741240"/>
            <a:ext cx="5348520" cy="370368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898200" y="4690800"/>
            <a:ext cx="49467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21040" y="9381960"/>
            <a:ext cx="29228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295757-A328-42C4-810F-CF05A5322FF2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698400" y="741240"/>
            <a:ext cx="5348520" cy="370368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898200" y="4690800"/>
            <a:ext cx="49467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38B440-5A6D-49AE-BF88-594CF28552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5000" y="404064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428FBA-E984-4677-9840-D390690A66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634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5000" y="40406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63400" y="40406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82F1E8-2FD6-4E1C-895E-2B07D43148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09640" y="16765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524280" y="16765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95000" y="404064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09640" y="404064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524280" y="404064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136AA4-71DD-420A-B9DF-9EDBC7C2E6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95000" y="167652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63400" y="167652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95360" y="274320"/>
            <a:ext cx="7657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63400" y="167652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95000" y="40406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95000" y="167652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A9377A-E580-4233-B680-3775C4D4AB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634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063400" y="40406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0634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95000" y="404064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5000" y="404064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0634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95000" y="40406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063400" y="40406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09640" y="16765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524280" y="16765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5000" y="404064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09640" y="404064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524280" y="404064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95000" y="167652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63400" y="167652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B6CC42-E77F-4917-ADBB-4C438925A08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95360" y="274320"/>
            <a:ext cx="7657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063400" y="167652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95000" y="40406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0634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063400" y="40406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0634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95000" y="404064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95000" y="404064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0634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95000" y="40406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5063400" y="40406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509640" y="16765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524280" y="16765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95000" y="404064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509640" y="404064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524280" y="404064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7652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7E2BDE-9A62-4CB0-BFBF-8F459487B6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060009-3B90-4508-A935-950253B902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95360" y="274320"/>
            <a:ext cx="7657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103D0D-4B2A-4B4D-BE93-E1363220E3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63400" y="167652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95000" y="40406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3B2186-CA20-4FBA-A5B5-11BC9BBBBB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634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63400" y="40406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0CA86B-985B-4316-B778-7EBD27829B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634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5000" y="404064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57A252-74EB-485B-AC64-ED8EAE1A52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6.gif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8775720" y="6008760"/>
            <a:ext cx="496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BE360-18BD-4608-9292-D97B6E90CCCC}" type="slidenum"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" name="Object 39"/>
          <p:cNvGraphicFramePr/>
          <p:nvPr/>
        </p:nvGraphicFramePr>
        <p:xfrm>
          <a:off x="7532640" y="6173640"/>
          <a:ext cx="392040" cy="277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" name="Object 3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532640" y="6173640"/>
                    <a:ext cx="392040" cy="27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" name="Picture 40" descr="\\Mark\C\My Documents\logo DED_2002_offiziell.jpg"/>
          <p:cNvPicPr/>
          <p:nvPr/>
        </p:nvPicPr>
        <p:blipFill>
          <a:blip r:embed="rId4"/>
          <a:stretch/>
        </p:blipFill>
        <p:spPr>
          <a:xfrm>
            <a:off x="6959520" y="6235560"/>
            <a:ext cx="355680" cy="297000"/>
          </a:xfrm>
          <a:prstGeom prst="rect">
            <a:avLst/>
          </a:prstGeom>
          <a:ln w="0">
            <a:noFill/>
          </a:ln>
        </p:spPr>
      </p:pic>
      <p:pic>
        <p:nvPicPr>
          <p:cNvPr id="4" name="Picture 41" descr="031124_KFW_Logo_Entwicklung-Positiv-4c"/>
          <p:cNvPicPr/>
          <p:nvPr/>
        </p:nvPicPr>
        <p:blipFill>
          <a:blip r:embed="rId5"/>
          <a:stretch/>
        </p:blipFill>
        <p:spPr>
          <a:xfrm>
            <a:off x="8077320" y="6172200"/>
            <a:ext cx="685800" cy="293760"/>
          </a:xfrm>
          <a:prstGeom prst="rect">
            <a:avLst/>
          </a:prstGeom>
          <a:ln w="0">
            <a:noFill/>
          </a:ln>
        </p:spPr>
      </p:pic>
      <p:sp>
        <p:nvSpPr>
          <p:cNvPr id="5" name="Rectangle 43"/>
          <p:cNvSpPr/>
          <p:nvPr/>
        </p:nvSpPr>
        <p:spPr>
          <a:xfrm>
            <a:off x="0" y="0"/>
            <a:ext cx="9906120" cy="6858000"/>
          </a:xfrm>
          <a:prstGeom prst="rect">
            <a:avLst/>
          </a:prstGeom>
          <a:solidFill>
            <a:srgbClr val="c0c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AutoShape 44"/>
          <p:cNvSpPr/>
          <p:nvPr/>
        </p:nvSpPr>
        <p:spPr>
          <a:xfrm>
            <a:off x="358920" y="179280"/>
            <a:ext cx="9161280" cy="1349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AutoShape 45"/>
          <p:cNvSpPr/>
          <p:nvPr/>
        </p:nvSpPr>
        <p:spPr>
          <a:xfrm>
            <a:off x="358920" y="1619280"/>
            <a:ext cx="9161280" cy="4768920"/>
          </a:xfrm>
          <a:prstGeom prst="roundRect">
            <a:avLst>
              <a:gd name="adj" fmla="val 3778"/>
            </a:avLst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AutoShape 46">
            <a:hlinkClick r:id="" action="ppaction://hlinkshowjump?jump=previousslide"/>
          </p:cNvPr>
          <p:cNvSpPr/>
          <p:nvPr/>
        </p:nvSpPr>
        <p:spPr>
          <a:xfrm>
            <a:off x="8153280" y="6553080"/>
            <a:ext cx="660600" cy="304920"/>
          </a:xfrm>
          <a:custGeom>
            <a:avLst/>
            <a:gdLst>
              <a:gd name="textAreaLeft" fmla="*/ 19440 w 660600"/>
              <a:gd name="textAreaRight" fmla="*/ 641160 w 6606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6766" h="21600">
                <a:moveTo>
                  <a:pt x="0" y="0"/>
                </a:moveTo>
                <a:lnTo>
                  <a:pt x="46766" y="0"/>
                </a:lnTo>
                <a:lnTo>
                  <a:pt x="46766" y="21600"/>
                </a:lnTo>
                <a:lnTo>
                  <a:pt x="0" y="21600"/>
                </a:lnTo>
                <a:close/>
              </a:path>
              <a:path fill="lightenLess" w="46766" h="21600">
                <a:moveTo>
                  <a:pt x="0" y="0"/>
                </a:moveTo>
                <a:lnTo>
                  <a:pt x="46766" y="0"/>
                </a:lnTo>
                <a:lnTo>
                  <a:pt x="45366" y="1400"/>
                </a:lnTo>
                <a:lnTo>
                  <a:pt x="1400" y="1400"/>
                </a:lnTo>
                <a:close/>
              </a:path>
              <a:path fill="darken" w="46766" h="21600">
                <a:moveTo>
                  <a:pt x="46766" y="0"/>
                </a:moveTo>
                <a:lnTo>
                  <a:pt x="46766" y="21600"/>
                </a:lnTo>
                <a:lnTo>
                  <a:pt x="45366" y="20200"/>
                </a:lnTo>
                <a:lnTo>
                  <a:pt x="45366" y="1400"/>
                </a:lnTo>
                <a:close/>
              </a:path>
              <a:path fill="darkenLess" w="46766" h="21600">
                <a:moveTo>
                  <a:pt x="46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66" y="20200"/>
                </a:lnTo>
                <a:close/>
              </a:path>
              <a:path fill="lighten" w="46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766" h="21600">
                <a:moveTo>
                  <a:pt x="16377" y="10800"/>
                </a:moveTo>
                <a:lnTo>
                  <a:pt x="30390" y="3794"/>
                </a:lnTo>
                <a:lnTo>
                  <a:pt x="30390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AutoShape 47">
            <a:hlinkClick r:id="" action="ppaction://hlinkshowjump?jump=previousslide"/>
          </p:cNvPr>
          <p:cNvSpPr/>
          <p:nvPr/>
        </p:nvSpPr>
        <p:spPr>
          <a:xfrm>
            <a:off x="8158320" y="6550200"/>
            <a:ext cx="660240" cy="304560"/>
          </a:xfrm>
          <a:custGeom>
            <a:avLst/>
            <a:gdLst>
              <a:gd name="textAreaLeft" fmla="*/ 19440 w 660240"/>
              <a:gd name="textAreaRight" fmla="*/ 640800 w 66024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46796" h="21600">
                <a:moveTo>
                  <a:pt x="0" y="0"/>
                </a:moveTo>
                <a:lnTo>
                  <a:pt x="46796" y="0"/>
                </a:lnTo>
                <a:lnTo>
                  <a:pt x="46796" y="21600"/>
                </a:lnTo>
                <a:lnTo>
                  <a:pt x="0" y="21600"/>
                </a:lnTo>
                <a:close/>
              </a:path>
              <a:path fill="lightenLess" w="46796" h="21600">
                <a:moveTo>
                  <a:pt x="0" y="0"/>
                </a:moveTo>
                <a:lnTo>
                  <a:pt x="46796" y="0"/>
                </a:lnTo>
                <a:lnTo>
                  <a:pt x="45396" y="1400"/>
                </a:lnTo>
                <a:lnTo>
                  <a:pt x="1400" y="1400"/>
                </a:lnTo>
                <a:close/>
              </a:path>
              <a:path fill="darken" w="46796" h="21600">
                <a:moveTo>
                  <a:pt x="46796" y="0"/>
                </a:moveTo>
                <a:lnTo>
                  <a:pt x="46796" y="21600"/>
                </a:lnTo>
                <a:lnTo>
                  <a:pt x="45396" y="20200"/>
                </a:lnTo>
                <a:lnTo>
                  <a:pt x="45396" y="1400"/>
                </a:lnTo>
                <a:close/>
              </a:path>
              <a:path fill="darkenLess" w="46796" h="21600">
                <a:moveTo>
                  <a:pt x="467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96" y="20200"/>
                </a:lnTo>
                <a:close/>
              </a:path>
              <a:path fill="lighten" w="467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796" h="21600">
                <a:moveTo>
                  <a:pt x="16391" y="10800"/>
                </a:moveTo>
                <a:lnTo>
                  <a:pt x="30404" y="3794"/>
                </a:lnTo>
                <a:lnTo>
                  <a:pt x="3040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50"/>
          <p:cNvSpPr/>
          <p:nvPr/>
        </p:nvSpPr>
        <p:spPr>
          <a:xfrm>
            <a:off x="395280" y="6381720"/>
            <a:ext cx="1155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C99FC-BAAD-41E9-8482-F13F3E898744}" type="slidenum">
              <a:rPr b="1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" name="Picture 119" descr="GDC Logo"/>
          <p:cNvPicPr/>
          <p:nvPr/>
        </p:nvPicPr>
        <p:blipFill>
          <a:blip r:embed="rId6"/>
          <a:stretch/>
        </p:blipFill>
        <p:spPr>
          <a:xfrm>
            <a:off x="8601120" y="338040"/>
            <a:ext cx="689040" cy="957240"/>
          </a:xfrm>
          <a:prstGeom prst="rect">
            <a:avLst/>
          </a:prstGeom>
          <a:ln w="0">
            <a:noFill/>
          </a:ln>
        </p:spPr>
      </p:pic>
      <p:sp>
        <p:nvSpPr>
          <p:cNvPr id="12" name="PlaceHolder 2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a67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body"/>
          </p:nvPr>
        </p:nvSpPr>
        <p:spPr>
          <a:xfrm>
            <a:off x="495000" y="167652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36"/>
          <p:cNvSpPr/>
          <p:nvPr/>
        </p:nvSpPr>
        <p:spPr>
          <a:xfrm>
            <a:off x="0" y="0"/>
            <a:ext cx="9906120" cy="6858000"/>
          </a:xfrm>
          <a:prstGeom prst="rect">
            <a:avLst/>
          </a:prstGeom>
          <a:solidFill>
            <a:srgbClr val="c0c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37"/>
          <p:cNvSpPr/>
          <p:nvPr/>
        </p:nvSpPr>
        <p:spPr>
          <a:xfrm>
            <a:off x="304920" y="304920"/>
            <a:ext cx="9242280" cy="6208560"/>
          </a:xfrm>
          <a:prstGeom prst="roundRect">
            <a:avLst>
              <a:gd name="adj" fmla="val 3380"/>
            </a:avLst>
          </a:prstGeom>
          <a:blipFill rotWithShape="0">
            <a:blip r:embed="rId2"/>
            <a:srcRect/>
            <a:stretch/>
          </a:blip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26"/>
          <p:cNvSpPr/>
          <p:nvPr/>
        </p:nvSpPr>
        <p:spPr>
          <a:xfrm>
            <a:off x="1981080" y="3048120"/>
            <a:ext cx="5867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0"/>
          <p:cNvSpPr/>
          <p:nvPr/>
        </p:nvSpPr>
        <p:spPr>
          <a:xfrm>
            <a:off x="856080" y="4724280"/>
            <a:ext cx="328032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irector of Water Sector Refo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inistry of Water and Irrig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ji House, Ngong Road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.O.Box 19512-0020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irobi, Keny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a67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95000" y="167652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Object 39"/>
          <p:cNvGraphicFramePr/>
          <p:nvPr/>
        </p:nvGraphicFramePr>
        <p:xfrm>
          <a:off x="7532640" y="6173640"/>
          <a:ext cx="392040" cy="277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3" name="Object 3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532640" y="6173640"/>
                    <a:ext cx="392040" cy="27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4" name="Picture 40" descr="\\Mark\C\My Documents\logo DED_2002_offiziell.jpg"/>
          <p:cNvPicPr/>
          <p:nvPr/>
        </p:nvPicPr>
        <p:blipFill>
          <a:blip r:embed="rId4"/>
          <a:stretch/>
        </p:blipFill>
        <p:spPr>
          <a:xfrm>
            <a:off x="6959520" y="6235560"/>
            <a:ext cx="355680" cy="2970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41" descr="031124_KFW_Logo_Entwicklung-Positiv-4c"/>
          <p:cNvPicPr/>
          <p:nvPr/>
        </p:nvPicPr>
        <p:blipFill>
          <a:blip r:embed="rId5"/>
          <a:stretch/>
        </p:blipFill>
        <p:spPr>
          <a:xfrm>
            <a:off x="8077320" y="6172200"/>
            <a:ext cx="685800" cy="29376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43"/>
          <p:cNvSpPr/>
          <p:nvPr/>
        </p:nvSpPr>
        <p:spPr>
          <a:xfrm>
            <a:off x="0" y="0"/>
            <a:ext cx="9906120" cy="6858000"/>
          </a:xfrm>
          <a:prstGeom prst="rect">
            <a:avLst/>
          </a:prstGeom>
          <a:solidFill>
            <a:srgbClr val="c0c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44"/>
          <p:cNvSpPr/>
          <p:nvPr/>
        </p:nvSpPr>
        <p:spPr>
          <a:xfrm>
            <a:off x="358920" y="179280"/>
            <a:ext cx="9161280" cy="1349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45"/>
          <p:cNvSpPr/>
          <p:nvPr/>
        </p:nvSpPr>
        <p:spPr>
          <a:xfrm>
            <a:off x="358920" y="1619280"/>
            <a:ext cx="9161280" cy="4768920"/>
          </a:xfrm>
          <a:prstGeom prst="roundRect">
            <a:avLst>
              <a:gd name="adj" fmla="val 3778"/>
            </a:avLst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46">
            <a:hlinkClick r:id="" action="ppaction://hlinkshowjump?jump=previousslide"/>
          </p:cNvPr>
          <p:cNvSpPr/>
          <p:nvPr/>
        </p:nvSpPr>
        <p:spPr>
          <a:xfrm>
            <a:off x="8153280" y="6553080"/>
            <a:ext cx="660600" cy="304920"/>
          </a:xfrm>
          <a:custGeom>
            <a:avLst/>
            <a:gdLst>
              <a:gd name="textAreaLeft" fmla="*/ 19440 w 660600"/>
              <a:gd name="textAreaRight" fmla="*/ 641160 w 6606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6766" h="21600">
                <a:moveTo>
                  <a:pt x="0" y="0"/>
                </a:moveTo>
                <a:lnTo>
                  <a:pt x="46766" y="0"/>
                </a:lnTo>
                <a:lnTo>
                  <a:pt x="46766" y="21600"/>
                </a:lnTo>
                <a:lnTo>
                  <a:pt x="0" y="21600"/>
                </a:lnTo>
                <a:close/>
              </a:path>
              <a:path fill="lightenLess" w="46766" h="21600">
                <a:moveTo>
                  <a:pt x="0" y="0"/>
                </a:moveTo>
                <a:lnTo>
                  <a:pt x="46766" y="0"/>
                </a:lnTo>
                <a:lnTo>
                  <a:pt x="45366" y="1400"/>
                </a:lnTo>
                <a:lnTo>
                  <a:pt x="1400" y="1400"/>
                </a:lnTo>
                <a:close/>
              </a:path>
              <a:path fill="darken" w="46766" h="21600">
                <a:moveTo>
                  <a:pt x="46766" y="0"/>
                </a:moveTo>
                <a:lnTo>
                  <a:pt x="46766" y="21600"/>
                </a:lnTo>
                <a:lnTo>
                  <a:pt x="45366" y="20200"/>
                </a:lnTo>
                <a:lnTo>
                  <a:pt x="45366" y="1400"/>
                </a:lnTo>
                <a:close/>
              </a:path>
              <a:path fill="darkenLess" w="46766" h="21600">
                <a:moveTo>
                  <a:pt x="46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66" y="20200"/>
                </a:lnTo>
                <a:close/>
              </a:path>
              <a:path fill="lighten" w="46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766" h="21600">
                <a:moveTo>
                  <a:pt x="16377" y="10800"/>
                </a:moveTo>
                <a:lnTo>
                  <a:pt x="30390" y="3794"/>
                </a:lnTo>
                <a:lnTo>
                  <a:pt x="30390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47">
            <a:hlinkClick r:id="" action="ppaction://hlinkshowjump?jump=previousslide"/>
          </p:cNvPr>
          <p:cNvSpPr/>
          <p:nvPr/>
        </p:nvSpPr>
        <p:spPr>
          <a:xfrm>
            <a:off x="8158320" y="6550200"/>
            <a:ext cx="660240" cy="304560"/>
          </a:xfrm>
          <a:custGeom>
            <a:avLst/>
            <a:gdLst>
              <a:gd name="textAreaLeft" fmla="*/ 19440 w 660240"/>
              <a:gd name="textAreaRight" fmla="*/ 640800 w 66024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46796" h="21600">
                <a:moveTo>
                  <a:pt x="0" y="0"/>
                </a:moveTo>
                <a:lnTo>
                  <a:pt x="46796" y="0"/>
                </a:lnTo>
                <a:lnTo>
                  <a:pt x="46796" y="21600"/>
                </a:lnTo>
                <a:lnTo>
                  <a:pt x="0" y="21600"/>
                </a:lnTo>
                <a:close/>
              </a:path>
              <a:path fill="lightenLess" w="46796" h="21600">
                <a:moveTo>
                  <a:pt x="0" y="0"/>
                </a:moveTo>
                <a:lnTo>
                  <a:pt x="46796" y="0"/>
                </a:lnTo>
                <a:lnTo>
                  <a:pt x="45396" y="1400"/>
                </a:lnTo>
                <a:lnTo>
                  <a:pt x="1400" y="1400"/>
                </a:lnTo>
                <a:close/>
              </a:path>
              <a:path fill="darken" w="46796" h="21600">
                <a:moveTo>
                  <a:pt x="46796" y="0"/>
                </a:moveTo>
                <a:lnTo>
                  <a:pt x="46796" y="21600"/>
                </a:lnTo>
                <a:lnTo>
                  <a:pt x="45396" y="20200"/>
                </a:lnTo>
                <a:lnTo>
                  <a:pt x="45396" y="1400"/>
                </a:lnTo>
                <a:close/>
              </a:path>
              <a:path fill="darkenLess" w="46796" h="21600">
                <a:moveTo>
                  <a:pt x="467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96" y="20200"/>
                </a:lnTo>
                <a:close/>
              </a:path>
              <a:path fill="lighten" w="467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796" h="21600">
                <a:moveTo>
                  <a:pt x="16391" y="10800"/>
                </a:moveTo>
                <a:lnTo>
                  <a:pt x="30404" y="3794"/>
                </a:lnTo>
                <a:lnTo>
                  <a:pt x="3040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50"/>
          <p:cNvSpPr/>
          <p:nvPr/>
        </p:nvSpPr>
        <p:spPr>
          <a:xfrm>
            <a:off x="395280" y="6381720"/>
            <a:ext cx="1155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6CE2B-031F-458A-8CA0-8EFA4CF2123E}" type="slidenum">
              <a:rPr b="1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15" descr="3dflagsdotcom_kenya_2fawm"/>
          <p:cNvPicPr/>
          <p:nvPr/>
        </p:nvPicPr>
        <p:blipFill>
          <a:blip r:embed="rId6"/>
          <a:stretch/>
        </p:blipFill>
        <p:spPr>
          <a:xfrm>
            <a:off x="8221680" y="76320"/>
            <a:ext cx="1627200" cy="106668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a67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495000" y="167652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3160" y="2568240"/>
            <a:ext cx="88390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Ministry of Water and Irrigation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Directorate of Water Sector Reform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tatus of sector reform</a:t>
            </a:r>
            <a:br>
              <a:rPr sz="2800"/>
            </a:b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October 19</a:t>
            </a:r>
            <a:r>
              <a:rPr b="0" lang="en-US" sz="2000" spc="-1" strike="noStrike" baseline="30000">
                <a:solidFill>
                  <a:srgbClr val="000000"/>
                </a:solidFill>
                <a:latin typeface="Gill Sans MT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, 2010</a:t>
            </a:r>
            <a:endParaRPr b="1" lang="en-US" sz="2000" spc="-1" strike="noStrike">
              <a:solidFill>
                <a:srgbClr val="003a67"/>
              </a:solidFill>
              <a:latin typeface="Arial"/>
            </a:endParaRPr>
          </a:p>
        </p:txBody>
      </p:sp>
      <p:pic>
        <p:nvPicPr>
          <p:cNvPr id="149" name="Picture 37" descr="~AUT0000"/>
          <p:cNvPicPr/>
          <p:nvPr/>
        </p:nvPicPr>
        <p:blipFill>
          <a:blip r:embed="rId1"/>
          <a:stretch/>
        </p:blipFill>
        <p:spPr>
          <a:xfrm>
            <a:off x="3598920" y="457200"/>
            <a:ext cx="2192400" cy="169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2699"/>
                </a:solidFill>
                <a:latin typeface="Gill Sans MT"/>
              </a:rPr>
              <a:t>The current situation</a:t>
            </a: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51" name="Rectangle 7"/>
          <p:cNvSpPr/>
          <p:nvPr/>
        </p:nvSpPr>
        <p:spPr>
          <a:xfrm>
            <a:off x="304920" y="1600200"/>
            <a:ext cx="9372600" cy="55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The sector reforms that commenced in 2004 based on the Water Act 2002 are progressing well creating the intended impacts that included increased access/coverage, professionalizing sector management, stakeholder participation and pro poor orientation both in rural and urban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The various sector institutions are progressively taking charge of their respective mandates and carrying their roles effectively albeit with challenges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The sector players are embracing and appreciating the new institutions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MWI is increasingly concentrating on policy formulation, sector coordination, oversight and resource mobilization; WRMA on water resources management, WASREB on regulation of WSS, WSTF on pro poor funding in rural, urban and peri urban settings; WSBs on investment planning and development; WSPs on provision of WS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The transfer plan has since been revised, approved and awaits circulation. Key outstanding issues addressed in the revised transfer plan include transfer of assets and liabilities; complete de-linking of human resources to the respective sector institutions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262699"/>
                </a:solidFill>
                <a:latin typeface="Arial"/>
              </a:rPr>
              <a:t>Progress during the last one year</a:t>
            </a: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53" name="TextBox 110"/>
          <p:cNvSpPr/>
          <p:nvPr/>
        </p:nvSpPr>
        <p:spPr>
          <a:xfrm>
            <a:off x="304920" y="1600200"/>
            <a:ext cx="921996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WSS assets from all WSBs have now been documented and valued, Cabinet memorandum prepared and ready for submis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WSIs Pension Scheme registered and launch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Deadline for HR delinking set for June 201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Increased confidence in sector reform confirmed by increased financial commitments by development (i.e ADB, KfW) and government (sector budget now over Kshs. 30 billion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Development of secondary legislation including water rules, governance guidelines et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Increased focus on human right to water eg continued formalization of service provision in urban and peri urban sett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3</a:t>
            </a:r>
            <a:r>
              <a:rPr b="0" lang="en-GB" sz="2000" spc="-1" strike="noStrike" baseline="30000">
                <a:solidFill>
                  <a:srgbClr val="000000"/>
                </a:solidFill>
                <a:latin typeface="Gill Sans MT"/>
              </a:rPr>
              <a:t>rd</a:t>
            </a: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 Impact report on the water services sector performance launch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Information briefs published and issued by the WSRS to clarify and elaborate critical issu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Empowerment of right holders eg WA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8762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262699"/>
                </a:solidFill>
                <a:latin typeface="Arial"/>
              </a:rPr>
              <a:t>Challenges</a:t>
            </a: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55" name="TextBox 5"/>
          <p:cNvSpPr/>
          <p:nvPr/>
        </p:nvSpPr>
        <p:spPr>
          <a:xfrm>
            <a:off x="304920" y="1676520"/>
            <a:ext cx="929628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Re-aligning the Water Act 2002 to the provisions of the New Constit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Sustainability/viability of several sector institutions at national, regional and local lev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Communication within and outside the sector still inadequa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Governance challenge has given the sector negative publicity eg appointment of board members, misuse of funds et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Inadequate institutional capacities eg. laboratories at treatment, sustainable metering management capacity,  financial management at WSBs and WSPs levels, customer ca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Inadequate skills and competencies in the sector eg. chemists, plant mechanics, customer care, finance et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Ring fencing of sector revenues (lease fees, DWO allocations etc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Aligning budgets to critical sector institu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Finalize restructuring of MWI and NWCP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Inadequate funding of directorate of refor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8762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2699"/>
                </a:solidFill>
                <a:latin typeface="Gill Sans MT"/>
              </a:rPr>
              <a:t>Next steps</a:t>
            </a: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57" name="TextBox 3"/>
          <p:cNvSpPr/>
          <p:nvPr/>
        </p:nvSpPr>
        <p:spPr>
          <a:xfrm>
            <a:off x="304920" y="1676520"/>
            <a:ext cx="944856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Task force in place preparing amendments to the Water Act 2002 to complete by Dec 201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Cluster WSPs based on viability criteria and county governmen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Reorganization of WRMA to separate regulation and implementation in progr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Need to progressively sustain enforcement of governance guidelines and public reporting by all sector institu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On communication promote reporting to public, stakeholder forums, pro active media briefing, publicize the gains/successes of reforms, issue communication briefs et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Carry out capacity needs assessment, both institutional, for the sector (incl WSIs) and propose action pl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Complete asset re-assignment and gradually outlaw lease fe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Work with Treasury to realign budgets to critical sector institu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Implement recommendations on restructuring of MWI and NWCP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Increase funding for the directorate of refor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2T10:10:19Z</dcterms:created>
  <dc:creator>ralf.wegener</dc:creator>
  <dc:description/>
  <dc:language>en-US</dc:language>
  <cp:lastModifiedBy>Administrator</cp:lastModifiedBy>
  <cp:lastPrinted>2000-11-03T14:33:29Z</cp:lastPrinted>
  <dcterms:modified xsi:type="dcterms:W3CDTF">2010-10-19T05:40:23Z</dcterms:modified>
  <cp:revision>220</cp:revision>
  <dc:subject/>
  <dc:title> Study </dc:title>
</cp:coreProperties>
</file>