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3ECB-8E86-43AD-B294-0A58CD653B05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C014-0C0C-43B2-BBC6-F806E66318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B583-0B7C-4539-BC4E-10FC0A43C8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BC1D-7324-4DCA-A92E-A4DCAB7158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general course of action or proposed overall direction (“road map”) that a government is pursuing or intends to pursue, and which guides all “downstream” decision making; it usually reflects a long-term vision, defines high-level objectives and sets a number of priorities and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urposeful, forward-looking strategy, setting more precise objectives and coordinated priorities, that elaborates a policy and provides a framework for its implementation; it should ideally link objectives and priorities with the identification of required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, organised agenda or schedule of commitments, investments, projects and/or activities that elaborate and implement a plan and/or policy; it is the operational translation of a strategy, and will usually include a more detailed allocation of resources, as well as specific objectives to be achieved during a given tim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 set of activities that together, based on a detailed design, are expected to lead to the achievement of a specific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17A3-E103-4827-933E-F27F20837F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51C2-75F8-4A69-A298-812D4FE9C5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CFCA-F2C3-4AC0-A03D-1F8403FD89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178A-8B14-4FAF-9D0D-AE6FA9DA47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nd the Socio-economic situation both affect performance of different sectors (e.g. eroded grazing lands affect agriculture [e.g. critical in Lesotho]; large out-migration affects agricultural productivity [e.g. critical in Moldova]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development (planned and unplanned) also have impacts on the state of the environment and on the socio-economic situation (e.g. increase in use of pesticides as a policy for agricultural development can lead to water pollution and health impacts; construction of roads can fragment habitats and biological corrido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lso affects the socio-economic situation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ice ver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.g. low agricultural productivity is an incentive for migration and can also be an incentive for deforestation; water pollution affects heal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ages between the biophysical and socio-economic impacts of climate change are such that any specific effect tends to have implications in multipl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response, to be effective, thus also requires intersectoral coordination and integrated approa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rce resources must be allocated across sectors in the most efficient possible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tegrate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ased on a more comprehensive understanding of linkages, opportunities, risks and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ective respon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better coordination across sectors and between various levels of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icien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more enlightened prioritisation and alloc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more sustainabl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B435-4129-4863-A077-216B27895E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streaming at strategic levels complements adaptation/mitigation projects and supports better integration than standalone climate action plans (although a climate action plan may be an outcome of the mainstreaming pro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provides the overall guiding policy framework within which “lower” levels (sectoral and sub-national) ope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policies and programmes directly contribute to the operationalisation and implementation of national policies/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key functions are best exercised at national level (e.g. collection and analysis of climate-related data, setting up of early warning systems, overall disaster risk reduction plann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absence of a national-level response to climate change, sector-level initiatives may start developing capacities and good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ional as well as sector-specific legislation/regulations: (i) affect vulnerability and adaptive capacity, and  (ii) create incentives and disincentives to engage in climate adaptation and mitig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manages international relations. This is important for shared resource management (e.g. cross-border river basins), for the implementation of international treaties including the UNFCCC, for aid coordination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-specific bodies are sometimes involved in transboundary cooperation on climate-relevant issues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e.g. river basin managemen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0F93-0CE4-45FB-8E62-E3C8206744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9F3B-FE1F-4BEA-BC1B-6DE65CAA7B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F997-1B00-403D-A696-0E8FFCD07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F82F-4858-4548-AC3F-4740CBCC7B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4C3A-EFEB-4BA1-885C-9F9A9A5643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393-2823-4A9B-83AB-365088CC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892-41DF-4A8A-AD26-EBFA2BA0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7A5-D155-45F1-9D32-73F89369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F823-4A6C-4C29-9EB1-B8D35D02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F25E-C8F0-4117-97D4-AD40939B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5154-6776-4169-874A-3F83A4D2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0DCF-30DA-4CD9-AB54-AFB50811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4D69-DA27-4224-AFC8-E0320C2F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2CB4-3849-494E-8AA4-58265AAF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4206-D086-4C48-9D40-EB5A2EC5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8680-81AB-423F-A13F-60925606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F9F7-9AE3-4B75-A6DD-3ED10E98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4404-920C-4A4B-96E9-92D8EA09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AB1F-9363-4405-B1A4-0777B187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24CD-574C-484F-B2D4-6D148412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83DB-061A-4452-A253-B2EF40CE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B2FE-4FE1-4B94-9728-67E6CF07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AB8-3814-49EA-A5F2-41544D23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A57-9B64-40D9-B8F0-2A0DCF4B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328-8BEA-44AA-B8F4-B0A72F1F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91E-7063-4D73-9F17-9EA117CD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7292-A1F7-44BF-B19C-C4155A7A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832-889C-4770-BF0E-E772F5B8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382-F733-409B-BE21-C8C2B351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D9AC-9439-46CB-AA5D-D0A86C49D7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24D2-30DE-4A4F-BBF5-E999A5792EE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national, sector and sub-national policies, strategies and programm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ools for mainstreaming environment and climate change in 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B5E0-D321-4A64-BE10-F381BA22C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ools supporting awarenes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aising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4340-3C9F-415B-BB87-9178855A8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wareness rais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fluence on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Vulnerability and adaptation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cro and meso economic analysi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Demonstration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49568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... are also useful for influencing policies and informing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 flipH="1">
            <a:off x="6481440" y="4053960"/>
            <a:ext cx="2160" cy="3279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ntegrated ecosystem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Knowledge, communication and advocacy strateg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uropeAid’s Guidelines on integration of environment and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BD2D-8DFA-4F61-A8F9-EFA1F8B8CA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20080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eneral environmental issues in cooperation focal area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3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ance for integrating environmental and climate-related aspects in SPSP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elines for integrating environmental and climate related aspects in project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581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uropeAid’s climate chang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ctor scrip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E5F7-47B2-4340-9DEB-24444C69BC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riculture and rural develop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cosystems and biodiversity manag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nergy suppl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frastructure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olid waste manage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 and invest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ater supply and sanitatio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C007-E2E7-40FD-A5F7-5401AC35AD4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trategic environmental 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ment (SE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 iterative and participative proces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alysing potential environmental consequences of proposed policies/plans/programmes, as well as the main environmental opportunities, risks and constraints to be taken into acc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aking into consideration the expected effects of climate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r the purpose of promoting more sustainable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715000"/>
            <a:ext cx="6705360" cy="838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sures that environmental considerations are taken into account EARLY in the policy &amp; planning proces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pproaches to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ased on draft PPP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in parallel to PPP elaboration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fully integra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5910-EC19-49AC-B1C8-DA867A4CC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" descr="SEA process 1.png"/>
          <p:cNvPicPr/>
          <p:nvPr/>
        </p:nvPicPr>
        <p:blipFill>
          <a:blip r:embed="rId1"/>
          <a:stretch/>
        </p:blipFill>
        <p:spPr>
          <a:xfrm>
            <a:off x="395280" y="3213000"/>
            <a:ext cx="3960720" cy="2629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2" descr="SEA process 2.png"/>
          <p:cNvPicPr/>
          <p:nvPr/>
        </p:nvPicPr>
        <p:blipFill>
          <a:blip r:embed="rId2"/>
          <a:stretch/>
        </p:blipFill>
        <p:spPr>
          <a:xfrm>
            <a:off x="4716360" y="3146400"/>
            <a:ext cx="4222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Guidelines for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0C5B-3007-4276-8420-B7755F380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xamples of SE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492E-BC5F-467F-B6DC-AE9810847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Rwanda’s Agricultural Polic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Zambia’s sugar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Sierra Leone’s mining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Example: supporting the development of a national SEA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Chile the EU supported the development of the national SEA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tting up of an SEA department within the environmental author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velopment of regulatory framework and guida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ilot SEAs to build capacities and test the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es potential risks for a programme or project by assessing, in its specific contex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standard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screening questionnair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an be developed to support this exerci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5F6E-DCA4-4908-A0D6-2B21D712B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1295280" y="281952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sure to the effects of C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1295280" y="3581280"/>
            <a:ext cx="2362320" cy="609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sitivity to such eff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1295280" y="4343400"/>
            <a:ext cx="236232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&amp; adaptation capacit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3619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ladaptation risk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361960" cy="1368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acts on clima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GHG emissions/ emission removal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 mainstream environment and climate change at the national, sector and sub-national leve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4F87-F03E-4446-A423-806B63C46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arious tools available, e.g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World Ban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UK climate impacts programm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anida Climate change screening matri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ee, e.g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E3D1-5D33-4CE7-91DC-A60BDEEBB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utcomes of 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D291-33B6-4283-8D82-EA5A926C6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GHG emissions or emission removal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gnifica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1616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780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adaptation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7800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 for reduced vulnerability/enhanced adaptive capacity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532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 specific ac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84560"/>
            <a:ext cx="3780000" cy="79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for reduced maladaptation risk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81480"/>
            <a:ext cx="3780000" cy="43200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7800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 and enhancement of mitigation potenti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to the effects of CC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Risk of maladapt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ne or low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191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ediu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gh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Insignifica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73"/>
                </a:solidFill>
                <a:latin typeface="Calibri"/>
                <a:ea typeface="Calibri"/>
              </a:rPr>
              <a:t>(*) In proportion to the size/scope of the interven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468360" y="1413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s the assessment linked to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468360" y="215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strategy, programme or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Vulnerability and adaptation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33200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468360" y="3591000"/>
            <a:ext cx="287964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plan, programme, strategy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33200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46836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Strategic environmental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Environmental impact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508720" y="6232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  <a:ea typeface="Calibri"/>
              </a:rPr>
              <a:t>(*) With ToRs adapted to include climate-related consider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>
            <a:off x="3347640" y="2457000"/>
            <a:ext cx="648360" cy="252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 flipH="1">
            <a:off x="1907280" y="276336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>
            <a:off x="1906920" y="339228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</p:cNvCxnSpPr>
          <p:nvPr/>
        </p:nvCxnSpPr>
        <p:spPr>
          <a:xfrm flipH="1">
            <a:off x="1907280" y="420192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>
            <a:off x="1906920" y="483192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468360" y="627372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c8c93"/>
                </a:solidFill>
                <a:latin typeface="Calibri"/>
                <a:ea typeface="Calibri"/>
              </a:rPr>
              <a:t>(†) Climate risk screening can be applied before undertaking a more detailed assessment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C5FF-723A-4280-AC22-CC9D92A3F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Integrated ecosystem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in national and sector policies, strategies and program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524B-2E03-44F9-90EE-E61099356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7b"/>
                </a:solidFill>
                <a:latin typeface="Verdana"/>
              </a:rPr>
              <a:t>What can be done and what are the institutional and capacity needs in your country/ 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26792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at strategic planning levels supports more integrated, effective, efficient and sustainable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16680" indent="-2372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top-down and bottom-up approaches are complementary and mainstreaming is also justified at loc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ultiple tools and approaches are available to support environmental and climate change mainstreaming in policies, strategies, programmes and proj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oth ad hoc studies and assessments, and integration of environmental and climate-related considerations in feasibility / formulation studies, support this mainstreaming proc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0C5F-FD58-4BE4-BB24-8AC16FAAB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‘Sector scripts’ series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b) Guidelines on the Integration of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vironment and Climate Change in Development Cooperation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ECD DAC (2006) Applying Strategic Environmental Assessment, good practice guidance for development co-operation. OECD: Pari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3BD6-27B2-43D1-8F8D-6E9DEF5C1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 S. &amp; Hulme M. (2004) Does climate adaptation policy need probabilities? Climate Policy, vol. 4 (2) 107-128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owerpoint presentatio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(2009a) Integrating Climate Change Adaptation into Development Co-operation: Policy guidance. OECD Publishing, Paris. [Read-only, browse-it edition]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DAC (2010) Strategic Environmental Assessment and Adaptation to Climate Change. OECD: Pari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A stocktaking report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B33E-F766-40A0-B299-1D5D90F55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62320"/>
            <a:ext cx="160020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te of the Envir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600200" cy="82404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cio-economic situ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>
            <a:off x="6819480" y="2946240"/>
            <a:ext cx="1080" cy="291240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654280"/>
            <a:ext cx="932760" cy="39744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6357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Sector coordin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llocation of resources across secto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ore: -integrated -effective-efficient-sustainable respon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4CA0-6820-4B09-A586-4699CF6E4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21932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ma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91520" y="306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bio-physical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7010280" y="5029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ocio-economic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V="1">
            <a:off x="8153280" y="3789360"/>
            <a:ext cx="19080" cy="325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153280" y="4761000"/>
            <a:ext cx="0" cy="268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682760" y="2590200"/>
            <a:ext cx="40716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>
            <a:stCxn id="130" idx="2"/>
            <a:endCxn id="109" idx="3"/>
          </p:cNvCxnSpPr>
          <p:nvPr/>
        </p:nvCxnSpPr>
        <p:spPr>
          <a:xfrm rot="5400000">
            <a:off x="7556040" y="5676840"/>
            <a:ext cx="66060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2076480"/>
            <a:ext cx="37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verall guiding policy framework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076480"/>
            <a:ext cx="3959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perationalisation and implementation of national polici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Sector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5800" y="3456000"/>
            <a:ext cx="378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Exercise of some key func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Own initiatives, development of capacities &amp; good practi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Sector-specific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5800" y="277020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National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5800" y="414180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nagement of international rela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72000" y="4135320"/>
            <a:ext cx="4419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Transboundary cooperation on environment and climate-relevant issu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592360" y="51055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pool of resour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1752480" y="5940360"/>
            <a:ext cx="5639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re widespread capacity and institution build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592360" y="553068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ownership of respons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CC73-1869-424A-A508-A420AAA7A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lower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evels of governanc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1981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ub-national and local lev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523880"/>
            <a:ext cx="2210040" cy="20574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st levels for observing / understanding development, environmental and climate change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600200"/>
            <a:ext cx="2133720" cy="129528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ulnerability and adaptive capacity are context-specifi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st options to respond to environmental degradation and adapt to CC require local implement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tential for piloting / pioneering initia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AB8F-BCCE-49BA-B256-EF2F06E0F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ey stakeholders and cross-level intera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39C2-5157-499C-9EE9-580D4627D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878508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Approaches to respond to environmental degradation and adapt to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523880"/>
            <a:ext cx="2895480" cy="9907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level incl. sec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289548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Verdana"/>
              </a:rPr>
              <a:t>Subnational levels (local i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93760" y="354204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Top-dow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Bottom-u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723960" y="2590920"/>
            <a:ext cx="17524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Model- and scenario-drive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hysical impacts and ‘biophysic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19814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Stakeholder approa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revailing socio-economic &amp; environmental conditions and on ‘soci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ational policies &amp; 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Community-based response, pilot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1380-E992-4CCB-A12F-47CF2CA4D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aptation to 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eely adapted from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to environmental degrad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in entry points for mainstreaming i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4524-EB09-4174-B2B9-06058F4EF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Main entry points in th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ational and sector policy cyc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29732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cy cycle stag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onal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tor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formul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long-term vis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year development pla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al plan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alloc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-related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budget envelop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from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ming &amp; implement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-level development plans and budge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ogramm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lhoff &amp; Schaer (2010)  Fig. 1, p. 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28600" y="152280"/>
            <a:ext cx="2057400" cy="152424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cognise environment-development links and climate ris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04920" y="533412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lude environment- and climate-related programmes/ projects (sectoral and cross-sectoral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438280" y="1066680"/>
            <a:ext cx="243864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llocate funding for environmental and climate-specific ac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83808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locate funding to vulnerable or priority sectors/ reg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orporate environment and climate-related activ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380360" y="1600200"/>
            <a:ext cx="1763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de env’t and climate considera-tions in project selection criteri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1FA7-70EA-4313-A23D-619AA6D07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7T23:33:50Z</dcterms:modified>
  <cp:revision>122</cp:revision>
  <dc:subject/>
  <dc:title>Slide 1</dc:title>
</cp:coreProperties>
</file>