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B10A-7171-4E11-819A-54181BCF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2634-72EA-411C-B111-A61A6AFF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B4F-0B14-430F-8A42-DBA0C600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B059-AA57-45A8-A04C-8A9765C9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037-6F6B-42CF-A92E-5D54E9C0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9A2-0284-4DAB-B1E4-2B74673B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3C7-02D2-469E-99DB-182349B2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D088-B496-4336-A61E-A40364EF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ED1-8AF0-4016-A835-DC973DCC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B33A-5901-40E9-8C8B-0A2B7BF8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549-CC57-4CC1-B830-E02B6D38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F07-A8A6-405F-8E43-6FB572A1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ACA1-DF5F-4703-914D-49225C53C7C8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Європейському Союз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704360" cy="5766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792800" y="333360"/>
            <a:ext cx="60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96280" cy="5301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657440" y="549360"/>
            <a:ext cx="60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остий 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652040" y="54936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71640" y="1106640"/>
            <a:ext cx="7623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684360" y="177336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і їздові цикли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Сполучених штатах Амер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50280" cy="482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214080" y="40464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215880" y="404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за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89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Японі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0" t="57850" r="0" b="0"/>
          <a:stretch/>
        </p:blipFill>
        <p:spPr>
          <a:xfrm>
            <a:off x="684360" y="1557360"/>
            <a:ext cx="7851600" cy="36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3354840" y="3333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1:01:02Z</dcterms:created>
  <dc:creator>Користувач</dc:creator>
  <dc:description/>
  <dc:language>en-US</dc:language>
  <cp:lastModifiedBy>Користувач</cp:lastModifiedBy>
  <dcterms:modified xsi:type="dcterms:W3CDTF">2012-07-11T12:36:13Z</dcterms:modified>
  <cp:revision>10</cp:revision>
  <dc:subject/>
  <dc:title>Слайд 1</dc:title>
</cp:coreProperties>
</file>