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BF09-AEAF-485D-90F3-681AB2DC977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43ED-F165-451C-979C-4050BCAC6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0B32-175A-4441-B63C-3EB5B7AA6A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C332-6095-4E42-AB7B-A3C641CB08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A331-D817-4CF9-AD6F-96A45EAB87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5477-07F5-475A-B87F-6A07E453F7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2119-A3A2-4031-B02A-CDD62768D6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462-BB9C-4005-B75F-0F10B36E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1AA-2041-4E42-BAE7-264133F9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BF8-A80E-4457-8E3C-66595E1B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F61-C596-440E-A7F4-97B4742F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F466-C381-426F-9417-34822EA5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F848-FD88-45DD-BFF7-306DE9C9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59CB-0760-4E01-B1D1-B0298910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E18D-135C-4C79-86A8-2DDC6085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128A-E072-4934-B422-B04C2456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9FA8-94DC-46CB-8DBC-5FB958CE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54B5-6EAD-47A2-A2E1-765C0113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34B-656A-492C-BBB2-6BF29DE3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7EBD-40D0-48FA-B08D-A2970FEF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57A8-F14C-49E5-A620-D0B5502F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13B7-559E-4811-BE85-F1249D42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0385-0B9C-4948-9EB9-8F763C23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1CBA-3665-4578-905D-F12B4E64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969-3B30-4B06-AEEA-638FFF36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F1FC-8DDF-4568-A247-196AD265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48C-DFC3-4E40-8B02-468B7BED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A56-C5B7-4F86-9CE0-E2BC7F78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3C4-2CEE-4228-996A-9E8BEC9C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05E-624B-4335-AD30-626CDEE0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73A-64B1-4278-B362-CCD278E2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1835-FA1A-41A6-841D-DCF0B54EFC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CA3E-50A7-46AE-910F-0F5025D1F90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4883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ound Table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onors Experience with PEFA Assessments in Latin America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3680" y="4005000"/>
            <a:ext cx="853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Workshop PEFA in Latin America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Seven Years of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Brussels, 4th December 2012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hairperson: Jose Correia Nunes - EUROPEAID - UNIT A2: Budget Support, Public Finance and Macroeconomic Analysi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9DCF-2BCE-4279-A156-0362A2590AA1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anelis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s Falkner-Olmedo – Inter-American Development Bank – Chief of the Operations Financial Management and Procurement Services Offic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Balakrishnan – World Bank – Latin America and Caribbean Manager at Financial Manage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Pessoa - IMF – Deputy Division Chief at the PFM Division of the Fiscal Affairs Department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Salinas – EuropeAid – Coordinator Budget Support Operations at Latin America and Caribbean Directorat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1C26-A7FF-4D70-85D1-5931FC60D5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Discussions of this round table will cover two topics</a:t>
            </a:r>
            <a:br>
              <a:rPr sz="3200"/>
            </a:b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elopment partners' experience from PEFA assessments to PFM reform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the experience on PEFA repeat assessments has been used to measure progress and support PFM reform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8B18-FC4C-495D-A633-295AAF0038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2 countries in LAC region have seen changes in CPIA ratings for PFM for the period 2001-2011.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      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Source: World Bank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C554-325C-42B4-8523-A923BE0D9D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12680" y="2421000"/>
            <a:ext cx="6944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1052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Out of 75 PEFA assessments in the region since 2006 the EU has been involved in 40 assessment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822C-8C3C-4A42-9274-9E27282DB6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6280" y="2060640"/>
          <a:ext cx="8686800" cy="3922560"/>
        </p:xfrm>
        <a:graphic>
          <a:graphicData uri="http://schemas.openxmlformats.org/drawingml/2006/table">
            <a:tbl>
              <a:tblPr/>
              <a:tblGrid>
                <a:gridCol w="1868760"/>
                <a:gridCol w="1063440"/>
                <a:gridCol w="892080"/>
                <a:gridCol w="841320"/>
                <a:gridCol w="1571760"/>
                <a:gridCol w="717480"/>
                <a:gridCol w="890640"/>
                <a:gridCol w="841320"/>
              </a:tblGrid>
              <a:tr h="703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1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ill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, DFID, IMF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/Ongoing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b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errat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ze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Chiclayo Municipalit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2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Gobierno Regional Amazon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Vincent and Grenadin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s and Caicos Islands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U heavily involved in supporting PFM reforms in the reg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1773360"/>
          <a:ext cx="7490160" cy="493848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cus of suppor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xpenditure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mbi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ght against corrup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ivil society oversight of the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Dominican Republic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ublic procur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cu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formation Management Syste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l Salv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scal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Hondur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icaragu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aragua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Support to </a:t>
                      </a: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reform</a:t>
                      </a: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programm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B0DF-45C2-4B53-A0A8-8762373689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casado</cp:lastModifiedBy>
  <cp:lastPrinted>2012-12-03T18:16:55Z</cp:lastPrinted>
  <dcterms:modified xsi:type="dcterms:W3CDTF">2012-12-04T17:24:39Z</dcterms:modified>
  <cp:revision>333</cp:revision>
  <dc:subject/>
  <dc:title>Slide 1</dc:title>
</cp:coreProperties>
</file>