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44674-D528-4AAA-BBA4-9DF0AEA7A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019D8-D63E-4E33-84F8-012BE7AB55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97603-6B1D-438A-901B-DD5D871B9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CAAED-5288-4DEE-89F8-2933670C5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A633D1E-43C4-4051-9DD0-8526B8DE1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E167E-C906-4BCD-9012-18D47B48D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9246182-C6B5-4C83-A328-9AAB44B9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F8A8F-1E85-4C45-8682-BDA918DB35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A90F3-0676-43B0-A1BC-2CDBE03B2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5092A-D835-4796-A032-58F1AEC905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00A42-70AD-4CE4-B7EC-9691C63BF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BC774-603E-46DD-945A-455A25955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CD8AB-4FB6-4780-A5EB-AAF362787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56B11-E306-4A50-A383-DF498C54F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7D7C5-B647-44D6-A852-44F7CC4E2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B5D9F-6054-49A2-8597-E7CB16630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7F165-2A23-4533-BCBD-ABCFCF7F9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51EFB-1B3A-4628-BF42-8F3E4F42CB52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550BC-539F-4C47-9B30-166AA102F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105E5-D442-4CFC-8A21-B77AACDA8201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FFE30-E3D3-43ED-939F-390660C178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89EB8-0F3A-4EC1-A3C3-56DE586A2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1FCB9-19B9-47DC-83DB-D8BC675FB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84CB6-18F2-4424-B8E2-676F814B4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B0D22-A833-4A32-8864-B557894A5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F269D-5E74-4DB0-BDBC-56A4E78952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0E9E3-F0C2-4DCE-8668-044D9DD8CD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B3A-2BED-4BED-B8C0-C8CF5142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14E-5351-4C2E-A883-BFA8F34B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D3A-2368-453B-AB21-ED23A12E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672-281B-4035-94EC-ABA2AA85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A3EE-6455-46FC-8A73-A8096581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0E54-39C3-4A75-85EE-E9DD8463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E147-C88D-485A-B759-49839737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79DC-1B17-4620-9645-34CF265D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AB72-8D71-4DF8-916A-E0040EA5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26C5-E792-4BB1-8C29-A27D687B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7764-7A2E-452C-A3A9-13613FBE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828-6978-4447-807E-4C62BF28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EFB4-C770-44A2-8145-389386B3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8284-893A-47B4-9DC9-BCDF64B6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9040-2A22-4217-8814-1F040BC6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8E4B-17CF-46F1-A304-75CF5F4B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54EC-32D1-4A6B-AC88-FF254B0B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FC19-38B4-47AA-B8CC-797D0F3B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8A4B-76CA-4148-969B-3F068F7A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AB16-864F-46F4-817F-282B105B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C3475-F922-4969-B6C9-03A931D8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9B6F-EB08-4CF3-80BA-2F3A3741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518-D3D8-43FD-92A5-56F86C04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0C63-DABE-4BDC-8555-18D4227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B11E-B8D5-4B5D-AF34-D53E8985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4798-B219-4F5E-B79E-3EC4E8C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9E76-EFA3-4F60-9238-C83516CC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44EC-4EC3-4A62-AFE6-D0223148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AC2F-98F8-49FD-8B52-BDBB2C7F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7F82-E5F0-4DEB-965E-5B06BA83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480-EB0E-4AEB-8718-092C6086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893-F293-496C-B150-F8E52149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880-14C3-43A6-B636-9124D604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121-656A-4F47-BC98-9BF96DE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EB3-2A44-4227-8D57-2E75D25A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E0A-282F-4A7A-8A70-C567EC04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016A7-4338-465A-9C68-34A3F71F82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A8AE4-A509-444D-B9BD-C93601991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6C330-3C06-485E-93FC-CE84393A2AA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45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47" name="Rectangle 46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47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49" name="Rectangle 48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49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0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C408E-F6D6-4189-A1B4-9D21B81328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0089B-9BEE-4FF4-BDDC-6851250FA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2c8"/>
                </a:solidFill>
                <a:latin typeface="Verdana"/>
              </a:rPr>
              <a:t>ENGAGING STRATEGICALLY </a:t>
            </a:r>
            <a:br>
              <a:rPr sz="2500"/>
            </a:br>
            <a:r>
              <a:rPr b="1" lang="en-US" sz="2500" spc="-1" strike="noStrike">
                <a:solidFill>
                  <a:srgbClr val="0082c8"/>
                </a:solidFill>
                <a:latin typeface="Verdana"/>
              </a:rPr>
              <a:t>WITH </a:t>
            </a:r>
            <a:br>
              <a:rPr sz="2500"/>
            </a:br>
            <a:r>
              <a:rPr b="1" lang="en-US" sz="2500" spc="-1" strike="noStrike">
                <a:solidFill>
                  <a:srgbClr val="0082c8"/>
                </a:solidFill>
                <a:latin typeface="Verdana"/>
              </a:rPr>
              <a:t>NON-STATE ACTORS IN NEW AID MODALITIES</a:t>
            </a:r>
            <a:br>
              <a:rPr sz="2500"/>
            </a:br>
            <a:endParaRPr b="1" lang="en-US" sz="25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3156120"/>
            <a:ext cx="8229600" cy="29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SESSION 1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y this Focus on Non-State Actors in 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Budget Support and SPSP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Brussels, 11 May 2011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5400" y="188640"/>
            <a:ext cx="85122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8000"/>
                </a:solidFill>
                <a:latin typeface="Verdana"/>
              </a:rPr>
              <a:t>Potential entry points for NSA engagement with the state</a:t>
            </a:r>
            <a:endParaRPr b="1" lang="en-US" sz="2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3429000" y="2743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CLOU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CUCKO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132000" y="1273320"/>
            <a:ext cx="3024360" cy="1089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RS - Informing and pushing for pro-poor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57200" y="3933720"/>
            <a:ext cx="252108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the monitors - parlia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the implementation (of the budget, of the policies, 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248520" y="2349360"/>
            <a:ext cx="2644560" cy="1079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ing pro-poor choices in the state budg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300720" y="4191120"/>
            <a:ext cx="2521080" cy="1295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ontributing to the implementation of the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95280" y="2276640"/>
            <a:ext cx="252108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tc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8000"/>
                </a:solidFill>
                <a:latin typeface="Verdana"/>
              </a:rPr>
              <a:t>Yet in real life, many obstacles to overcome</a:t>
            </a:r>
            <a:endParaRPr b="1" lang="en-US" sz="2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ARE Y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KIDDING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political will behind pro-poor policie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 parliamentarians respond to demands from citizen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2743200" y="2590920"/>
            <a:ext cx="1368360" cy="93636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4111560" y="2089080"/>
            <a:ext cx="1555920" cy="106056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5181480" y="2895480"/>
            <a:ext cx="1368720" cy="93672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9"/>
          <p:cNvSpPr/>
          <p:nvPr/>
        </p:nvSpPr>
        <p:spPr>
          <a:xfrm>
            <a:off x="4191120" y="4724280"/>
            <a:ext cx="1368360" cy="93672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590920" y="4038480"/>
            <a:ext cx="1368360" cy="93672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Content Placeholder 5" descr=""/>
          <p:cNvPicPr/>
          <p:nvPr/>
        </p:nvPicPr>
        <p:blipFill>
          <a:blip r:embed="rId1"/>
          <a:stretch/>
        </p:blipFill>
        <p:spPr>
          <a:xfrm>
            <a:off x="212760" y="1523880"/>
            <a:ext cx="8242200" cy="508968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54B1C-35CB-4E9C-8DAA-7F81E7FF53A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3. Understanding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state-society relations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In order to overcome these obstacles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And in order to make and more effective and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ARTICIPATO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Two more P-words matter: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OWER and POLIT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ffects the opportunities for NSAs to participat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re the relations between state and society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o holds power over who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re the resources, and how are these distribu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re incentives? Why is it difficult for citizens to work collectively? (example: conditional cash transfer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</a:rPr>
              <a:t>Page </a:t>
            </a:r>
            <a:fld id="{E8577C26-0DDC-4609-88A5-D787F901E3A7}" type="slidenum">
              <a:rPr b="0" lang="nl-BE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86EA9-CE5B-499D-B44B-672170A0A5A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In other words:</a:t>
            </a:r>
            <a:endParaRPr b="1" lang="en-US" sz="2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Better understanding of “politics” helps explain where aid has been effective and where no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olitical economy analysi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elps to understand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f and how state-society bargaining takes pla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Whether, how and around which interests citizens organise collectivel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ow elites reach political settlements, for example over taxes, or over the distribution of resources such as ai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Who in and outside government backs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poverty reduction strategie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sector policies,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f there ar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coalition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r no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whether there is a credible budget to cover the costs…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s knowledge is very 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country or context specifi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ch political economy analysis is already being promoted through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Project and Programme Cycle Management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ces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 Green Paper process on th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Future of Budget Support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and the inputs to the context analysis for the new guidelin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th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Governance Analysis Framework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r sector oper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328C6-0E5F-4839-845D-E918FF91B67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. What is the basic perspective of the guidance you can find in this Resource Document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600200"/>
            <a:ext cx="8229600" cy="169236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BASIC PERSPECTIVE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own Arrow 6"/>
          <p:cNvSpPr/>
          <p:nvPr/>
        </p:nvSpPr>
        <p:spPr>
          <a:xfrm>
            <a:off x="3057480" y="352908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own Arrow 8"/>
          <p:cNvSpPr/>
          <p:nvPr/>
        </p:nvSpPr>
        <p:spPr>
          <a:xfrm>
            <a:off x="5319720" y="3529080"/>
            <a:ext cx="804960" cy="1166760"/>
          </a:xfrm>
          <a:prstGeom prst="downArrow">
            <a:avLst>
              <a:gd name="adj1" fmla="val 50000"/>
              <a:gd name="adj2" fmla="val 388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0" y="506556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eat NSAs as 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2274840" y="5065560"/>
            <a:ext cx="243540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4710240" y="524340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lore and support full potential within and beyond 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own Arrow 12"/>
          <p:cNvSpPr/>
          <p:nvPr/>
        </p:nvSpPr>
        <p:spPr>
          <a:xfrm>
            <a:off x="7659720" y="3529080"/>
            <a:ext cx="804960" cy="1166760"/>
          </a:xfrm>
          <a:prstGeom prst="downArrow">
            <a:avLst>
              <a:gd name="adj1" fmla="val 50000"/>
              <a:gd name="adj2" fmla="val 388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6953400" y="524340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no Harm-  Prepared to play new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own Arrow 14"/>
          <p:cNvSpPr/>
          <p:nvPr/>
        </p:nvSpPr>
        <p:spPr>
          <a:xfrm>
            <a:off x="641520" y="352908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lternate Process 2"/>
          <p:cNvSpPr/>
          <p:nvPr/>
        </p:nvSpPr>
        <p:spPr>
          <a:xfrm>
            <a:off x="1604880" y="3726000"/>
            <a:ext cx="4830840" cy="9144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Treat NSAs as actors in their own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lternate Process 3"/>
          <p:cNvSpPr/>
          <p:nvPr/>
        </p:nvSpPr>
        <p:spPr>
          <a:xfrm>
            <a:off x="1604880" y="1882800"/>
            <a:ext cx="4830840" cy="152856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ssess and analyze NSA interests, values, histories, incentives, roles, functions, governance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lternate Process 5"/>
          <p:cNvSpPr/>
          <p:nvPr/>
        </p:nvSpPr>
        <p:spPr>
          <a:xfrm>
            <a:off x="1604880" y="57312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Recognize the diversity of NS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19"/>
          <p:cNvSpPr/>
          <p:nvPr/>
        </p:nvSpPr>
        <p:spPr>
          <a:xfrm>
            <a:off x="1173240" y="86040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20"/>
          <p:cNvSpPr/>
          <p:nvPr/>
        </p:nvSpPr>
        <p:spPr>
          <a:xfrm>
            <a:off x="1173240" y="234792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21"/>
          <p:cNvSpPr/>
          <p:nvPr/>
        </p:nvSpPr>
        <p:spPr>
          <a:xfrm>
            <a:off x="1173240" y="391464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6858000" y="753480"/>
            <a:ext cx="186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eat NSAs as  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lternate Process 2"/>
          <p:cNvSpPr/>
          <p:nvPr/>
        </p:nvSpPr>
        <p:spPr>
          <a:xfrm>
            <a:off x="1604880" y="3726000"/>
            <a:ext cx="4830840" cy="9144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Incentivize continued lear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lternate Process 3"/>
          <p:cNvSpPr/>
          <p:nvPr/>
        </p:nvSpPr>
        <p:spPr>
          <a:xfrm>
            <a:off x="1604880" y="1882800"/>
            <a:ext cx="4830840" cy="152856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Introduce systematically political economy and governance analy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lternate Process 5"/>
          <p:cNvSpPr/>
          <p:nvPr/>
        </p:nvSpPr>
        <p:spPr>
          <a:xfrm>
            <a:off x="1604880" y="57312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Shift from a normative to an analytical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8"/>
          <p:cNvSpPr/>
          <p:nvPr/>
        </p:nvSpPr>
        <p:spPr>
          <a:xfrm>
            <a:off x="1173240" y="86040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9"/>
          <p:cNvSpPr/>
          <p:nvPr/>
        </p:nvSpPr>
        <p:spPr>
          <a:xfrm>
            <a:off x="1173240" y="234792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10"/>
          <p:cNvSpPr/>
          <p:nvPr/>
        </p:nvSpPr>
        <p:spPr>
          <a:xfrm>
            <a:off x="1173240" y="391464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6858000" y="418320"/>
            <a:ext cx="20462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alyze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tat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society relations systema-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lternate Process 2"/>
          <p:cNvSpPr/>
          <p:nvPr/>
        </p:nvSpPr>
        <p:spPr>
          <a:xfrm>
            <a:off x="1604880" y="3195720"/>
            <a:ext cx="4830840" cy="12096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ssess opportunities and necessities to engage with NSAs outside of the context of new aid moda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lternate Process 3"/>
          <p:cNvSpPr/>
          <p:nvPr/>
        </p:nvSpPr>
        <p:spPr>
          <a:xfrm>
            <a:off x="1604880" y="1882800"/>
            <a:ext cx="4830840" cy="982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Balance support for state and non-state actors in a purposeful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lternate Process 5"/>
          <p:cNvSpPr/>
          <p:nvPr/>
        </p:nvSpPr>
        <p:spPr>
          <a:xfrm>
            <a:off x="1604880" y="573120"/>
            <a:ext cx="4830840" cy="10033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Combine the full range of modalities and instruments in a strategic w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lternate Process 7"/>
          <p:cNvSpPr/>
          <p:nvPr/>
        </p:nvSpPr>
        <p:spPr>
          <a:xfrm>
            <a:off x="1604880" y="4713120"/>
            <a:ext cx="4830840" cy="11908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pply the principle of ‘sequencing’ of support to NSAs in the context of N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9"/>
          <p:cNvSpPr/>
          <p:nvPr/>
        </p:nvSpPr>
        <p:spPr>
          <a:xfrm>
            <a:off x="1173240" y="86040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0"/>
          <p:cNvSpPr/>
          <p:nvPr/>
        </p:nvSpPr>
        <p:spPr>
          <a:xfrm>
            <a:off x="1173240" y="210168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11"/>
          <p:cNvSpPr/>
          <p:nvPr/>
        </p:nvSpPr>
        <p:spPr>
          <a:xfrm>
            <a:off x="1173240" y="3467160"/>
            <a:ext cx="431640" cy="49032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4534">
                <a:moveTo>
                  <a:pt x="2160" y="0"/>
                </a:moveTo>
                <a:arcTo wR="2160" hR="2160" stAng="16200000" swAng="-5400000"/>
                <a:lnTo>
                  <a:pt x="0" y="22374"/>
                </a:lnTo>
                <a:arcTo wR="2160" hR="2160" stAng="10800000" swAng="-5400000"/>
                <a:lnTo>
                  <a:pt x="19440" y="24534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12"/>
          <p:cNvSpPr/>
          <p:nvPr/>
        </p:nvSpPr>
        <p:spPr>
          <a:xfrm>
            <a:off x="1173240" y="4970520"/>
            <a:ext cx="431640" cy="49032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4534">
                <a:moveTo>
                  <a:pt x="2160" y="0"/>
                </a:moveTo>
                <a:arcTo wR="2160" hR="2160" stAng="16200000" swAng="-5400000"/>
                <a:lnTo>
                  <a:pt x="0" y="22374"/>
                </a:lnTo>
                <a:arcTo wR="2160" hR="2160" stAng="10800000" swAng="-5400000"/>
                <a:lnTo>
                  <a:pt x="19440" y="24534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6858000" y="894240"/>
            <a:ext cx="20764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plore and support the full potential of NSA involvement in and beyond 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Purpose of this session</a:t>
            </a:r>
            <a:endParaRPr b="1" lang="en-US" sz="36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8708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Introduce a topic and a publication that seek to contribute to more effective aid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Answer the question </a:t>
            </a:r>
            <a:r>
              <a:rPr b="0" i="1" lang="en-US" sz="2600" spc="-1" strike="noStrike">
                <a:solidFill>
                  <a:srgbClr val="103c72"/>
                </a:solidFill>
                <a:latin typeface="Verdana"/>
              </a:rPr>
              <a:t>why it is relevant to focus on more strategic engagement with NSAs when applying New Aid Modalities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Kick-start a seminar that will help enrich the tools and get a better feel of what is useful 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lternate Process 2"/>
          <p:cNvSpPr/>
          <p:nvPr/>
        </p:nvSpPr>
        <p:spPr>
          <a:xfrm>
            <a:off x="1604880" y="272556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Prepare for playing new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lternate Process 3"/>
          <p:cNvSpPr/>
          <p:nvPr/>
        </p:nvSpPr>
        <p:spPr>
          <a:xfrm>
            <a:off x="1604880" y="175572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Systematically apply a ‘political economy approach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lternate Process 5"/>
          <p:cNvSpPr/>
          <p:nvPr/>
        </p:nvSpPr>
        <p:spPr>
          <a:xfrm>
            <a:off x="1604880" y="57312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void a technocratic approach to aid effectiveness and the role of N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15"/>
          <p:cNvSpPr/>
          <p:nvPr/>
        </p:nvSpPr>
        <p:spPr>
          <a:xfrm>
            <a:off x="1173240" y="860400"/>
            <a:ext cx="431640" cy="300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6"/>
          <p:cNvSpPr/>
          <p:nvPr/>
        </p:nvSpPr>
        <p:spPr>
          <a:xfrm>
            <a:off x="1173240" y="1946160"/>
            <a:ext cx="43164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17"/>
          <p:cNvSpPr/>
          <p:nvPr/>
        </p:nvSpPr>
        <p:spPr>
          <a:xfrm>
            <a:off x="1173240" y="3056040"/>
            <a:ext cx="43164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0"/>
          <p:cNvSpPr/>
          <p:nvPr/>
        </p:nvSpPr>
        <p:spPr>
          <a:xfrm>
            <a:off x="6858000" y="829800"/>
            <a:ext cx="186696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Do no harm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Be prepared to play new 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i="1" lang="en-US" sz="3500" spc="-1" strike="noStrike">
                <a:solidFill>
                  <a:srgbClr val="008000"/>
                </a:solidFill>
                <a:latin typeface="Calibri"/>
              </a:rPr>
              <a:t>EC New Roles</a:t>
            </a:r>
            <a:endParaRPr b="1" lang="en-US" sz="35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901800"/>
            <a:ext cx="7986600" cy="56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37960" y="1282680"/>
          <a:ext cx="8448840" cy="5533920"/>
        </p:xfrm>
        <a:graphic>
          <a:graphicData uri="http://schemas.openxmlformats.org/drawingml/2006/table">
            <a:tbl>
              <a:tblPr/>
              <a:tblGrid>
                <a:gridCol w="4224600"/>
                <a:gridCol w="4224240"/>
              </a:tblGrid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ls and gui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3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at NSAs as 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ping method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vernance Analysis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Methodological too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 2, 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yze state-society relations systemati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vernance Analysis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ological too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e and support the full potential of NSAs involvement in and beyond N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Key questions to be posed throughout the policy cycl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pter 4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Methodological too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Dialogue with NSAs, capacity development, combining tools, instruments and approach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pter 4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 Harm-be prepared for new ro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EC new ro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pter 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Methodological too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. So how do we go about it?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ols and practical guidanc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156E9-D446-43DF-B126-CB4D4D377FB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. Are there questions? Shoot (so to speak)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262" name="Picture 5" descr="DSC00796"/>
          <p:cNvPicPr/>
          <p:nvPr/>
        </p:nvPicPr>
        <p:blipFill>
          <a:blip r:embed="rId1"/>
          <a:stretch/>
        </p:blipFill>
        <p:spPr>
          <a:xfrm>
            <a:off x="1249200" y="1371600"/>
            <a:ext cx="633888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Structure of this session</a:t>
            </a:r>
            <a:endParaRPr b="1" lang="en-US" sz="36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8708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7430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The new </a:t>
            </a:r>
            <a:r>
              <a:rPr b="0" i="1" lang="en-US" sz="2600" spc="-1" strike="noStrike">
                <a:solidFill>
                  <a:srgbClr val="103c72"/>
                </a:solidFill>
                <a:latin typeface="Verdana"/>
              </a:rPr>
              <a:t>Reference Document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7430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The added value to and </a:t>
            </a:r>
            <a:r>
              <a:rPr b="0" i="1" lang="en-US" sz="2600" spc="-1" strike="noStrike">
                <a:solidFill>
                  <a:srgbClr val="103c72"/>
                </a:solidFill>
                <a:latin typeface="Verdana"/>
              </a:rPr>
              <a:t>fit </a:t>
            </a: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with other EC/EU policies and agendas?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7430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What is the basic perspective of the strategic and operational guidance you can find in this document?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A. Content of the new reference document</a:t>
            </a:r>
            <a:endParaRPr b="1" lang="en-US" sz="36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648000">
              <a:lnSpc>
                <a:spcPts val="2798"/>
              </a:lnSpc>
              <a:spcAft>
                <a:spcPts val="601"/>
              </a:spcAft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Verdana"/>
              </a:rPr>
              <a:t>Key question it seeks to answer</a:t>
            </a:r>
            <a:r>
              <a:rPr b="0" lang="en-US" sz="2800" spc="-1" strike="noStrike">
                <a:solidFill>
                  <a:srgbClr val="103c72"/>
                </a:solidFill>
                <a:latin typeface="Verdana"/>
              </a:rPr>
              <a:t>: </a:t>
            </a: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How can the EC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engage strategically and operationally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with both the state and non-state actor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on various development related issue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when it provides Budget Support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or engages in Sector Policy Support Programmes?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B. Where is the </a:t>
            </a:r>
            <a:r>
              <a:rPr b="1" i="1" lang="en-US" sz="3200" spc="-1" strike="noStrike">
                <a:solidFill>
                  <a:srgbClr val="0000ff"/>
                </a:solidFill>
                <a:latin typeface="Verdana"/>
              </a:rPr>
              <a:t>fit 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with other EC/EU policies or agendas?</a:t>
            </a:r>
            <a:endParaRPr b="1" lang="en-US" sz="32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145" name="Content Placeholder 5" descr=""/>
          <p:cNvPicPr/>
          <p:nvPr/>
        </p:nvPicPr>
        <p:blipFill>
          <a:blip r:embed="rId1"/>
          <a:stretch/>
        </p:blipFill>
        <p:spPr>
          <a:xfrm>
            <a:off x="212760" y="1523880"/>
            <a:ext cx="8242200" cy="50896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88649-64AC-4772-832A-EFFDE8E6B57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148" name="Content Placeholder 5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315280" cy="48895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BDAB3-0ED1-4F9D-91E6-A2E8A310C93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F4FE3-BEAC-4A5C-8B27-97E3747E62F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1. More effective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aid and </a:t>
            </a:r>
            <a:r>
              <a:rPr b="1" i="1" lang="en-US" sz="2400" spc="-1" strike="noStrike">
                <a:solidFill>
                  <a:srgbClr val="008000"/>
                </a:solidFill>
                <a:latin typeface="Verdana"/>
              </a:rPr>
              <a:t>New Aid Modalities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417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and other donors look for ways to make their aid more effec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se efforts include among other things ways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lign behind country policies (if these reduce povert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lign behind country systems (if there are serious efforts to make these systems work for the poo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Reduce the burden on partners (through harmonisa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move from government ownership to country ownership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from mutual to domestic accountabil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3c72"/>
                </a:solidFill>
                <a:latin typeface="Verdana"/>
              </a:rPr>
              <a:t>New Aid Modalitie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clude Budget Support and Sector Policy Support Program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Content Placeholder 5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8235720" cy="52308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E245E-C6F6-4C7B-B425-47ED58A7D17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 is a multi-actor participatory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 is a multi-stakeholder process where the central state is one of the 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165480" y="5164200"/>
            <a:ext cx="2835360" cy="147312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U is committed to strengthening NSAs to fully participate in political, economic and social dialogue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vil Society is recognised in all its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bbe0e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Down Arrow 15" descr=""/>
          <p:cNvPicPr/>
          <p:nvPr/>
        </p:nvPicPr>
        <p:blipFill>
          <a:blip r:embed="rId1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164" name="Down Arrow 16" descr=""/>
          <p:cNvPicPr/>
          <p:nvPr/>
        </p:nvPicPr>
        <p:blipFill>
          <a:blip r:embed="rId2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165" name="Down Arrow 17" descr=""/>
          <p:cNvPicPr/>
          <p:nvPr/>
        </p:nvPicPr>
        <p:blipFill>
          <a:blip r:embed="rId3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166" name="Down Arrow 18" descr=""/>
          <p:cNvPicPr/>
          <p:nvPr/>
        </p:nvPicPr>
        <p:blipFill>
          <a:blip r:embed="rId4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167" name="Down Arrow 19" descr=""/>
          <p:cNvPicPr/>
          <p:nvPr/>
        </p:nvPicPr>
        <p:blipFill>
          <a:blip r:embed="rId5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2. Participatory development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and Non-State Actors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33:41Z</dcterms:created>
  <dc:creator>Jean Bossuyt</dc:creator>
  <dc:description/>
  <dc:language>en-US</dc:language>
  <cp:lastModifiedBy>Directory Administrator</cp:lastModifiedBy>
  <cp:lastPrinted>2011-05-11T06:08:17Z</cp:lastPrinted>
  <dcterms:modified xsi:type="dcterms:W3CDTF">2011-05-11T06:08:30Z</dcterms:modified>
  <cp:revision>79</cp:revision>
  <dc:subject/>
  <dc:title>Engaging Non-State Actors in New Aid Modalities  for better results and accountability</dc:title>
</cp:coreProperties>
</file>