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F9F96-031B-4128-BA3D-D074E7545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8E32B-96BD-431A-94CD-8DC49A98C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82F6B-0B92-485C-811E-AD25A3C54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85145-BFA9-4EA9-925A-2460311A9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DF15D36-241D-4E7E-9564-E3A95D4B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7392D-D170-4B0B-8215-17339B38B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A8977C-9EE9-4464-A324-AD8EA601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4B6B6-12B1-4E11-A5BC-555C2D8D4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CCC2D-ED5F-4C67-A9D0-0464743E9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DD4B0-9EA3-49DE-B59B-395B83801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0D6F2-0EC2-40B3-B29B-49022CEBE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B5DAC-1C69-43D9-8BA8-2F9D8DCD8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2A8B5-C5DA-4B40-A8AB-8BA25DF2F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0F10F-3FC1-4AB2-900B-9EA1458D3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FB2E9-1D3E-4623-BEA9-CAE440D22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2D30B-2470-4D85-9C95-B2ACEA2F8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CAE79-B0B0-496C-9C74-4AC3EA5C9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86C0B-F4AF-40C6-8096-EEA67971912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6C9F7-B82A-4C76-A63B-1FA8DC938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6CB4F-144F-4089-9AC9-E0AB6DF1F2E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0F9C0-FF4F-4033-887F-05F46A19A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E2EF1-5970-4114-B516-035163E83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B6923-96D4-4C20-8E34-2EB2C062E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6ECDA-717D-4650-A3DF-1EB531D3C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5B169-DF02-4EC1-AE20-E487B6A93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452BC-5894-467B-9762-8DF3E5C1A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75E4A-7EB5-4083-9149-53BC99987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A0-03A0-4898-AB81-5802B5CE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E42-E7F3-4A05-8F38-24968545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26F-7EC7-4729-8F2B-07F2D4C9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750-420D-4E99-932E-0B1FB989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B0B-9665-49DF-A1D0-D23C2B82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778-D2C5-43E3-8C16-353A7C4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5989-0033-4A0D-8A1B-54B15B9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45C-11AB-45A4-BD98-40390A4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0200-04A6-44E4-AC53-2CF0DE9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A0B-D3F2-41FE-9229-A6C35783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9B7-5810-48F3-8B2F-1F14AD1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4A6-55AB-42C6-AA37-7D6C10D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2CBB-38A3-456B-AA9D-EDFF0B3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F6CB-5BBE-4B7C-8A04-099AFC3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9E1-C8F4-4438-A0B7-531B4BC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F4C-5498-4B08-9078-32689CA1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246-7D3E-4DF8-9B10-7CD76ABF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E598-4682-4749-A219-676EBEC8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3C85-BA69-461C-986E-6A01F08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0C21-F51F-4B78-9195-97C7109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3F64-5B81-45F7-BDD9-B7275BF2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D41E-188A-4D4E-9D50-F82FDA8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7E4-BDC3-4C12-8397-C55D46E1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5D61-0D23-4CB0-A624-48304A4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3B56-8754-428C-BCA1-CC2870F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822C-93BA-44DD-873F-61AC5A1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E369-CAB7-411C-8639-06B9E8E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78AD-3923-42C0-89B0-462A402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2699-7B23-4C68-A345-F387824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E5E6-E841-4F00-A12E-E28480C1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F39-FDA2-49C8-841C-951B42A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37B-FCDE-4C03-BBA8-B81849B3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D87-D7C5-4FB3-AB4D-E85E2C8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522-7481-4A36-A7EC-6CDEC81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D11-5FD5-407A-9C57-577F84A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AD5-D262-4F76-A912-F3829EF3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B66BE-1300-452D-9A0E-64A788BE1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56963-A09A-4CE6-A9F7-62113106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149CF-4FCD-4445-96DC-4D5490178E6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5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7" name="Rectangle 46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47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49" name="Rectangle 48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49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0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1FACA-6E07-4221-A2CB-7B25BD99F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71DA5-1C2C-4884-A798-177C81B40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ENGAGING STRATEGICALLY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WITH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NON-STATE ACTORS IN NEW AID MODALITIES</a:t>
            </a:r>
            <a:br>
              <a:rPr sz="2500"/>
            </a:br>
            <a:endParaRPr b="1" lang="en-US" sz="25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1561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SESSION 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y this Focus on Non-State Actors in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Budget Support and SPSP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Brussels, 11 May 201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5400" y="188640"/>
            <a:ext cx="85122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Potential entry points for NSA engagement with the stat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429000" y="2743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LOU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UCKO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132000" y="1273320"/>
            <a:ext cx="3024360" cy="1089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S - Informing and pushing for pro-poor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7200" y="393372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monitors - parlia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implementation (of the budget, of the policies, 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248520" y="2349360"/>
            <a:ext cx="2644560" cy="1079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pro-poor choices in the state budg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00720" y="4191120"/>
            <a:ext cx="252108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ing to the implementation of the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95280" y="227664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tc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Yet in real life, many obstacles to overcom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ARE Y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KIDDI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political will behind pro-poor polici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 parliamentarians respond to demands from citize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743200" y="2590920"/>
            <a:ext cx="1368360" cy="9363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4111560" y="2089080"/>
            <a:ext cx="1555920" cy="10605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5181480" y="2895480"/>
            <a:ext cx="136872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4191120" y="47242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590920" y="40384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B6986-9BF2-46DC-B92F-89A83F1AA30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3. Understanding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tate-society relations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In order to overcome these obstacle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And in order to make and more effective an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ARTICIPATO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Two more P-words matter: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WER and POLIT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ffects the opportunities for NSAs to participat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lations between state and society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holds power over who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sources, and how are these distribu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incentives? Why is it difficult for citizens to work collectively? (example: conditional cash transfer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</a:rPr>
              <a:t>Page </a:t>
            </a:r>
            <a:fld id="{B18215DD-DF87-41C9-8980-E6A5670BF8B6}" type="slidenum">
              <a:rPr b="0" lang="nl-BE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3C9EF-66F6-44E9-B796-D705F681BA1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n other words: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etter understanding of “politics” helps explain where aid has been effective and where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litical economy analysi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elps to understan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and how state-society bargaining takes pla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ether, how and around which interests citizens organise collectivel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ow elites reach political settlements, for example over taxes, or over the distribution of resources such as a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o in and outside government backs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overty reduction strateg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sector policies,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there ar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coalition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r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whether there is a credible budget to cover the costs…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s knowledge is very 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country or context specifi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ch political economy analysis is already being promoted through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roject and Programme Cycle Management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ces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Green Paper process on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Future of Budget Support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and the inputs to the context analysis for the new guidelin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Governance Analysis Framework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r sector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14551-D627-4446-A0AD-6F4C2D5F823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. What is the basic perspective of the guidance you can find in this Resource Document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600200"/>
            <a:ext cx="8229600" cy="16923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BASIC PERSPECTIVE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own Arrow 6"/>
          <p:cNvSpPr/>
          <p:nvPr/>
        </p:nvSpPr>
        <p:spPr>
          <a:xfrm>
            <a:off x="3057480" y="352908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own Arrow 8"/>
          <p:cNvSpPr/>
          <p:nvPr/>
        </p:nvSpPr>
        <p:spPr>
          <a:xfrm>
            <a:off x="531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0" y="506556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eat NSAs as 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2274840" y="5065560"/>
            <a:ext cx="243540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471024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lore and support full potential within and beyond 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wn Arrow 12"/>
          <p:cNvSpPr/>
          <p:nvPr/>
        </p:nvSpPr>
        <p:spPr>
          <a:xfrm>
            <a:off x="765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695340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no Harm-  Prepared to play new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14"/>
          <p:cNvSpPr/>
          <p:nvPr/>
        </p:nvSpPr>
        <p:spPr>
          <a:xfrm>
            <a:off x="641520" y="352908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Treat NSAs as actors in their own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and analyze NSA interests, values, histories, incentives, roles, functions, governanc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Recognize the diversity of N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1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20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21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6858000" y="753480"/>
            <a:ext cx="186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eat NSAs as  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centivize continued lear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troduce systematically political economy and governance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hift from a normative to an analytical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9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10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6858000" y="418320"/>
            <a:ext cx="204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alyze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at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society relations systema-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lternate Process 2"/>
          <p:cNvSpPr/>
          <p:nvPr/>
        </p:nvSpPr>
        <p:spPr>
          <a:xfrm>
            <a:off x="1604880" y="3195720"/>
            <a:ext cx="4830840" cy="12096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opportunities and necessities to engage with NSAs outside of the context of new aid moda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lternate Process 3"/>
          <p:cNvSpPr/>
          <p:nvPr/>
        </p:nvSpPr>
        <p:spPr>
          <a:xfrm>
            <a:off x="1604880" y="1882800"/>
            <a:ext cx="4830840" cy="982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Balance support for state and non-state actors in a purposeful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lternate Process 5"/>
          <p:cNvSpPr/>
          <p:nvPr/>
        </p:nvSpPr>
        <p:spPr>
          <a:xfrm>
            <a:off x="1604880" y="573120"/>
            <a:ext cx="4830840" cy="10033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Combine the full range of modalities and instruments in a strategic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lternate Process 7"/>
          <p:cNvSpPr/>
          <p:nvPr/>
        </p:nvSpPr>
        <p:spPr>
          <a:xfrm>
            <a:off x="1604880" y="4713120"/>
            <a:ext cx="4830840" cy="11908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pply the principle of ‘sequencing’ of support to NSAs in the context of N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0"/>
          <p:cNvSpPr/>
          <p:nvPr/>
        </p:nvSpPr>
        <p:spPr>
          <a:xfrm>
            <a:off x="1173240" y="210168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11"/>
          <p:cNvSpPr/>
          <p:nvPr/>
        </p:nvSpPr>
        <p:spPr>
          <a:xfrm>
            <a:off x="1173240" y="346716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2"/>
          <p:cNvSpPr/>
          <p:nvPr/>
        </p:nvSpPr>
        <p:spPr>
          <a:xfrm>
            <a:off x="1173240" y="497052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858000" y="894240"/>
            <a:ext cx="2076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plore and support the full potential of NSA involvement in and beyond 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urpos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Introduce a topic and a publication that seek to contribute to more effective aid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Answer the question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why it is relevant to focus on more strategic engagement with NSAs when applying New Aid Modalities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Kick-start a seminar that will help enrich the tools and get a better feel of what is useful 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lternate Process 2"/>
          <p:cNvSpPr/>
          <p:nvPr/>
        </p:nvSpPr>
        <p:spPr>
          <a:xfrm>
            <a:off x="1604880" y="272556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Prepare for playing new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lternate Process 3"/>
          <p:cNvSpPr/>
          <p:nvPr/>
        </p:nvSpPr>
        <p:spPr>
          <a:xfrm>
            <a:off x="1604880" y="175572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ystematically apply a ‘political economy approac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void a technocratic approach to aid effectiveness and the role of N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15"/>
          <p:cNvSpPr/>
          <p:nvPr/>
        </p:nvSpPr>
        <p:spPr>
          <a:xfrm>
            <a:off x="1173240" y="860400"/>
            <a:ext cx="431640" cy="300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6"/>
          <p:cNvSpPr/>
          <p:nvPr/>
        </p:nvSpPr>
        <p:spPr>
          <a:xfrm>
            <a:off x="1173240" y="1946160"/>
            <a:ext cx="43164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17"/>
          <p:cNvSpPr/>
          <p:nvPr/>
        </p:nvSpPr>
        <p:spPr>
          <a:xfrm>
            <a:off x="1173240" y="3056040"/>
            <a:ext cx="43164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858000" y="829800"/>
            <a:ext cx="1866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Do no harm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Be prepared to play new 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i="1" lang="en-US" sz="3500" spc="-1" strike="noStrike">
                <a:solidFill>
                  <a:srgbClr val="008000"/>
                </a:solidFill>
                <a:latin typeface="Calibri"/>
              </a:rPr>
              <a:t>EC New Roles</a:t>
            </a:r>
            <a:endParaRPr b="1" lang="en-US" sz="35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901800"/>
            <a:ext cx="7986600" cy="56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37960" y="1282680"/>
          <a:ext cx="8448840" cy="5533920"/>
        </p:xfrm>
        <a:graphic>
          <a:graphicData uri="http://schemas.openxmlformats.org/drawingml/2006/table">
            <a:tbl>
              <a:tblPr/>
              <a:tblGrid>
                <a:gridCol w="4224600"/>
                <a:gridCol w="4224240"/>
              </a:tblGrid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ls and gu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3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at NSAs as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ping 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 2,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state-society relations systemati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e and support the full potential of NSAs involvement in and beyond N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Key questions to be posed throughout the policy cyc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Dialogue with NSAs, capacity development, combining tools, instruments and approach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 Harm-be prepared for new ro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EC new ro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. So how do we go about it?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ols and practical guidanc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48C0C-99D2-4D2D-861E-3242F113BE5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. Are there questions? Shoot (so to speak)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62" name="Picture 5" descr="DSC00796"/>
          <p:cNvPicPr/>
          <p:nvPr/>
        </p:nvPicPr>
        <p:blipFill>
          <a:blip r:embed="rId1"/>
          <a:stretch/>
        </p:blipFill>
        <p:spPr>
          <a:xfrm>
            <a:off x="1249200" y="1371600"/>
            <a:ext cx="633888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tructur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new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Reference Document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added value to and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fit </a:t>
            </a: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ith other EC/EU policies and agendas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hat is the basic perspective of the strategic and operational guidance you can find in this document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A. Content of the new reference document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648000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Verdana"/>
              </a:rPr>
              <a:t>Key question it seeks to answer</a:t>
            </a:r>
            <a:r>
              <a:rPr b="0" lang="en-US" sz="2800" spc="-1" strike="noStrike">
                <a:solidFill>
                  <a:srgbClr val="103c72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How can the EC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engage strategically and operationall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ith both the state and non-state acto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n various development related issue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hen it provides Budget Suppor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r engages in Sector Policy Support Programmes?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B. Where is the </a:t>
            </a: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fit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with other EC/EU policies or agendas?</a:t>
            </a:r>
            <a:endParaRPr b="1" lang="en-US" sz="32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5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23BEA-DC9D-4806-A573-1D1B538E269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8" name="Content Placeholder 5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15280" cy="48895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2060B-CC5B-4623-BA9A-54C044C2DFF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FF78E-3401-40FB-B463-4B9FC1D1A28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1. More effective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id and </a:t>
            </a:r>
            <a:r>
              <a:rPr b="1" i="1" lang="en-US" sz="2400" spc="-1" strike="noStrike">
                <a:solidFill>
                  <a:srgbClr val="008000"/>
                </a:solidFill>
                <a:latin typeface="Verdana"/>
              </a:rPr>
              <a:t>New Aid Modalitie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417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and other donors look for ways to make their aid more effec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se efforts include among other things ways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policies (if these reduce pover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systems (if there are serious efforts to make these systems work for the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duce the burden on partners (through harmonis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move from government ownership to country ownership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from mutual to domestic account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3c72"/>
                </a:solidFill>
                <a:latin typeface="Verdana"/>
              </a:rPr>
              <a:t>New Aid Modalit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clude Budget Support and Sector Policy Support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Content Placeholder 5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8235720" cy="52308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8B27A-5632-4F19-B013-5472F41DD51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actor participator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stakeholder process where the central state is one of the 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165480" y="5164200"/>
            <a:ext cx="2835360" cy="147312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U is committed to strengthening NSAs to fully participate in political, economic and social dialogu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vil Society is recognised in all its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bbe0e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own Arrow 15" descr=""/>
          <p:cNvPicPr/>
          <p:nvPr/>
        </p:nvPicPr>
        <p:blipFill>
          <a:blip r:embed="rId1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164" name="Down Arrow 16" descr=""/>
          <p:cNvPicPr/>
          <p:nvPr/>
        </p:nvPicPr>
        <p:blipFill>
          <a:blip r:embed="rId2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165" name="Down Arrow 17" descr=""/>
          <p:cNvPicPr/>
          <p:nvPr/>
        </p:nvPicPr>
        <p:blipFill>
          <a:blip r:embed="rId3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166" name="Down Arrow 18" descr=""/>
          <p:cNvPicPr/>
          <p:nvPr/>
        </p:nvPicPr>
        <p:blipFill>
          <a:blip r:embed="rId4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167" name="Down Arrow 19" descr=""/>
          <p:cNvPicPr/>
          <p:nvPr/>
        </p:nvPicPr>
        <p:blipFill>
          <a:blip r:embed="rId5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2. Participatory development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nd Non-State Actor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3:41Z</dcterms:created>
  <dc:creator>Jean Bossuyt</dc:creator>
  <dc:description/>
  <dc:language>en-US</dc:language>
  <cp:lastModifiedBy>Directory Administrator</cp:lastModifiedBy>
  <cp:lastPrinted>2011-05-11T06:08:17Z</cp:lastPrinted>
  <dcterms:modified xsi:type="dcterms:W3CDTF">2011-05-11T06:08:30Z</dcterms:modified>
  <cp:revision>79</cp:revision>
  <dc:subject/>
  <dc:title>Engaging Non-State Actors in New Aid Modalities  for better results and accountability</dc:title>
</cp:coreProperties>
</file>