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pct" ContentType="image/x-pict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57EDC-3CA2-4517-84ED-DBC0E693F9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5587C-C5A9-4514-B01F-9E3639B046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190A3-7EC8-4397-ACCE-3974829611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64E46-5F89-4F09-A29C-D93B9F8BF8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401E118-9925-4CC1-AB9D-764EE98C4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7147E2-B3A3-4026-BFCE-6EF8C57A09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CE8934A-5B92-4CA8-8BEF-8E9F28336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8D4C4-78AC-490F-A758-6CF0B6E659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A0782-0DAB-44AF-98F2-C1495E2326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74376-00E2-402C-BC77-61086B1499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F7D56-3FF3-4EE9-91C1-9578546295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5A80F-ED19-4B7F-AE5F-05A9D531B7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3673F-0EA8-471E-86C6-9DADAA9274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4B1E0-2B4C-4ECC-8C34-9548E1361B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BDA8F-9464-49DB-A90A-8851A2158C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40B59-09A3-4009-9DC5-46864D600F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05676-0A49-4584-A96D-7BBE8BAC27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C4854-8E2D-4815-8391-E49F545A8177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2BF1B-EF68-4213-80F2-143DE569A7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649DB-89AA-4A03-ACDC-9697F359F0AD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244D5-C7C8-4929-9779-A549BDC75E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3D67A-6817-4741-A460-46AD6F1230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A99DF-0C8A-4B4E-90BF-DFD81678BD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90BC5A-AC31-4D92-AD7C-90CCC1CB02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C49C4-560A-4343-B550-44489F2484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0F4C5-ED83-452E-93E9-49958121B7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93B1C-3176-44C4-A486-CED74D8E10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76F-AB55-4C60-A909-C2649B80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CCF-986D-4125-99C6-548EE686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0CA-842A-44C3-BFC3-4C7659FE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176-C2BE-45BD-B76C-1EF6D745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5727-DD17-48D0-AA0D-BBEF08BC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1169-F148-4C7A-AA9D-538BCF41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DFBC-E50C-44BB-A101-B939E1F8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7355-BF22-4A60-84AB-3DC75852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2F23-924E-4DCB-9ACB-D7C0C462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A579-836D-4578-94D7-8ECBE83C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A921-8CC8-4F6B-9819-3D0C0588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8A67-5B7C-4B14-BBAF-CC248A9D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FE12-84E2-47D9-A153-C9F3B370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75A3-1240-4E0D-80F7-DD619872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5B95-B7EF-4DB7-A73D-B04CE621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33A7-7DA7-41AE-A5CE-1B5D4E09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F25A-C4BC-472C-8F24-32F7640C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D3CF7-D96A-4ECB-B1E7-FE6F2CE1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034B2-921F-48EE-9F12-015DC5FE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2AF7F-A7F7-46B4-BAD5-B7854DF9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4AE78-8E59-41BB-BA2A-CC9C1A67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04A4E-9377-48E4-89F9-C8D2EF05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8975-F752-4081-955B-F028F086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C76E1-0102-4E7D-BD11-7E723E3C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E14EE-665C-4F94-A7C1-E69B5D02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7EC75-33FF-4045-9666-C7162600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66384-FA2B-43DF-B8D5-5B48A36B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EDBEE-02E7-4049-8CF6-2478A9F4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3C2AB-F97E-4491-849A-6A8C4EB4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D343B-99DD-40E7-AB9E-4FE1667A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2A2-3AAC-46B8-926A-3175F67B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2AF7-BB30-4F83-9B9D-CFEB89D7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5498-D74D-4BBF-A1C8-2C12802C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C0C-D82D-4DD6-85E8-FDACD692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6DA-A96B-4319-848C-749D112C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571-5832-4256-A340-E1FCA1F4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5CE7A-6AA4-41CC-820D-BF2DE11266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66115-DBF2-4C5B-8C41-3BE71EE86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90E1D-1272-4F85-B7EE-1BC399BD2FB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45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47" name="Rectangle 46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47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49" name="Rectangle 48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49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0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698C0-70E5-44ED-A4F7-F34B6000D0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A1135D-A743-4B69-A3C3-840CD0537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2c8"/>
                </a:solidFill>
                <a:latin typeface="Verdana"/>
              </a:rPr>
              <a:t>ENGAGING STRATEGICALLY </a:t>
            </a:r>
            <a:br>
              <a:rPr sz="2500"/>
            </a:br>
            <a:r>
              <a:rPr b="1" lang="en-US" sz="2500" spc="-1" strike="noStrike">
                <a:solidFill>
                  <a:srgbClr val="0082c8"/>
                </a:solidFill>
                <a:latin typeface="Verdana"/>
              </a:rPr>
              <a:t>WITH </a:t>
            </a:r>
            <a:br>
              <a:rPr sz="2500"/>
            </a:br>
            <a:r>
              <a:rPr b="1" lang="en-US" sz="2500" spc="-1" strike="noStrike">
                <a:solidFill>
                  <a:srgbClr val="0082c8"/>
                </a:solidFill>
                <a:latin typeface="Verdana"/>
              </a:rPr>
              <a:t>NON-STATE ACTORS IN NEW AID MODALITIES</a:t>
            </a:r>
            <a:br>
              <a:rPr sz="2500"/>
            </a:br>
            <a:endParaRPr b="1" lang="en-US" sz="25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3156120"/>
            <a:ext cx="8229600" cy="29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SESSION 1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Why this Focus on Non-State Actors in 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Budget Support and SPSPs?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3c72"/>
                </a:solidFill>
                <a:latin typeface="Verdana"/>
              </a:rPr>
              <a:t>Brussels, 11 May 2011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5400" y="188640"/>
            <a:ext cx="85122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8000"/>
                </a:solidFill>
                <a:latin typeface="Verdana"/>
              </a:rPr>
              <a:t>Potential entry points for NSA engagement with the state</a:t>
            </a:r>
            <a:endParaRPr b="1" lang="en-US" sz="22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70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"/>
          <p:cNvSpPr/>
          <p:nvPr/>
        </p:nvSpPr>
        <p:spPr>
          <a:xfrm>
            <a:off x="3429000" y="2743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Times New Roman"/>
              </a:rPr>
              <a:t>CLOU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Times New Roman"/>
              </a:rPr>
              <a:t>CUCKO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132000" y="1273320"/>
            <a:ext cx="3024360" cy="1089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RS - Informing and pushing for pro-poor polic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457200" y="3933720"/>
            <a:ext cx="252108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the monitors - parlia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the implementation (of the budget, of the policies, 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6248520" y="2349360"/>
            <a:ext cx="2644560" cy="1079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ncouraging pro-poor choices in the state budg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6300720" y="4191120"/>
            <a:ext cx="2521080" cy="1295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ontributing to the implementation of the polic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395280" y="2276640"/>
            <a:ext cx="252108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tc…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8000"/>
                </a:solidFill>
                <a:latin typeface="Verdana"/>
              </a:rPr>
              <a:t>Yet in real life, many obstacles to overcome</a:t>
            </a:r>
            <a:endParaRPr b="1" lang="en-US" sz="22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Times New Roman"/>
              </a:rPr>
              <a:t>ARE YOU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Times New Roman"/>
              </a:rPr>
              <a:t>KIDDING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re political will behind pro-poor policie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3933720"/>
            <a:ext cx="297828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oes civil society have the capacities/interest to engage with the stat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Is the budget transparent? Does it reflect priorities? Is it credi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re an open and transparent dialogue with NSA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o parliamentarians respond to demands from citizen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9"/>
          <p:cNvSpPr/>
          <p:nvPr/>
        </p:nvSpPr>
        <p:spPr>
          <a:xfrm>
            <a:off x="2743200" y="2590920"/>
            <a:ext cx="1368360" cy="936360"/>
          </a:xfrm>
          <a:prstGeom prst="irregularSeal2">
            <a:avLst/>
          </a:prstGeom>
          <a:gradFill rotWithShape="0">
            <a:gsLst>
              <a:gs pos="0">
                <a:srgbClr val="69170e"/>
              </a:gs>
              <a:gs pos="50000">
                <a:srgbClr val="e3321f"/>
              </a:gs>
              <a:gs pos="100000">
                <a:srgbClr val="69170e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9"/>
          <p:cNvSpPr/>
          <p:nvPr/>
        </p:nvSpPr>
        <p:spPr>
          <a:xfrm>
            <a:off x="4111560" y="2089080"/>
            <a:ext cx="1555920" cy="1060560"/>
          </a:xfrm>
          <a:prstGeom prst="irregularSeal2">
            <a:avLst/>
          </a:prstGeom>
          <a:gradFill rotWithShape="0">
            <a:gsLst>
              <a:gs pos="0">
                <a:srgbClr val="69170e"/>
              </a:gs>
              <a:gs pos="50000">
                <a:srgbClr val="e3321f"/>
              </a:gs>
              <a:gs pos="100000">
                <a:srgbClr val="69170e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5181480" y="2895480"/>
            <a:ext cx="1368720" cy="936720"/>
          </a:xfrm>
          <a:prstGeom prst="irregularSeal2">
            <a:avLst/>
          </a:prstGeom>
          <a:gradFill rotWithShape="0">
            <a:gsLst>
              <a:gs pos="0">
                <a:srgbClr val="69170e"/>
              </a:gs>
              <a:gs pos="50000">
                <a:srgbClr val="e3321f"/>
              </a:gs>
              <a:gs pos="100000">
                <a:srgbClr val="69170e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9"/>
          <p:cNvSpPr/>
          <p:nvPr/>
        </p:nvSpPr>
        <p:spPr>
          <a:xfrm>
            <a:off x="4191120" y="4724280"/>
            <a:ext cx="1368360" cy="936720"/>
          </a:xfrm>
          <a:prstGeom prst="irregularSeal2">
            <a:avLst/>
          </a:prstGeom>
          <a:gradFill rotWithShape="0">
            <a:gsLst>
              <a:gs pos="0">
                <a:srgbClr val="69170e"/>
              </a:gs>
              <a:gs pos="50000">
                <a:srgbClr val="e3321f"/>
              </a:gs>
              <a:gs pos="100000">
                <a:srgbClr val="69170e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9"/>
          <p:cNvSpPr/>
          <p:nvPr/>
        </p:nvSpPr>
        <p:spPr>
          <a:xfrm>
            <a:off x="2590920" y="4038480"/>
            <a:ext cx="1368360" cy="936720"/>
          </a:xfrm>
          <a:prstGeom prst="irregularSeal2">
            <a:avLst/>
          </a:prstGeom>
          <a:gradFill rotWithShape="0">
            <a:gsLst>
              <a:gs pos="0">
                <a:srgbClr val="69170e"/>
              </a:gs>
              <a:gs pos="50000">
                <a:srgbClr val="e3321f"/>
              </a:gs>
              <a:gs pos="100000">
                <a:srgbClr val="69170e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Content Placeholder 5" descr=""/>
          <p:cNvPicPr/>
          <p:nvPr/>
        </p:nvPicPr>
        <p:blipFill>
          <a:blip r:embed="rId1"/>
          <a:stretch/>
        </p:blipFill>
        <p:spPr>
          <a:xfrm>
            <a:off x="212760" y="1523880"/>
            <a:ext cx="8242200" cy="508968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08FA6-AAEF-44CB-BE53-FA1467E448A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3. Understanding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state-society relations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523880"/>
            <a:ext cx="8785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In order to overcome these obstacles,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And in order to make and more effective and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PARTICIPATOR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Two more P-words matter: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POWER and POLIT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hat affects the opportunities for NSAs to participat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hat are the relations between state and society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ho holds power over whom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ho exerts pressure on whom? Who influences whom? With what mean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hat are the resources, and how are these distribut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hat are incentives? Why is it difficult for citizens to work collectively? (example: conditional cash transfers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hat is the history? The history of struggle? The history of social or other movements? The history of repression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000" spc="-1" strike="noStrike">
                <a:solidFill>
                  <a:srgbClr val="00a6c8"/>
                </a:solidFill>
                <a:latin typeface="Verdana"/>
              </a:rPr>
              <a:t>Page </a:t>
            </a:r>
            <a:fld id="{B2F44E17-78E9-49FB-BAA2-E974A374D38A}" type="slidenum">
              <a:rPr b="0" lang="nl-BE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37189-8930-41D3-8FAB-ADDCA6983E8C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Verdana"/>
              </a:rPr>
              <a:t>In other words:</a:t>
            </a:r>
            <a:endParaRPr b="1" lang="en-US" sz="22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Better understanding of “politics” helps explain where aid has been effective and where no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political economy analysis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helps to understand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f and how state-society bargaining takes pla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Whether, how and around which interests citizens organise collectively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How elites reach political settlements, for example over taxes, or over the distribution of resources such as ai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Who in and outside government backs </a:t>
            </a:r>
            <a:r>
              <a:rPr b="0" i="1" lang="en-US" sz="2000" spc="-1" strike="noStrike">
                <a:solidFill>
                  <a:srgbClr val="103c72"/>
                </a:solidFill>
                <a:latin typeface="Verdana"/>
              </a:rPr>
              <a:t>poverty reduction strategies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nd </a:t>
            </a:r>
            <a:r>
              <a:rPr b="0" i="1" lang="en-US" sz="2000" spc="-1" strike="noStrike">
                <a:solidFill>
                  <a:srgbClr val="103c72"/>
                </a:solidFill>
                <a:latin typeface="Verdana"/>
              </a:rPr>
              <a:t>sector policies,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f there are </a:t>
            </a:r>
            <a:r>
              <a:rPr b="0" i="1" lang="en-US" sz="2000" spc="-1" strike="noStrike">
                <a:solidFill>
                  <a:srgbClr val="103c72"/>
                </a:solidFill>
                <a:latin typeface="Verdana"/>
              </a:rPr>
              <a:t>coalitions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or no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nd whether there is a credible budget to cover the costs…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s knowledge is very </a:t>
            </a: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country or context specific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uch political economy analysis is already being promoted through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e </a:t>
            </a:r>
            <a:r>
              <a:rPr b="0" i="1" lang="en-US" sz="2000" spc="-1" strike="noStrike">
                <a:solidFill>
                  <a:srgbClr val="103c72"/>
                </a:solidFill>
                <a:latin typeface="Verdana"/>
              </a:rPr>
              <a:t>Project and Programme Cycle Management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roces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e Green Paper process on the </a:t>
            </a:r>
            <a:r>
              <a:rPr b="0" i="1" lang="en-US" sz="2000" spc="-1" strike="noStrike">
                <a:solidFill>
                  <a:srgbClr val="103c72"/>
                </a:solidFill>
                <a:latin typeface="Verdana"/>
              </a:rPr>
              <a:t>Future of Budget Support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 and the inputs to the context analysis for the new guideline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nd the </a:t>
            </a:r>
            <a:r>
              <a:rPr b="0" i="1" lang="en-US" sz="2000" spc="-1" strike="noStrike">
                <a:solidFill>
                  <a:srgbClr val="103c72"/>
                </a:solidFill>
                <a:latin typeface="Verdana"/>
              </a:rPr>
              <a:t>Governance Analysis Framework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r sector oper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88531-F019-4D0D-A81C-EBD9E90F517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C. What is the basic perspective of the guidance you can find in this Resource Document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64960" y="1028880"/>
            <a:ext cx="88790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57200" y="1600200"/>
            <a:ext cx="8229600" cy="169236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BASIC PERSPECTIVE</a:t>
            </a: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own Arrow 6"/>
          <p:cNvSpPr/>
          <p:nvPr/>
        </p:nvSpPr>
        <p:spPr>
          <a:xfrm>
            <a:off x="3057480" y="3529080"/>
            <a:ext cx="731880" cy="1166760"/>
          </a:xfrm>
          <a:prstGeom prst="downArrow">
            <a:avLst>
              <a:gd name="adj1" fmla="val 50000"/>
              <a:gd name="adj2" fmla="val 525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own Arrow 8"/>
          <p:cNvSpPr/>
          <p:nvPr/>
        </p:nvSpPr>
        <p:spPr>
          <a:xfrm>
            <a:off x="5319720" y="3529080"/>
            <a:ext cx="804960" cy="1166760"/>
          </a:xfrm>
          <a:prstGeom prst="downArrow">
            <a:avLst>
              <a:gd name="adj1" fmla="val 50000"/>
              <a:gd name="adj2" fmla="val 388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9"/>
          <p:cNvSpPr/>
          <p:nvPr/>
        </p:nvSpPr>
        <p:spPr>
          <a:xfrm>
            <a:off x="0" y="5065560"/>
            <a:ext cx="227484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eat NSAs as 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2274840" y="5065560"/>
            <a:ext cx="2435400" cy="146052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alyze state-society relations syste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1"/>
          <p:cNvSpPr/>
          <p:nvPr/>
        </p:nvSpPr>
        <p:spPr>
          <a:xfrm>
            <a:off x="4710240" y="524340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lore and support full potential within and beyond 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own Arrow 12"/>
          <p:cNvSpPr/>
          <p:nvPr/>
        </p:nvSpPr>
        <p:spPr>
          <a:xfrm>
            <a:off x="7659720" y="3529080"/>
            <a:ext cx="804960" cy="1166760"/>
          </a:xfrm>
          <a:prstGeom prst="downArrow">
            <a:avLst>
              <a:gd name="adj1" fmla="val 50000"/>
              <a:gd name="adj2" fmla="val 388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"/>
          <p:cNvSpPr/>
          <p:nvPr/>
        </p:nvSpPr>
        <p:spPr>
          <a:xfrm>
            <a:off x="6953400" y="524340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 no Harm-  Prepared to play new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own Arrow 14"/>
          <p:cNvSpPr/>
          <p:nvPr/>
        </p:nvSpPr>
        <p:spPr>
          <a:xfrm>
            <a:off x="641520" y="3529080"/>
            <a:ext cx="731520" cy="1166760"/>
          </a:xfrm>
          <a:prstGeom prst="downArrow">
            <a:avLst>
              <a:gd name="adj1" fmla="val 50000"/>
              <a:gd name="adj2" fmla="val 5255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lternate Process 2"/>
          <p:cNvSpPr/>
          <p:nvPr/>
        </p:nvSpPr>
        <p:spPr>
          <a:xfrm>
            <a:off x="1604880" y="3726000"/>
            <a:ext cx="4830840" cy="9144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Treat NSAs as actors in their own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lternate Process 3"/>
          <p:cNvSpPr/>
          <p:nvPr/>
        </p:nvSpPr>
        <p:spPr>
          <a:xfrm>
            <a:off x="1604880" y="1882800"/>
            <a:ext cx="4830840" cy="152856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Assess and analyze NSA interests, values, histories, incentives, roles, functions, governance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lternate Process 5"/>
          <p:cNvSpPr/>
          <p:nvPr/>
        </p:nvSpPr>
        <p:spPr>
          <a:xfrm>
            <a:off x="1604880" y="57312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Recognize the diversity of NS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19"/>
          <p:cNvSpPr/>
          <p:nvPr/>
        </p:nvSpPr>
        <p:spPr>
          <a:xfrm>
            <a:off x="1173240" y="86040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ounded Rectangle 20"/>
          <p:cNvSpPr/>
          <p:nvPr/>
        </p:nvSpPr>
        <p:spPr>
          <a:xfrm>
            <a:off x="1173240" y="234792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21"/>
          <p:cNvSpPr/>
          <p:nvPr/>
        </p:nvSpPr>
        <p:spPr>
          <a:xfrm>
            <a:off x="1173240" y="391464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6858000" y="753480"/>
            <a:ext cx="1866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reat NSAs as  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lternate Process 2"/>
          <p:cNvSpPr/>
          <p:nvPr/>
        </p:nvSpPr>
        <p:spPr>
          <a:xfrm>
            <a:off x="1604880" y="3726000"/>
            <a:ext cx="4830840" cy="9144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Incentivize continued lear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lternate Process 3"/>
          <p:cNvSpPr/>
          <p:nvPr/>
        </p:nvSpPr>
        <p:spPr>
          <a:xfrm>
            <a:off x="1604880" y="1882800"/>
            <a:ext cx="4830840" cy="152856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Introduce systematically political economy and governance analys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lternate Process 5"/>
          <p:cNvSpPr/>
          <p:nvPr/>
        </p:nvSpPr>
        <p:spPr>
          <a:xfrm>
            <a:off x="1604880" y="57312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Shift from a normative to an analytical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8"/>
          <p:cNvSpPr/>
          <p:nvPr/>
        </p:nvSpPr>
        <p:spPr>
          <a:xfrm>
            <a:off x="1173240" y="86040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9"/>
          <p:cNvSpPr/>
          <p:nvPr/>
        </p:nvSpPr>
        <p:spPr>
          <a:xfrm>
            <a:off x="1173240" y="234792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ounded Rectangle 10"/>
          <p:cNvSpPr/>
          <p:nvPr/>
        </p:nvSpPr>
        <p:spPr>
          <a:xfrm>
            <a:off x="1173240" y="391464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6858000" y="418320"/>
            <a:ext cx="204624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nalyze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tat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-society relations systema-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lternate Process 2"/>
          <p:cNvSpPr/>
          <p:nvPr/>
        </p:nvSpPr>
        <p:spPr>
          <a:xfrm>
            <a:off x="1604880" y="3195720"/>
            <a:ext cx="4830840" cy="12096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Assess opportunities and necessities to engage with NSAs outside of the context of new aid modal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lternate Process 3"/>
          <p:cNvSpPr/>
          <p:nvPr/>
        </p:nvSpPr>
        <p:spPr>
          <a:xfrm>
            <a:off x="1604880" y="1882800"/>
            <a:ext cx="4830840" cy="982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Balance support for state and non-state actors in a purposeful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lternate Process 5"/>
          <p:cNvSpPr/>
          <p:nvPr/>
        </p:nvSpPr>
        <p:spPr>
          <a:xfrm>
            <a:off x="1604880" y="573120"/>
            <a:ext cx="4830840" cy="10033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Combine the full range of modalities and instruments in a strategic wa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lternate Process 7"/>
          <p:cNvSpPr/>
          <p:nvPr/>
        </p:nvSpPr>
        <p:spPr>
          <a:xfrm>
            <a:off x="1604880" y="4713120"/>
            <a:ext cx="4830840" cy="11908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Apply the principle of ‘sequencing’ of support to NSAs in the context of N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9"/>
          <p:cNvSpPr/>
          <p:nvPr/>
        </p:nvSpPr>
        <p:spPr>
          <a:xfrm>
            <a:off x="1173240" y="86040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0"/>
          <p:cNvSpPr/>
          <p:nvPr/>
        </p:nvSpPr>
        <p:spPr>
          <a:xfrm>
            <a:off x="1173240" y="2101680"/>
            <a:ext cx="431640" cy="49068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52">
                <a:moveTo>
                  <a:pt x="2160" y="0"/>
                </a:moveTo>
                <a:arcTo wR="2160" hR="2160" stAng="16200000" swAng="-5400000"/>
                <a:lnTo>
                  <a:pt x="0" y="22392"/>
                </a:lnTo>
                <a:arcTo wR="2160" hR="2160" stAng="10800000" swAng="-5400000"/>
                <a:lnTo>
                  <a:pt x="19440" y="2455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ounded Rectangle 11"/>
          <p:cNvSpPr/>
          <p:nvPr/>
        </p:nvSpPr>
        <p:spPr>
          <a:xfrm>
            <a:off x="1173240" y="3467160"/>
            <a:ext cx="431640" cy="49032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320"/>
              <a:gd name="textAreaBottom" fmla="*/ 477720 h 490320"/>
            </a:gdLst>
            <a:ahLst/>
            <a:rect l="textAreaLeft" t="textAreaTop" r="textAreaRight" b="textAreaBottom"/>
            <a:pathLst>
              <a:path w="21600" h="24534">
                <a:moveTo>
                  <a:pt x="2160" y="0"/>
                </a:moveTo>
                <a:arcTo wR="2160" hR="2160" stAng="16200000" swAng="-5400000"/>
                <a:lnTo>
                  <a:pt x="0" y="22374"/>
                </a:lnTo>
                <a:arcTo wR="2160" hR="2160" stAng="10800000" swAng="-5400000"/>
                <a:lnTo>
                  <a:pt x="19440" y="24534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ounded Rectangle 12"/>
          <p:cNvSpPr/>
          <p:nvPr/>
        </p:nvSpPr>
        <p:spPr>
          <a:xfrm>
            <a:off x="1173240" y="4970520"/>
            <a:ext cx="431640" cy="490320"/>
          </a:xfrm>
          <a:custGeom>
            <a:avLst/>
            <a:gdLst>
              <a:gd name="textAreaLeft" fmla="*/ 12600 w 431640"/>
              <a:gd name="textAreaRight" fmla="*/ 419040 w 431640"/>
              <a:gd name="textAreaTop" fmla="*/ 12600 h 490320"/>
              <a:gd name="textAreaBottom" fmla="*/ 477720 h 490320"/>
            </a:gdLst>
            <a:ahLst/>
            <a:rect l="textAreaLeft" t="textAreaTop" r="textAreaRight" b="textAreaBottom"/>
            <a:pathLst>
              <a:path w="21600" h="24534">
                <a:moveTo>
                  <a:pt x="2160" y="0"/>
                </a:moveTo>
                <a:arcTo wR="2160" hR="2160" stAng="16200000" swAng="-5400000"/>
                <a:lnTo>
                  <a:pt x="0" y="22374"/>
                </a:lnTo>
                <a:arcTo wR="2160" hR="2160" stAng="10800000" swAng="-5400000"/>
                <a:lnTo>
                  <a:pt x="19440" y="24534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3"/>
          <p:cNvSpPr/>
          <p:nvPr/>
        </p:nvSpPr>
        <p:spPr>
          <a:xfrm>
            <a:off x="6858000" y="894240"/>
            <a:ext cx="20764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xplore and support the full potential of NSA involvement in and beyond N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Purpose of this session</a:t>
            </a:r>
            <a:endParaRPr b="1" lang="en-US" sz="36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38708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ts val="2798"/>
              </a:lnSpc>
              <a:spcAft>
                <a:spcPts val="1800"/>
              </a:spcAft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3c72"/>
                </a:solidFill>
                <a:latin typeface="Verdana"/>
              </a:rPr>
              <a:t>Introduce a topic and a publication that seek to contribute to more effective aid</a:t>
            </a: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800"/>
              </a:spcAft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3c72"/>
                </a:solidFill>
                <a:latin typeface="Verdana"/>
              </a:rPr>
              <a:t>Answer the question </a:t>
            </a:r>
            <a:r>
              <a:rPr b="0" i="1" lang="en-US" sz="2600" spc="-1" strike="noStrike">
                <a:solidFill>
                  <a:srgbClr val="103c72"/>
                </a:solidFill>
                <a:latin typeface="Verdana"/>
              </a:rPr>
              <a:t>why it is relevant to focus on more strategic engagement with NSAs when applying New Aid Modalities</a:t>
            </a: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800"/>
              </a:spcAft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3c72"/>
                </a:solidFill>
                <a:latin typeface="Verdana"/>
              </a:rPr>
              <a:t>Kick-start a seminar that will help enrich the tools and get a better feel of what is useful </a:t>
            </a: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lternate Process 2"/>
          <p:cNvSpPr/>
          <p:nvPr/>
        </p:nvSpPr>
        <p:spPr>
          <a:xfrm>
            <a:off x="1604880" y="2725560"/>
            <a:ext cx="4830840" cy="9352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Prepare for playing new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76092"/>
                </a:solidFill>
                <a:latin typeface="Calibri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lternate Process 3"/>
          <p:cNvSpPr/>
          <p:nvPr/>
        </p:nvSpPr>
        <p:spPr>
          <a:xfrm>
            <a:off x="1604880" y="1755720"/>
            <a:ext cx="4830840" cy="6937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Systematically apply a ‘political economy approach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lternate Process 5"/>
          <p:cNvSpPr/>
          <p:nvPr/>
        </p:nvSpPr>
        <p:spPr>
          <a:xfrm>
            <a:off x="1604880" y="57312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Avoid a technocratic approach to aid effectiveness and the role of NS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ounded Rectangle 15"/>
          <p:cNvSpPr/>
          <p:nvPr/>
        </p:nvSpPr>
        <p:spPr>
          <a:xfrm>
            <a:off x="1173240" y="860400"/>
            <a:ext cx="431640" cy="3002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16"/>
          <p:cNvSpPr/>
          <p:nvPr/>
        </p:nvSpPr>
        <p:spPr>
          <a:xfrm>
            <a:off x="1173240" y="1946160"/>
            <a:ext cx="431640" cy="3128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ounded Rectangle 17"/>
          <p:cNvSpPr/>
          <p:nvPr/>
        </p:nvSpPr>
        <p:spPr>
          <a:xfrm>
            <a:off x="1173240" y="3056040"/>
            <a:ext cx="431640" cy="2746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376092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0"/>
          <p:cNvSpPr/>
          <p:nvPr/>
        </p:nvSpPr>
        <p:spPr>
          <a:xfrm>
            <a:off x="6858000" y="829800"/>
            <a:ext cx="186696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Do no harm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Be prepared to play new ro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2c8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82c8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82c8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82c8"/>
                </a:solidFill>
                <a:latin typeface="Calibri"/>
              </a:rPr>
              <a:t>	</a:t>
            </a:r>
            <a:r>
              <a:rPr b="1" i="1" lang="en-US" sz="3500" spc="-1" strike="noStrike">
                <a:solidFill>
                  <a:srgbClr val="008000"/>
                </a:solidFill>
                <a:latin typeface="Calibri"/>
              </a:rPr>
              <a:t>EC New Roles</a:t>
            </a:r>
            <a:endParaRPr b="1" lang="en-US" sz="3500" spc="-1" strike="noStrike">
              <a:solidFill>
                <a:srgbClr val="0082c8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901800"/>
            <a:ext cx="7986600" cy="56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37960" y="1282680"/>
          <a:ext cx="8448840" cy="5533920"/>
        </p:xfrm>
        <a:graphic>
          <a:graphicData uri="http://schemas.openxmlformats.org/drawingml/2006/table">
            <a:tbl>
              <a:tblPr/>
              <a:tblGrid>
                <a:gridCol w="4224600"/>
                <a:gridCol w="4224240"/>
              </a:tblGrid>
              <a:tr h="55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292989"/>
                      </a:solidFill>
                    </a:lnL>
                    <a:lnR>
                      <a:noFill/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ls and gui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292989"/>
                      </a:solidFill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03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at NSAs as a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292989"/>
                      </a:solidFill>
                    </a:lnL>
                    <a:lnR>
                      <a:noFill/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pping method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vernance Analysis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Methodological tool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 2, 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292989"/>
                      </a:solidFill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</a:tr>
              <a:tr h="92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alyze state-society relations systematic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292989"/>
                      </a:solidFill>
                    </a:lnL>
                    <a:lnR>
                      <a:noFill/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vernance Analysis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ological tool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292989"/>
                      </a:solidFill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lore and support the full potential of NSAs involvement in and beyond N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292989"/>
                      </a:solidFill>
                    </a:lnL>
                    <a:lnR>
                      <a:noFill/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Key questions to be posed throughout the policy cycl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chapter 4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Methodological tool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Dialogue with NSAs, capacity development, combining tools, instruments and approach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chapter 4.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292989"/>
                      </a:solidFill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 Harm-be prepared for new ro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292989"/>
                      </a:solidFill>
                    </a:lnL>
                    <a:lnR>
                      <a:noFill/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EC new rol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chapter 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Methodological tool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 6,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292989"/>
                      </a:solidFill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D. So how do we go about it?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ools and practical guidance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8917C-2AFB-4416-A46F-EC02466641B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. Are there questions? Shoot (so to speak)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pic>
        <p:nvPicPr>
          <p:cNvPr id="262" name="Picture 5" descr="DSC00796"/>
          <p:cNvPicPr/>
          <p:nvPr/>
        </p:nvPicPr>
        <p:blipFill>
          <a:blip r:embed="rId1"/>
          <a:stretch/>
        </p:blipFill>
        <p:spPr>
          <a:xfrm>
            <a:off x="1249200" y="1371600"/>
            <a:ext cx="6338880" cy="47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Structure of this session</a:t>
            </a:r>
            <a:endParaRPr b="1" lang="en-US" sz="36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38708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7430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3c72"/>
                </a:solidFill>
                <a:latin typeface="Verdana"/>
              </a:rPr>
              <a:t>The new </a:t>
            </a:r>
            <a:r>
              <a:rPr b="0" i="1" lang="en-US" sz="2600" spc="-1" strike="noStrike">
                <a:solidFill>
                  <a:srgbClr val="103c72"/>
                </a:solidFill>
                <a:latin typeface="Verdana"/>
              </a:rPr>
              <a:t>Reference Document</a:t>
            </a: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7430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3c72"/>
                </a:solidFill>
                <a:latin typeface="Verdana"/>
              </a:rPr>
              <a:t>The added value to and </a:t>
            </a:r>
            <a:r>
              <a:rPr b="0" i="1" lang="en-US" sz="2600" spc="-1" strike="noStrike">
                <a:solidFill>
                  <a:srgbClr val="103c72"/>
                </a:solidFill>
                <a:latin typeface="Verdana"/>
              </a:rPr>
              <a:t>fit </a:t>
            </a:r>
            <a:r>
              <a:rPr b="0" lang="en-US" sz="2600" spc="-1" strike="noStrike">
                <a:solidFill>
                  <a:srgbClr val="103c72"/>
                </a:solidFill>
                <a:latin typeface="Verdana"/>
              </a:rPr>
              <a:t>with other EC/EU policies and agendas?</a:t>
            </a: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7430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3c72"/>
                </a:solidFill>
                <a:latin typeface="Verdana"/>
              </a:rPr>
              <a:t>What is the basic perspective of the strategic and operational guidance you can find in this document?</a:t>
            </a: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A. Content of the new reference document</a:t>
            </a:r>
            <a:endParaRPr b="1" lang="en-US" sz="36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1360" indent="-648000">
              <a:lnSpc>
                <a:spcPts val="2798"/>
              </a:lnSpc>
              <a:spcAft>
                <a:spcPts val="601"/>
              </a:spcAft>
              <a:tabLst>
                <a:tab algn="l" pos="0"/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3c72"/>
                </a:solidFill>
                <a:latin typeface="Verdana"/>
              </a:rPr>
              <a:t>Key question it seeks to answer</a:t>
            </a:r>
            <a:r>
              <a:rPr b="0" lang="en-US" sz="2800" spc="-1" strike="noStrike">
                <a:solidFill>
                  <a:srgbClr val="103c72"/>
                </a:solidFill>
                <a:latin typeface="Verdana"/>
              </a:rPr>
              <a:t>: </a:t>
            </a:r>
            <a:r>
              <a:rPr b="0" i="1" lang="en-US" sz="2800" spc="-1" strike="noStrike">
                <a:solidFill>
                  <a:srgbClr val="103c72"/>
                </a:solidFill>
                <a:latin typeface="Verdana"/>
              </a:rPr>
              <a:t>How can the EC 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3" marL="1568520" indent="-6476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5000"/>
              <a:buFont typeface="Verdana"/>
              <a:buChar char="o"/>
              <a:tabLst>
                <a:tab algn="l" pos="9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3c72"/>
                </a:solidFill>
                <a:latin typeface="Verdana"/>
              </a:rPr>
              <a:t>engage strategically and operationally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3" marL="1568520" indent="-6476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5000"/>
              <a:buFont typeface="Verdana"/>
              <a:buChar char="o"/>
              <a:tabLst>
                <a:tab algn="l" pos="9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3c72"/>
                </a:solidFill>
                <a:latin typeface="Verdana"/>
              </a:rPr>
              <a:t>with both the state and non-state actors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3" marL="1568520" indent="-6476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5000"/>
              <a:buFont typeface="Verdana"/>
              <a:buChar char="o"/>
              <a:tabLst>
                <a:tab algn="l" pos="9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3c72"/>
                </a:solidFill>
                <a:latin typeface="Verdana"/>
              </a:rPr>
              <a:t>on various development related issues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3" marL="1568520" indent="-6476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5000"/>
              <a:buFont typeface="Verdana"/>
              <a:buChar char="o"/>
              <a:tabLst>
                <a:tab algn="l" pos="9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3c72"/>
                </a:solidFill>
                <a:latin typeface="Verdana"/>
              </a:rPr>
              <a:t>when it provides Budget Support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3" marL="1568520" indent="-6476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5000"/>
              <a:buFont typeface="Verdana"/>
              <a:buChar char="o"/>
              <a:tabLst>
                <a:tab algn="l" pos="9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3c72"/>
                </a:solidFill>
                <a:latin typeface="Verdana"/>
              </a:rPr>
              <a:t>or engages in Sector Policy Support Programmes?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B. Where is the </a:t>
            </a:r>
            <a:r>
              <a:rPr b="1" i="1" lang="en-US" sz="3200" spc="-1" strike="noStrike">
                <a:solidFill>
                  <a:srgbClr val="0000ff"/>
                </a:solidFill>
                <a:latin typeface="Verdana"/>
              </a:rPr>
              <a:t>fit 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with other EC/EU policies or agendas?</a:t>
            </a:r>
            <a:endParaRPr b="1" lang="en-US" sz="3200" spc="-1" strike="noStrike">
              <a:solidFill>
                <a:srgbClr val="0082c8"/>
              </a:solidFill>
              <a:latin typeface="Verdana"/>
            </a:endParaRPr>
          </a:p>
        </p:txBody>
      </p:sp>
      <p:pic>
        <p:nvPicPr>
          <p:cNvPr id="145" name="Content Placeholder 5" descr=""/>
          <p:cNvPicPr/>
          <p:nvPr/>
        </p:nvPicPr>
        <p:blipFill>
          <a:blip r:embed="rId1"/>
          <a:stretch/>
        </p:blipFill>
        <p:spPr>
          <a:xfrm>
            <a:off x="212760" y="1523880"/>
            <a:ext cx="8242200" cy="508968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6A91C-6A26-4E0D-B505-D842664ADCF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pic>
        <p:nvPicPr>
          <p:cNvPr id="148" name="Content Placeholder 5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315280" cy="488952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71528D-49AF-4266-9033-52E7CE03DF2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FE9C1-239F-43EE-A9F5-7E97B628804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1. More effective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aid and </a:t>
            </a:r>
            <a:r>
              <a:rPr b="1" i="1" lang="en-US" sz="2400" spc="-1" strike="noStrike">
                <a:solidFill>
                  <a:srgbClr val="008000"/>
                </a:solidFill>
                <a:latin typeface="Verdana"/>
              </a:rPr>
              <a:t>New Aid Modalities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1417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C and other donors look for ways to make their aid more effectiv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ese efforts include among other things ways to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lign behind country policies (if these reduce poverty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lign behind country systems (if there are serious efforts to make these systems work for the poor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Reduce the burden on partners (through harmonisa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nd move from government ownership to country ownership,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nd from mutual to domestic accountabil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03c72"/>
                </a:solidFill>
                <a:latin typeface="Verdana"/>
              </a:rPr>
              <a:t>New Aid Modalities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nclude Budget Support and Sector Policy Support Programm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Content Placeholder 5" descr=""/>
          <p:cNvPicPr/>
          <p:nvPr/>
        </p:nvPicPr>
        <p:blipFill>
          <a:blip r:embed="rId1"/>
          <a:stretch/>
        </p:blipFill>
        <p:spPr>
          <a:xfrm>
            <a:off x="530280" y="1371600"/>
            <a:ext cx="8235720" cy="52308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D255E-D96F-41F3-9167-BFF3DAA6EF5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3"/>
          <p:cNvSpPr/>
          <p:nvPr/>
        </p:nvSpPr>
        <p:spPr>
          <a:xfrm>
            <a:off x="3165480" y="3017880"/>
            <a:ext cx="2835360" cy="1325520"/>
          </a:xfrm>
          <a:prstGeom prst="ellips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8080" y="2023920"/>
            <a:ext cx="255276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558ed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ment assistance includes support to and through N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6276960" y="202392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ment is a multi-actor participatory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2971800" y="1371600"/>
            <a:ext cx="302904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ment is a multi-stakeholder process where the central state is one of the 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304920" y="4495680"/>
            <a:ext cx="2552760" cy="14544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SAs are not only implementing agencies but also promoters of democracy, justice and human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3165480" y="5164200"/>
            <a:ext cx="2835360" cy="147312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U is committed to strengthening NSAs to fully participate in political, economic and social dialogue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6276960" y="471168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vil Society is recognised in all its d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own Arrow 14"/>
          <p:cNvSpPr/>
          <p:nvPr/>
        </p:nvSpPr>
        <p:spPr>
          <a:xfrm>
            <a:off x="4381560" y="2392200"/>
            <a:ext cx="404640" cy="368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76092"/>
          </a:solidFill>
          <a:ln w="9360">
            <a:solidFill>
              <a:srgbClr val="bbe0e3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Down Arrow 15" descr=""/>
          <p:cNvPicPr/>
          <p:nvPr/>
        </p:nvPicPr>
        <p:blipFill>
          <a:blip r:embed="rId1"/>
          <a:stretch/>
        </p:blipFill>
        <p:spPr>
          <a:xfrm>
            <a:off x="4316400" y="4443480"/>
            <a:ext cx="523800" cy="488880"/>
          </a:xfrm>
          <a:prstGeom prst="rect">
            <a:avLst/>
          </a:prstGeom>
          <a:ln w="0">
            <a:noFill/>
          </a:ln>
        </p:spPr>
      </p:pic>
      <p:pic>
        <p:nvPicPr>
          <p:cNvPr id="164" name="Down Arrow 16" descr=""/>
          <p:cNvPicPr/>
          <p:nvPr/>
        </p:nvPicPr>
        <p:blipFill>
          <a:blip r:embed="rId2"/>
          <a:stretch/>
        </p:blipFill>
        <p:spPr>
          <a:xfrm>
            <a:off x="2627280" y="2865600"/>
            <a:ext cx="701640" cy="699840"/>
          </a:xfrm>
          <a:prstGeom prst="rect">
            <a:avLst/>
          </a:prstGeom>
          <a:ln w="0">
            <a:noFill/>
          </a:ln>
        </p:spPr>
      </p:pic>
      <p:pic>
        <p:nvPicPr>
          <p:cNvPr id="165" name="Down Arrow 17" descr=""/>
          <p:cNvPicPr/>
          <p:nvPr/>
        </p:nvPicPr>
        <p:blipFill>
          <a:blip r:embed="rId3"/>
          <a:stretch/>
        </p:blipFill>
        <p:spPr>
          <a:xfrm>
            <a:off x="2627280" y="3975120"/>
            <a:ext cx="701640" cy="700200"/>
          </a:xfrm>
          <a:prstGeom prst="rect">
            <a:avLst/>
          </a:prstGeom>
          <a:ln w="0">
            <a:noFill/>
          </a:ln>
        </p:spPr>
      </p:pic>
      <p:pic>
        <p:nvPicPr>
          <p:cNvPr id="166" name="Down Arrow 18" descr=""/>
          <p:cNvPicPr/>
          <p:nvPr/>
        </p:nvPicPr>
        <p:blipFill>
          <a:blip r:embed="rId4"/>
          <a:stretch/>
        </p:blipFill>
        <p:spPr>
          <a:xfrm>
            <a:off x="5632560" y="4164120"/>
            <a:ext cx="689040" cy="693720"/>
          </a:xfrm>
          <a:prstGeom prst="rect">
            <a:avLst/>
          </a:prstGeom>
          <a:ln w="0">
            <a:noFill/>
          </a:ln>
        </p:spPr>
      </p:pic>
      <p:pic>
        <p:nvPicPr>
          <p:cNvPr id="167" name="Down Arrow 19" descr=""/>
          <p:cNvPicPr/>
          <p:nvPr/>
        </p:nvPicPr>
        <p:blipFill>
          <a:blip r:embed="rId5"/>
          <a:stretch/>
        </p:blipFill>
        <p:spPr>
          <a:xfrm>
            <a:off x="5711760" y="2871720"/>
            <a:ext cx="695520" cy="6890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2. Participatory development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and Non-State Actors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5:33:41Z</dcterms:created>
  <dc:creator>Jean Bossuyt</dc:creator>
  <dc:description/>
  <dc:language>en-US</dc:language>
  <cp:lastModifiedBy>Directory Administrator</cp:lastModifiedBy>
  <cp:lastPrinted>2011-05-11T06:08:17Z</cp:lastPrinted>
  <dcterms:modified xsi:type="dcterms:W3CDTF">2011-05-11T06:08:30Z</dcterms:modified>
  <cp:revision>79</cp:revision>
  <dc:subject/>
  <dc:title>Engaging Non-State Actors in New Aid Modalities  for better results and accountability</dc:title>
</cp:coreProperties>
</file>