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0889-B9BB-40CA-8CDD-AFC139EB738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0210-4C72-466E-87AB-7F190EB6662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4F8B-E721-4A58-983D-7DC44BF7789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F367-877A-4D04-822C-12111B95786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3154-18D4-4083-83BE-EE85FA3D57B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B3AF-90B6-4BA3-88A4-47A4887BBE8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3628-3BCF-4B6C-80ED-CE9548F3542E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23DC-6F18-4187-88EC-CEBAD2688B4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0B2F-E87B-4055-A7C6-BFA3C706A4D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FD2A-35ED-4ED2-A2F6-24B8EA46E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883B-2DD4-43BE-A9BB-9D62F7FA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A9D8-6925-4341-B66B-02F02F953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6573-C80B-4BE0-A4F5-E11DA0F5C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BED0-FE06-45E2-831D-153ECE0C4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1CD8-DEB9-4AC4-B154-A8A6FC07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7310-DA4C-4A8C-B1F8-B95DCC5B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9B65-4EC8-43D9-A0DF-FC88708A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A8CD-36FA-4C74-BEF2-F347C04B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4B8A-E866-4D36-879F-5E1C8226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3AC8-5C2A-427D-A161-A5DB9172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7D97-C417-4D1A-9C88-21E13503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F106-9A43-4955-9EFB-F05BFA81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A0F98-A981-49F1-B1F0-51DDD19C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5DE7-6887-412B-AAC1-CE5CE18F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5071-1C9F-4528-A56B-8D27F35DA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D4548-1210-4B83-96AF-60AE72AF8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523C-7B7A-4B83-82C2-AEFB9156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573C-AA52-4DAC-8E58-EFC083BA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B929-4B8C-4306-BB75-9E703D22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99E3-B895-4B79-B076-77692327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33FD-A491-4104-9506-EA34E60E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F9B7-EE56-401F-BAEC-9214EEF8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55A4-CA7D-436F-8C02-E255ABB4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216F-9F5D-4D12-99B1-AAAEBB4AECDA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3C8E-A40E-4C15-801D-C942AC6FCE4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32EF-A312-4828-8122-6A1B68528036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9808-A2AE-4695-BF7E-E588755624C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frica-eu-partnership.org/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035B-3AA3-4E20-9519-7029E332369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EMPLOYMENT, SOCIAL PROTECTION AND DECENT WORK </a:t>
            </a:r>
            <a:br>
              <a:rPr sz="1800"/>
            </a:br>
            <a:r>
              <a:rPr b="0" i="1" lang="en-IE" sz="1800" spc="-1" strike="noStrike">
                <a:solidFill>
                  <a:srgbClr val="ffff00"/>
                </a:solidFill>
                <a:latin typeface="Tahoma"/>
              </a:rPr>
              <a:t>Outcomes from Workshop in Dakar</a:t>
            </a: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1800"/>
            </a:b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30 June-2 July 2011</a:t>
            </a:r>
            <a:br>
              <a:rPr sz="1800"/>
            </a:br>
            <a:br>
              <a:rPr sz="2400"/>
            </a:br>
            <a:r>
              <a:rPr b="0" lang="en-IE" sz="2400" spc="-1" strike="noStrike">
                <a:solidFill>
                  <a:srgbClr val="b2b2b2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962160" y="3124080"/>
            <a:ext cx="4800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D’Agostino Ogendo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European Commiss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DG EuropeAid</a:t>
            </a: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Brussel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39152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These recommendations/conclusions  were used as important inputs for the 3 activities identified in 2nd action plan of the joint Africa-EU Strategy - adopted in 3rd Africa-EU Summit in November 2010.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6DC3-951C-48E4-864D-B3370C021AF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C917-980B-4F91-BC4A-8F97AAA54EF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 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gy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 i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</a:t>
            </a:r>
            <a:r>
              <a:rPr b="0" lang="hu-HU" sz="24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www.africa-eu-partnership.org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9E6E-6AC2-422D-9B62-E9581C6E23D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Purpose of the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Sharing experience and knowledge in the field of employment, social protection and decent work in African and European countries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Stimulate debate and discussion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and creation of networks/working groups in areas of common interest between interested EU and African countries and stakeholders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DED4-3DD0-4376-907C-3C47A9D91FA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Overall conclusions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The fundamental role of employment, social protection and social dialogue in achieving sustainable and balanced economic growth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ortance and potential of the informal economy in the development of African countrie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cessary involvement of governments, non-state actors and, in particular, of social partners, as well as of international organisation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6A4B-6BFA-456F-829B-1B3D6E8FD50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Overall conclusions </a:t>
            </a: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continue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7760" y="2209320"/>
            <a:ext cx="5715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oted the existence of a satisfactory framework both political as well as sectoral policies which will serve as the framework for action (EU-Africa Strategy, AU SPF etc...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ed to improve the strategic framework for  mobilizing  resources for sustainable reforms at  local, public and private level, as well as predictable and long-term external resource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8348-7166-4B82-BCFE-60CDA8D2106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Specific conclusions from working group on social protec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took note of the AU Social Policy Framework and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supported its </a:t>
            </a: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“comprehensive social policy vision”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 and the need of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lementing it at regional, sub-regional and national level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The working group (on SP) will support the development of national Social Protection </a:t>
            </a:r>
            <a:r>
              <a:rPr b="0" lang="fi-FI" sz="2000" spc="-1" strike="noStrike" u="sng">
                <a:solidFill>
                  <a:srgbClr val="ffff00"/>
                </a:solidFill>
                <a:uFillTx/>
                <a:latin typeface="Tahoma"/>
              </a:rPr>
              <a:t>systems</a:t>
            </a: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 as one of the important elements of AU-SPF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3BF6-EFE9-4978-A3BB-678666172FE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The strengthening of national social protection systems should start by analyzing and improving existing social protection arrangements, and complementing them with new ones to reach those not covered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572B-FA61-437E-B604-7354C8DED38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Knowledge management and analytic capacity within the government on SP are key in building national SP-systems, and should therefore be supported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0A69-8191-4C1D-AF6C-2F7C63A21DB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7760" y="1676520"/>
            <a:ext cx="5715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The  need to support capacity building of relevant ministries, authorities such as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Ministries of Finance, National Planning Commissions, Social Affairs, Labour, and other ministries and local authorities involved in the implementation of social protection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and other relevant stakeholders, including social partners and civil society.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59CF-1891-4B4F-AED5-67BCEB4646E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V 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the (informal) working group on social protection should continue as part of the Informal Joint Expert Group within MME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social protection should be prioritized within the Africa-EU cooperation, in particular within the framework of the Joint Africa-EU Strate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07:59:50Z</dcterms:modified>
  <cp:revision>46</cp:revision>
  <dc:subject/>
  <dc:title>PowerPoint Presentation</dc:title>
</cp:coreProperties>
</file>