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D224-E7D1-4274-A70D-3E4159588B6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105F-9DB1-4D67-9F68-FA4EEFAC1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CE57-C42F-41C6-823B-AAD0D4446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3FA6-4000-4A2B-87FF-C677658E0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6634-763A-4DE6-B8DE-FBC1708CB1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A643-BCB3-4EAD-BE14-04218253C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57F0-0530-4BCB-BEE6-7316B8A309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Section 6.4 of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3E31-1E0B-411E-9C68-9D18E81A5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national level, a high-level formal or informal climate change coordinating structure can support the overall response – but should catalyse it rather than act as a substitute for action by other government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body with a coordination mandate and decision-making power over line ministries, in particular with regard to budget al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Office of the President or Prime Minister, Ministry of Finance, Ministry of Planning or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DF9-065F-499F-A5D0-2B2ED87DE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415B-8C81-488D-81C8-E5F9901250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4151-446F-45F6-A5E6-FA27EDD23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AEEC-D95F-4799-9DB1-0C6D90F15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0B48-482C-42B0-B546-69BF6C384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3891-7FEB-4877-842D-5076093DF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EC1-F519-457D-A9D1-4ABDD21EBC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8515-63AD-4CD0-8ADB-5D0E62FDE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EFD6-4D6D-4B53-BC8C-B71C7B44A3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A NCSA i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untry-driv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ocally adap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a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ocess that aim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ew global environment issues that require priorit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e how capacity development could strengthen management of thes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e a national action plan for capacity develop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national capacity self-assessments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ulnerability and capacity assess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see UNDP-UNEP (2010)  pp. 32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E35E-8AE7-406C-B51E-E29248DB23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93E7-8B89-4EA9-A113-1E05112A2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ee UNDP-UNEP (2009) page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676D-3182-44BB-8867-8D8B4CF752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1A7B-E401-49AE-812B-AC81C5302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inks between the environment and sectoral performance have been addressed in Module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ance of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ector tends to be underfunded: for example, in Lesotho (2012) the Department of Environment is under the Ministry of Tourism and Environment. The whole Ministry receives about 0.16% of the budget allocated to line ministries, and only a small fraction of that is for the Department of Environment, as the Ministr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main tasks are oriented to promotion of tour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der the environment sector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get implemented because of lack of funding. If other sectors d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 assume responsibility for their environmental dimension, there are very limited options to address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26F8-241F-4216-9163-9B6C9B785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3C3F-02D4-4A94-A315-3423F378F4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Outcomes of main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tion and democratic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olicy and politic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lan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udge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stitutional and capacity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nvestment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ehavioural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velopmental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64D4-EB8C-4FE0-8D7F-D1D8D7213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4737-648C-4794-BC4B-85CEBF9D1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F0BE-3068-4F83-9147-4723C5448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A14-93F5-498B-B1A6-3F8CE8E2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6D8-927F-4BF8-BB17-12FCF01B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F71-6B3F-4BB2-B750-EC8C9D45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40B-3CAF-4D5D-8C03-08E6C27D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3541-D71E-4B1E-A3B7-03C79101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2E13-4C85-4EDD-AFEC-0D2DAE42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50B2-E89C-4CBE-9EAB-6D4AB561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7E0C-C70D-492A-9260-F86BD3BA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D53-490A-40AE-B914-1A789C34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78AB-AEE4-4134-8BE0-999A8FB7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EF3F-3ABE-4006-BE14-5C6B0FE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A59-9F64-41C5-A776-F7402F1D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1FA4-CD94-43BF-A585-EB8CA98D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F51E-5BE1-4803-B7C3-0CDD316D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7B64-34D9-4A58-8206-DE864785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A14E-9185-40E4-B2CB-54A5CCF5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BE95-9A45-41A4-A4C3-152E4A93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6CF-E70C-41C2-AC8C-817B672B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F45-7378-4655-BB8E-60A624B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DDE-F61D-4D1B-A875-AEB68651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BBB-8FF5-4B0F-B1F3-7EFDA139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35A-F56B-4F26-9FD8-F3F0143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AF3-E851-4BF8-8E3A-EB739B29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68B-A77A-4E0E-9955-9580C44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148A-6349-42E2-AD23-21BA1D6DF5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5B1-C60F-4E92-8785-D2BB89402E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and strengthening institutions and capacit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trengthening institutions and capac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8D96-00D1-4343-888C-635ECFFEC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institutional requirements for effective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Effective 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oss-sectoral &amp; cross-level coordination, cooper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werful champions at national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05740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tegration of new thinking, new research in planning &amp; monitoring systems &amp; proces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xperience sharing, dissemination of good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ly stakeholder participation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rengthening of capacities of stakeholders at various sc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04776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e.g. office of prime minister, ministries of finance/budget/plan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EC9-F695-490A-852A-213D1200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052640"/>
          <a:ext cx="8750160" cy="532116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government (incl. office of prime minister, line ministries, DRR authoritie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dership, performance management framework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es, standards &amp; regul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cation of budget resourc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&amp; capacity build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arlia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everage, advocacy (especially for budgeting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tional Statistics Offic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velopment and monitoring of indicator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governmen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national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ion with local-level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for losses &amp; opportunities, risk mgm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on to sustainable investments &amp; vulnerability reduction through develop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tific &amp; academic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-oriented research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for decision mak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 promotion agen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nvestments; climate-proofing of investments, bridging of development gap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 change adequately addresse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7A27-EECA-4665-B619-EED8F977A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9280" y="6362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oles of main stakeholde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keholder grou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 roles &amp; responsi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 Society Organisatio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use of their expertis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 reflect local rea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ion, 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chdog ro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wareness rais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ach out to community leve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rass-roots level knowled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grate voices of the poores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Schipper et al (2008) and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F146-F0D1-418C-B5F8-D7F3CED2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f5494"/>
                </a:solidFill>
                <a:latin typeface="Verdana"/>
              </a:rPr>
              <a:t>Possible entry points for environmental mainstreaming in national development planning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6AE3-27B7-420A-A6CC-38E10727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381492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ry Poin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overnment and cross-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erty reduction strategy pap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development pla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G-based national development strategy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 allocation process or review (e.g. medium-term expenditure framework, public expenditure review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ministr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strategies, plans and policies (e.g. agriculture sector plan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ector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 expenditure revie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-national author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entralisation polic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ct pl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tion of subnational budge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rinciples for institutionalising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3969-AAEE-4CEA-8205-5A0F9383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e coordination to a central body with a coordination mandate and decision-making power over line minis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climate chang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National Development &amp; Reform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ya: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example, in the case of environment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e: EPA under the Office of the Presid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Steering Committee on Natural Resourc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F765-A350-4966-8AB3-326A04073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ish/strengthen coordination mechanisms, with clear allocation of responsibilities and permanent arran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climate change, Mexico: Inter-Ministerial Commission on Climate Change (CICC) with dedicated working grou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ild on pre-existing intersectoral coordination mechanisms wherever possi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for food security, DRR, sustainable l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8E7F-BD87-4B00-8DF9-0964EFEED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0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flexi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commitment to regular policy/strategy revisions and reassessment of available knowled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tionalise mainstream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and climate change mitigation/adap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in guidelines, procedures, systems, environmental screening for SEA and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1AC3-6DBA-422C-A8FE-8D38F4D2E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stitutional and capacity strengthening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effective national–local coordination mechanisms, identifying the most suitable level at which to cooperate/coordin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.g. Rwanda: annual performance contracts between various levels of government, with clear definition of goals, indicators and activit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engthen institutions at the sub-national level, matching the transfer of competences with the transfer of resour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385C-24C6-4EE4-8BC2-684C87AD6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What is mainstreaming,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why mainstream environment and climate change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5699-2F00-4722-A999-01D67F0CB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8E0B-1511-475D-BF07-5FAC0988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ourc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Local capac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ools and actions for supporting institutional and capacity strengthe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DC8-EEC4-4715-8D60-03E206C9E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eps in institutional and capacity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trength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939B-ED33-4F0F-B74D-A35394A59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eed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Learning by do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Working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instreaming as standard practic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National capacity self-assess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Inst</a:t>
            </a:r>
            <a:r>
              <a:rPr b="1" lang="ja-JP" sz="1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 arrangemen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nagement framewor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Work pla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Training, exchange visits, on-the-job learning, lesson learning/dissemin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>
            <a:off x="3128400" y="4484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5494"/>
                </a:solidFill>
                <a:latin typeface="Verdana"/>
              </a:rPr>
              <a:t>Stakeholder analy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capacity development for whom, for wha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pacity development (CD) should take plac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t three complementary level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abling environ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r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ystem level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overall institutional leve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organisation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ndividu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6248-DD19-443B-8663-1C6B77FD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tart by determining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Capacity development for what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e specific objec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eeds assessment: stakeholders</a:t>
            </a:r>
            <a:r>
              <a:rPr b="1" lang="ja-JP" sz="30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D needs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takeholder capacity build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formation systems &amp; analytical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lanning &amp; prioritis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198108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rticipatory engagement &amp; empowerment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tical &amp; communication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3200400" y="51055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ing, evaluation &amp; learning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ecific technical skil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6094-27BB-413F-9527-EDD3AF065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Dalal-Clayton &amp; Bass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395280" y="5410080"/>
            <a:ext cx="2286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UNCTIONAL CAPACITI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59236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TECHNICAL CAPACIT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eeds assessment: national capacity self-assess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ed on existing or ad hoc institutional assessments, consider for all relevant organisa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 of education &amp; awareness of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ganisation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mandates &amp; functions with regard to environment- and climate-rela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fluence of climate risks on capacity to fun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, financial, legal/regulatory capacities &amp; information systems in relation to env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 and CC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ning, decision-making, budget allocation &amp; programming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llaboration &amp; coordination structures &amp; mechanis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sessments for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39F3-FF3A-40DD-82DA-E57D13258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etting up working mechanisms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r a mainstreaming initiati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e institutional arrangements (political and technical) (e.g. steering and technical committe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t up a management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dership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uman re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inancial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&amp;E arrange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velop an operational work pla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7F7-B076-4A7A-A662-7AED7BA45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earning-by-doing: multipl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proach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7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l training on mainstreaming and on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pecific technical asp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xchange vis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n-the-job learning through national mainstreaming programmes, including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disciplinary tea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winning between organis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monstration proje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sson learning and dissemin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3B0D-00FF-4ADA-877C-D8D000F65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UNDP-UNE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is a strong case for mainstreaming environment and climate change into all development plan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re are entry points for mainstreaming environment and climate change at all stages of the policy cyc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stitutional and capacity strengthening (rooted in a good diagnosis of the strengths/weaknesses of existing structures and efforts to improve governance) is a key condition for successful mainstream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s assessment, the setting up of effective working mechanisms and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arning by doing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an support the mainstreaming proces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38C7-67E7-4C52-8B28-0C7B00B94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5377-5151-4E6C-BABE-6CC6ECB5E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eyond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vironment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as a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protection of natural resources is a sector in its own right, but its sustainability also depends on 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ther sectors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erformance depends closely on the state of the environ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t does not suffice to address the environment exclusively as a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sector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 development paths need to take account of environmental sustain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vironment tends to be an underfunded sect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DC3B-A046-4E9E-894A-7F498DCF3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tion made at the SEA and IDC Conference, Halong Bay, Vietnam, 24-28 January,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01A6-08C9-4411-B562-8BFA4033F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mainstream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213372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the prevailing or dominant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urse, current, tendency or way of think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Mainstreaming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informed integration of a relevant value, theme or concern into the decisions of institutions that drive national, local and sectoral development policy, rules, plans, investment and acti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dapted from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Institutional strengthening and chang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5f7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92c0"/>
                </a:solidFill>
                <a:latin typeface="Verdana"/>
              </a:rPr>
              <a:t>capacity buildin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re at the heart of any mainstreaming eff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BBC7-B273-4FB5-9038-A11925DA0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es of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instreaming is a long-term, iterative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cess aimed a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ransforming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ven more importantly, transforming policies, resource allocations and practi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order t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mote desired developmental outcomes (with regard to gender, environment, climate change, governance, human rights, ..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support integrated solutions to human proble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5FA6-9EE2-4ED8-A9EC-027E0AAF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licy framework for mainstream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31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ropean Consensus on Development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icitly recognises links between development and environment and highlights need for a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“strengthened approach to mainstreaming of cross-cutting issue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enda for Change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velopment is not sustainable if it damages the environment, biodiversity and natural resources and increases the exposure/vulnerability to natural disasters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U Biodiversity Strategy to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lls to “biodiversity-proof” EC development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mework for mainstreaming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nvironment and climate chang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DD3-941E-48DE-B051-1050D14CE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try points for mainstreaming in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e policy cyc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FA1C-C630-4D55-9854-6A54CCA7B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71600" y="1523880"/>
            <a:ext cx="5913360" cy="4705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 development pla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422440" y="23907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genda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 mak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tion &amp; monitor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457200" y="1600200"/>
            <a:ext cx="1752480" cy="10666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nding the entry points &amp;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804000" y="2060640"/>
            <a:ext cx="1905120" cy="114300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instreaming into policy &amp;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) Figure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inding the entry points and making the cas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ainstreaming into policy and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Meeting the implementation challe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Preliminary assessmen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the challenges and the scien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poverty-environment and CC–development linkag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government, institutional and political context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295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Raising awareness and building partnership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 consensus and commitment to resilient, low-carbon develop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029200"/>
            <a:ext cx="26640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eeds assessment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Working mechanis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Collecting country-specific evidence and influencing policy process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Integrated ecosystem assessment; economic analysis…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(sub)national and sector policies, strategies, programm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  <a:ea typeface="Calibri"/>
              </a:rPr>
              <a:t>Understanding uncertain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Developing, costing, assessing and selecting policy measures, 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029200"/>
            <a:ext cx="274320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Learning by do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Budgeting and financing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the budgetary proces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in monitoring system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Performance assessment framework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Indicators and data collec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8654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upporting policy measu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National, sector and sub-national level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029200"/>
            <a:ext cx="2519280" cy="9907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Strengthening institutions and capaciti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Mainstreaming </a:t>
            </a:r>
            <a:br>
              <a:rPr sz="1500"/>
            </a:br>
            <a:r>
              <a:rPr b="0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as standard practice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21440"/>
            <a:ext cx="6769080" cy="43164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Calibri"/>
                <a:ea typeface="Calibri"/>
              </a:rPr>
              <a:t>Engaging stakeholders and coordinating within the development community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71800" y="323064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3124080" y="2697120"/>
            <a:ext cx="698760" cy="3715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69840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52456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52456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161040" y="1704960"/>
            <a:ext cx="696960" cy="3524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6161040" y="246852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ed from: UNDP-UNEP (2009) Figure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341520" y="5562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61040" y="5592600"/>
            <a:ext cx="696960" cy="35100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696960" cy="3506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Mod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10T17:46:19Z</dcterms:modified>
  <cp:revision>120</cp:revision>
  <dc:subject/>
  <dc:title>Slide 1</dc:title>
</cp:coreProperties>
</file>